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FDA-FA75-4499-B7DF-7DA043B0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0E3-EEDB-4372-AC9A-A625536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FDE-8BFD-479F-A074-708AB85D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55D-0300-484A-B333-939C490D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8E6E-1AFC-4DDD-8E34-43DE50E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A81-A4DD-4561-9C92-3D7B9134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BDDF-2482-4333-838F-E6FA9C2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D8C-09A4-4596-8B37-D76355DE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09E4-4C27-4423-986F-3C8FCA5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616-C520-48A1-899E-FFB47ED8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9A8-563A-4362-A9C3-7C9DA52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B77-EDAA-4CD0-BC79-78D97DCE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B78-D56E-489D-A90F-7CF2CE60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FCAE-F44B-42A7-98C2-627A2847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F76D-B780-4D77-989D-CE52D7B8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87E-0B62-4966-AF0D-3D25E593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3E34-1FB2-46B2-99A9-ED9DF922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0582-939B-444E-B498-192C5543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B23C-3225-4C1E-9548-2C09400B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0222-5A5C-41F0-8453-7ABA0EB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4DFD-7042-4961-9BE1-00EA76BD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A76F-7E2D-4301-A93F-0AEA6172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496-B742-42A3-B9F8-9D7738BF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2E89-0DAE-4E12-B2FF-6C819BA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3A89-6DE2-455F-94E8-8CB463A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AA1E-BF1F-4FA9-8D04-3F44292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32B3-4EA3-4BEC-9D6B-12F6F4B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6C84-673C-401A-9247-8A44014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2E91-F21C-4BFA-BE2E-464939E2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C3F7-724F-4B97-8345-7FF606AC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756D-1D53-41D7-B5CC-DC6F1A7E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4F20-EB0D-4F0F-9743-6833D4C4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932F-62E8-4CBF-9578-AD7CB3E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6D2-739E-4764-98CC-8ED6A9F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EEA6-4A20-4BE1-B4CA-6FDCD055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C04F-3AC6-4E8A-8B16-01CA026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5F02-DEDE-4610-93A6-1F6AFF1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04D52-B862-4EB4-AE56-85AF028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C02B-1062-4C81-AE35-8BD438F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3B6E-15CC-470D-AB8F-9836BFC9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9C2D-C933-404B-8035-2945C4AE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3426-5F61-4874-A381-7D5A7EFD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157E-DEAE-40D1-A03A-946747DC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8916-213B-4DA1-9F67-1246924A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C4A-C492-426F-8EE4-F1B0201C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C440-3645-4646-8F45-2B007438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EE3E0-17BC-4898-872F-5BCEA0B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D5DEE-2D35-4613-9567-92BD530C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DCD1-1FBB-499E-A18D-1C6AA18E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1427-40D9-4F7F-A167-DE7B28A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AF8C7-2897-4B2A-A4BA-A738B44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C777-F224-4AAC-895B-F16826D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D056-3618-46F4-9181-7B7D504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990B-05FF-471E-B6D3-B6142332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6773-EDBC-41C9-A976-B7DE6D36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73C-E618-4815-B40E-B63344FD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9828-E51D-427F-986C-06073E24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2A0-9C88-464E-9E4F-7822CFA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B57-D6F5-4D33-9988-C955841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D27-D007-4766-8156-6BA0936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DC97-4F11-41DE-8362-1A44F9E7B20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9EA-42C2-4E3F-B8A2-6C72BF1E4FC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53B-2431-4BEE-BEA6-AFC71E0CC5B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0DA0-C6C8-4CF2-B69E-D85818885D4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E9C-E1A6-441E-9DBC-E236C858B2C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58770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геометрии в 7 классе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6" name="Picture 5" descr="depositphotos_1898911-stock-photo-drawing-instruments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0811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5651640" y="3860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9640" y="2421000"/>
            <a:ext cx="7993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МБОУ «Средняя общеобразовательная школа №6», г.Ю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охаева Денеля Оч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2723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7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Arial"/>
              </a:rPr>
              <a:t>Домашнее задание 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7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Изучить п. 35, 37.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Решить задачу №255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lnSpc>
                <a:spcPct val="100000"/>
              </a:lnSpc>
              <a:spcBef>
                <a:spcPts val="6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Найти и прочитать информацию о египетском треугольнике в разных источниках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3" name="Picture 2" descr="D:\мама\Документы по предмету\математики рисунки\iCAWBWUU1.jpg"/>
          <p:cNvPicPr/>
          <p:nvPr/>
        </p:nvPicPr>
        <p:blipFill>
          <a:blip r:embed="rId1"/>
          <a:stretch/>
        </p:blipFill>
        <p:spPr>
          <a:xfrm>
            <a:off x="6012000" y="549360"/>
            <a:ext cx="2808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1332000" y="191628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Желаю успех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684360" y="260280"/>
            <a:ext cx="7634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ямоугольный треугольник.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9"/>
          <p:cNvSpPr/>
          <p:nvPr/>
        </p:nvSpPr>
        <p:spPr>
          <a:xfrm>
            <a:off x="90180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4789800" y="595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973440" y="595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2054160" y="6021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а т е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0"/>
          <p:cNvSpPr/>
          <p:nvPr/>
        </p:nvSpPr>
        <p:spPr>
          <a:xfrm rot="16200000">
            <a:off x="349920" y="38379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а т е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 rot="3078000">
            <a:off x="1984320" y="349992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 и п о т е н у з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1332000" y="5661000"/>
            <a:ext cx="360360" cy="3589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1332000" y="1844640"/>
            <a:ext cx="3529080" cy="4176720"/>
          </a:xfrm>
          <a:prstGeom prst="rtTriangl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763640" y="3051000"/>
            <a:ext cx="5437440" cy="36165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755640" y="8366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угольные треуголь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екоторые их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539640" y="5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 №1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Чему равна сумма двух острых углов в прямоугольном треугольни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68360" y="198900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 №2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Какая взаимосвязь между сторонами прямоугольного треугольника, у которого один из острых углов равен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539640" y="386064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опрос №3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Какая особенность у прямоугольных треугольников, в которых один из катетов равен половине гипотенуз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39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потезы: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55640" y="2852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тет прямоугольного треугольника, лежащий против угла в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826920" y="4221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Если катет прямоугольного треугольника равен половине гипотенузы, то угол, лежащий против этого катета, равен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3" descr="3305925570_90c74fb023_b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мма двух острых углов прямоугольного треугольника равна 90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46"/>
          <p:cNvSpPr/>
          <p:nvPr/>
        </p:nvSpPr>
        <p:spPr>
          <a:xfrm>
            <a:off x="3635280" y="2060640"/>
            <a:ext cx="3888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оказательство</a:t>
            </a: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3708360" y="299736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BC –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угольный, </a:t>
            </a: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– прямой. По теореме о сумме углов треуголь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+ </a:t>
            </a: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=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0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тсю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+ </a:t>
            </a: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 = 180º - </a:t>
            </a:r>
            <a:r>
              <a:rPr b="0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= 90º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что и требовалось д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17"/>
          <p:cNvGrpSpPr/>
          <p:nvPr/>
        </p:nvGrpSpPr>
        <p:grpSpPr>
          <a:xfrm>
            <a:off x="684360" y="2736720"/>
            <a:ext cx="2736720" cy="3195000"/>
            <a:chOff x="684360" y="2736720"/>
            <a:chExt cx="2736720" cy="3195000"/>
          </a:xfrm>
        </p:grpSpPr>
        <p:grpSp>
          <p:nvGrpSpPr>
            <p:cNvPr id="294" name="AutoShape 47"/>
            <p:cNvGrpSpPr/>
            <p:nvPr/>
          </p:nvGrpSpPr>
          <p:grpSpPr>
            <a:xfrm>
              <a:off x="1018080" y="3133080"/>
              <a:ext cx="2066400" cy="2499480"/>
              <a:chOff x="1018080" y="3133080"/>
              <a:chExt cx="2066400" cy="2499480"/>
            </a:xfrm>
          </p:grpSpPr>
          <p:pic>
            <p:nvPicPr>
              <p:cNvPr id="295" name="AutoShape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080" y="3133080"/>
                <a:ext cx="206640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1211040" y="4596480"/>
                <a:ext cx="1008000" cy="81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57"/>
            <p:cNvSpPr/>
            <p:nvPr/>
          </p:nvSpPr>
          <p:spPr>
            <a:xfrm>
              <a:off x="900000" y="2736720"/>
              <a:ext cx="28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8"/>
            <p:cNvSpPr/>
            <p:nvPr/>
          </p:nvSpPr>
          <p:spPr>
            <a:xfrm>
              <a:off x="3132360" y="5400720"/>
              <a:ext cx="28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684360" y="5472000"/>
              <a:ext cx="2887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1"/>
            <p:cNvSpPr/>
            <p:nvPr/>
          </p:nvSpPr>
          <p:spPr>
            <a:xfrm>
              <a:off x="1030320" y="5397480"/>
              <a:ext cx="215640" cy="215640"/>
            </a:xfrm>
            <a:prstGeom prst="rect">
              <a:avLst/>
            </a:prstGeom>
            <a:solidFill>
              <a:srgbClr val="697ed9"/>
            </a:solidFill>
            <a:ln w="9360">
              <a:solidFill>
                <a:srgbClr val="2373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Прямоугольник 11"/>
          <p:cNvSpPr/>
          <p:nvPr/>
        </p:nvSpPr>
        <p:spPr>
          <a:xfrm>
            <a:off x="1785960" y="121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низ 12"/>
          <p:cNvSpPr/>
          <p:nvPr/>
        </p:nvSpPr>
        <p:spPr>
          <a:xfrm>
            <a:off x="2571840" y="928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785880" y="560520"/>
            <a:ext cx="3394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324000" y="333360"/>
          <a:ext cx="8569080" cy="604836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604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040"/>
                          </a:solidFill>
                          <a:latin typeface="Trebuchet MS"/>
                        </a:rPr>
                        <a:t>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08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5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0" y="411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3"/>
          <p:cNvSpPr/>
          <p:nvPr/>
        </p:nvSpPr>
        <p:spPr>
          <a:xfrm>
            <a:off x="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30"/>
          <p:cNvGrpSpPr/>
          <p:nvPr/>
        </p:nvGrpSpPr>
        <p:grpSpPr>
          <a:xfrm>
            <a:off x="2340000" y="476280"/>
            <a:ext cx="1800360" cy="3052080"/>
            <a:chOff x="2340000" y="476280"/>
            <a:chExt cx="1800360" cy="3052080"/>
          </a:xfrm>
        </p:grpSpPr>
        <p:sp>
          <p:nvSpPr>
            <p:cNvPr id="313" name="Text Box 10"/>
            <p:cNvSpPr/>
            <p:nvPr/>
          </p:nvSpPr>
          <p:spPr>
            <a:xfrm>
              <a:off x="2340000" y="306864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Группа 28"/>
            <p:cNvGrpSpPr/>
            <p:nvPr/>
          </p:nvGrpSpPr>
          <p:grpSpPr>
            <a:xfrm>
              <a:off x="2411280" y="476280"/>
              <a:ext cx="1729080" cy="2909520"/>
              <a:chOff x="2411280" y="476280"/>
              <a:chExt cx="1729080" cy="2909520"/>
            </a:xfrm>
          </p:grpSpPr>
          <p:sp>
            <p:nvSpPr>
              <p:cNvPr id="315" name="AutoShape 9"/>
              <p:cNvSpPr/>
              <p:nvPr/>
            </p:nvSpPr>
            <p:spPr>
              <a:xfrm>
                <a:off x="2555640" y="930240"/>
                <a:ext cx="1297440" cy="2232360"/>
              </a:xfrm>
              <a:prstGeom prst="rtTriangle">
                <a:avLst/>
              </a:prstGeom>
              <a:gradFill rotWithShape="0">
                <a:gsLst>
                  <a:gs pos="0">
                    <a:srgbClr val="354483"/>
                  </a:gs>
                  <a:gs pos="100000">
                    <a:srgbClr val="6179e1"/>
                  </a:gs>
                </a:gsLst>
                <a:lin ang="5400000"/>
              </a:gra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11"/>
              <p:cNvSpPr/>
              <p:nvPr/>
            </p:nvSpPr>
            <p:spPr>
              <a:xfrm>
                <a:off x="2411280" y="47628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2"/>
              <p:cNvSpPr/>
              <p:nvPr/>
            </p:nvSpPr>
            <p:spPr>
              <a:xfrm>
                <a:off x="3851640" y="292608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rc 17"/>
              <p:cNvSpPr/>
              <p:nvPr/>
            </p:nvSpPr>
            <p:spPr>
              <a:xfrm rot="5914800">
                <a:off x="2552760" y="1064160"/>
                <a:ext cx="144360" cy="12996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570" h="18045">
                    <a:moveTo>
                      <a:pt x="11871" y="0"/>
                    </a:moveTo>
                    <a:cubicBezTo>
                      <a:pt x="17605" y="3772"/>
                      <a:pt x="21205" y="10045"/>
                      <a:pt x="21569" y="16899"/>
                    </a:cubicBezTo>
                  </a:path>
                  <a:path stroke="0" w="21570" h="18045">
                    <a:moveTo>
                      <a:pt x="11871" y="0"/>
                    </a:moveTo>
                    <a:cubicBezTo>
                      <a:pt x="17605" y="3772"/>
                      <a:pt x="21205" y="10045"/>
                      <a:pt x="21569" y="16899"/>
                    </a:cubicBezTo>
                    <a:lnTo>
                      <a:pt x="0" y="1804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21"/>
              <p:cNvSpPr/>
              <p:nvPr/>
            </p:nvSpPr>
            <p:spPr>
              <a:xfrm rot="15486000">
                <a:off x="3427920" y="2858760"/>
                <a:ext cx="288720" cy="287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7280"/>
                  <a:gd name="textAreaBottom" fmla="*/ 287280 h 287280"/>
                </a:gdLst>
                <a:ahLst/>
                <a:rect l="textAreaLeft" t="textAreaTop" r="textAreaRight" b="textAreaBottom"/>
                <a:pathLst>
                  <a:path fill="none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</a:path>
                  <a:path stroke="0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  <a:lnTo>
                      <a:pt x="0" y="21438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rc 22"/>
              <p:cNvSpPr/>
              <p:nvPr/>
            </p:nvSpPr>
            <p:spPr>
              <a:xfrm rot="15486000">
                <a:off x="3339000" y="2790000"/>
                <a:ext cx="360360" cy="3585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fill="none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</a:path>
                  <a:path stroke="0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  <a:lnTo>
                      <a:pt x="0" y="21438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27"/>
              <p:cNvSpPr/>
              <p:nvPr/>
            </p:nvSpPr>
            <p:spPr>
              <a:xfrm>
                <a:off x="2482560" y="134136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c000"/>
                    </a:solidFill>
                    <a:latin typeface="Arial Narrow"/>
                  </a:rPr>
                  <a:t>30</a:t>
                </a:r>
                <a:r>
                  <a:rPr b="0" lang="en-US" sz="2000" spc="-1" strike="noStrike">
                    <a:solidFill>
                      <a:srgbClr val="ffc000"/>
                    </a:solidFill>
                    <a:latin typeface="Arial Narrow"/>
                  </a:rPr>
                  <a:t>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3"/>
              <p:cNvSpPr/>
              <p:nvPr/>
            </p:nvSpPr>
            <p:spPr>
              <a:xfrm>
                <a:off x="2555640" y="2953080"/>
                <a:ext cx="215640" cy="215640"/>
              </a:xfrm>
              <a:prstGeom prst="rect">
                <a:avLst/>
              </a:prstGeom>
              <a:solidFill>
                <a:srgbClr val="697ed9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30"/>
          <p:cNvGrpSpPr/>
          <p:nvPr/>
        </p:nvGrpSpPr>
        <p:grpSpPr>
          <a:xfrm>
            <a:off x="971640" y="907920"/>
            <a:ext cx="1727280" cy="2475720"/>
            <a:chOff x="971640" y="907920"/>
            <a:chExt cx="1727280" cy="2475720"/>
          </a:xfrm>
        </p:grpSpPr>
        <p:sp>
          <p:nvSpPr>
            <p:cNvPr id="324" name="AutoShape 16"/>
            <p:cNvSpPr/>
            <p:nvPr/>
          </p:nvSpPr>
          <p:spPr>
            <a:xfrm flipH="1">
              <a:off x="1330560" y="907920"/>
              <a:ext cx="1225440" cy="2232000"/>
            </a:xfrm>
            <a:prstGeom prst="rtTriangle">
              <a:avLst/>
            </a:prstGeom>
            <a:gradFill rotWithShape="0">
              <a:gsLst>
                <a:gs pos="0">
                  <a:srgbClr val="354483"/>
                </a:gs>
                <a:gs pos="100000">
                  <a:srgbClr val="6179e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340000" y="2923920"/>
              <a:ext cx="216000" cy="216000"/>
            </a:xfrm>
            <a:prstGeom prst="rect">
              <a:avLst/>
            </a:prstGeom>
            <a:solidFill>
              <a:srgbClr val="697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18"/>
            <p:cNvSpPr/>
            <p:nvPr/>
          </p:nvSpPr>
          <p:spPr>
            <a:xfrm rot="6685200">
              <a:off x="2432520" y="1062360"/>
              <a:ext cx="144360" cy="14292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fill="none" w="21600" h="19605">
                  <a:moveTo>
                    <a:pt x="17927" y="0"/>
                  </a:moveTo>
                  <a:cubicBezTo>
                    <a:pt x="20321" y="3562"/>
                    <a:pt x="21600" y="7756"/>
                    <a:pt x="21600" y="12048"/>
                  </a:cubicBezTo>
                  <a:cubicBezTo>
                    <a:pt x="21600" y="14628"/>
                    <a:pt x="21137" y="17187"/>
                    <a:pt x="20234" y="19604"/>
                  </a:cubicBezTo>
                </a:path>
                <a:path stroke="0" w="21600" h="19605">
                  <a:moveTo>
                    <a:pt x="17927" y="0"/>
                  </a:moveTo>
                  <a:cubicBezTo>
                    <a:pt x="20321" y="3562"/>
                    <a:pt x="21600" y="7756"/>
                    <a:pt x="21600" y="12048"/>
                  </a:cubicBezTo>
                  <a:cubicBezTo>
                    <a:pt x="21600" y="14628"/>
                    <a:pt x="21137" y="17187"/>
                    <a:pt x="20234" y="19604"/>
                  </a:cubicBezTo>
                  <a:lnTo>
                    <a:pt x="0" y="120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rc 23"/>
            <p:cNvSpPr/>
            <p:nvPr/>
          </p:nvSpPr>
          <p:spPr>
            <a:xfrm rot="594600">
              <a:off x="1474560" y="2849400"/>
              <a:ext cx="289080" cy="2890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fill="none" w="21511" h="21595">
                  <a:moveTo>
                    <a:pt x="444" y="-1"/>
                  </a:moveTo>
                  <a:cubicBezTo>
                    <a:pt x="11442" y="225"/>
                    <a:pt x="20513" y="8681"/>
                    <a:pt x="21510" y="19636"/>
                  </a:cubicBezTo>
                </a:path>
                <a:path stroke="0" w="21511" h="21595">
                  <a:moveTo>
                    <a:pt x="444" y="-1"/>
                  </a:moveTo>
                  <a:cubicBezTo>
                    <a:pt x="11442" y="225"/>
                    <a:pt x="20513" y="8681"/>
                    <a:pt x="21510" y="19636"/>
                  </a:cubicBezTo>
                  <a:lnTo>
                    <a:pt x="0" y="2159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rc 24"/>
            <p:cNvSpPr/>
            <p:nvPr/>
          </p:nvSpPr>
          <p:spPr>
            <a:xfrm rot="592200">
              <a:off x="1474560" y="2778120"/>
              <a:ext cx="360360" cy="3603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529" h="21504">
                  <a:moveTo>
                    <a:pt x="2030" y="-1"/>
                  </a:moveTo>
                  <a:cubicBezTo>
                    <a:pt x="12461" y="984"/>
                    <a:pt x="20681" y="9312"/>
                    <a:pt x="21529" y="19755"/>
                  </a:cubicBezTo>
                </a:path>
                <a:path stroke="0" w="21529" h="21504">
                  <a:moveTo>
                    <a:pt x="2030" y="-1"/>
                  </a:moveTo>
                  <a:cubicBezTo>
                    <a:pt x="12461" y="984"/>
                    <a:pt x="20681" y="9312"/>
                    <a:pt x="21529" y="19755"/>
                  </a:cubicBezTo>
                  <a:lnTo>
                    <a:pt x="0" y="215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5"/>
            <p:cNvSpPr/>
            <p:nvPr/>
          </p:nvSpPr>
          <p:spPr>
            <a:xfrm>
              <a:off x="1690920" y="25635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ffc000"/>
                  </a:solidFill>
                  <a:uFillTx/>
                  <a:latin typeface="Arial Narrow"/>
                </a:rPr>
                <a:t>60</a:t>
              </a:r>
              <a:r>
                <a:rPr b="0" lang="en-US" sz="2000" spc="-1" strike="noStrike" u="sng">
                  <a:solidFill>
                    <a:srgbClr val="ffc000"/>
                  </a:solidFill>
                  <a:uFillTx/>
                  <a:latin typeface="Arial Narrow"/>
                </a:rPr>
                <a:t>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2122560" y="13395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ffc000"/>
                  </a:solidFill>
                  <a:uFillTx/>
                  <a:latin typeface="Arial Narrow"/>
                </a:rPr>
                <a:t>30</a:t>
              </a:r>
              <a:r>
                <a:rPr b="0" lang="en-US" sz="2000" spc="-1" strike="noStrike" u="sng">
                  <a:solidFill>
                    <a:srgbClr val="ffc000"/>
                  </a:solidFill>
                  <a:uFillTx/>
                  <a:latin typeface="Arial Narrow"/>
                </a:rPr>
                <a:t>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971640" y="29239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30"/>
          <p:cNvGrpSpPr/>
          <p:nvPr/>
        </p:nvGrpSpPr>
        <p:grpSpPr>
          <a:xfrm>
            <a:off x="4643280" y="907920"/>
            <a:ext cx="1727280" cy="2475720"/>
            <a:chOff x="4643280" y="907920"/>
            <a:chExt cx="1727280" cy="2475720"/>
          </a:xfrm>
        </p:grpSpPr>
        <p:sp>
          <p:nvSpPr>
            <p:cNvPr id="333" name="AutoShape 16"/>
            <p:cNvSpPr/>
            <p:nvPr/>
          </p:nvSpPr>
          <p:spPr>
            <a:xfrm flipH="1">
              <a:off x="5002200" y="907920"/>
              <a:ext cx="1225440" cy="2232000"/>
            </a:xfrm>
            <a:prstGeom prst="rtTriangle">
              <a:avLst/>
            </a:prstGeom>
            <a:gradFill rotWithShape="0">
              <a:gsLst>
                <a:gs pos="0">
                  <a:srgbClr val="354483"/>
                </a:gs>
                <a:gs pos="100000">
                  <a:srgbClr val="6179e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0"/>
            <p:cNvSpPr/>
            <p:nvPr/>
          </p:nvSpPr>
          <p:spPr>
            <a:xfrm>
              <a:off x="6011640" y="2923920"/>
              <a:ext cx="216000" cy="216000"/>
            </a:xfrm>
            <a:prstGeom prst="rect">
              <a:avLst/>
            </a:prstGeom>
            <a:solidFill>
              <a:srgbClr val="697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rc 18"/>
            <p:cNvSpPr/>
            <p:nvPr/>
          </p:nvSpPr>
          <p:spPr>
            <a:xfrm rot="6685200">
              <a:off x="6104160" y="1062360"/>
              <a:ext cx="144360" cy="14292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fill="none" w="21600" h="19605">
                  <a:moveTo>
                    <a:pt x="17927" y="0"/>
                  </a:moveTo>
                  <a:cubicBezTo>
                    <a:pt x="20321" y="3562"/>
                    <a:pt x="21600" y="7756"/>
                    <a:pt x="21600" y="12048"/>
                  </a:cubicBezTo>
                  <a:cubicBezTo>
                    <a:pt x="21600" y="14628"/>
                    <a:pt x="21137" y="17187"/>
                    <a:pt x="20234" y="19604"/>
                  </a:cubicBezTo>
                </a:path>
                <a:path stroke="0" w="21600" h="19605">
                  <a:moveTo>
                    <a:pt x="17927" y="0"/>
                  </a:moveTo>
                  <a:cubicBezTo>
                    <a:pt x="20321" y="3562"/>
                    <a:pt x="21600" y="7756"/>
                    <a:pt x="21600" y="12048"/>
                  </a:cubicBezTo>
                  <a:cubicBezTo>
                    <a:pt x="21600" y="14628"/>
                    <a:pt x="21137" y="17187"/>
                    <a:pt x="20234" y="19604"/>
                  </a:cubicBezTo>
                  <a:lnTo>
                    <a:pt x="0" y="120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rc 23"/>
            <p:cNvSpPr/>
            <p:nvPr/>
          </p:nvSpPr>
          <p:spPr>
            <a:xfrm rot="594600">
              <a:off x="5146200" y="2849400"/>
              <a:ext cx="289080" cy="2890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fill="none" w="21511" h="21595">
                  <a:moveTo>
                    <a:pt x="444" y="-1"/>
                  </a:moveTo>
                  <a:cubicBezTo>
                    <a:pt x="11442" y="225"/>
                    <a:pt x="20513" y="8681"/>
                    <a:pt x="21510" y="19636"/>
                  </a:cubicBezTo>
                </a:path>
                <a:path stroke="0" w="21511" h="21595">
                  <a:moveTo>
                    <a:pt x="444" y="-1"/>
                  </a:moveTo>
                  <a:cubicBezTo>
                    <a:pt x="11442" y="225"/>
                    <a:pt x="20513" y="8681"/>
                    <a:pt x="21510" y="19636"/>
                  </a:cubicBezTo>
                  <a:lnTo>
                    <a:pt x="0" y="2159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rc 24"/>
            <p:cNvSpPr/>
            <p:nvPr/>
          </p:nvSpPr>
          <p:spPr>
            <a:xfrm rot="592200">
              <a:off x="5146200" y="2778120"/>
              <a:ext cx="360360" cy="3603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fill="none" w="21529" h="21504">
                  <a:moveTo>
                    <a:pt x="2030" y="-1"/>
                  </a:moveTo>
                  <a:cubicBezTo>
                    <a:pt x="12461" y="984"/>
                    <a:pt x="20681" y="9312"/>
                    <a:pt x="21529" y="19755"/>
                  </a:cubicBezTo>
                </a:path>
                <a:path stroke="0" w="21529" h="21504">
                  <a:moveTo>
                    <a:pt x="2030" y="-1"/>
                  </a:moveTo>
                  <a:cubicBezTo>
                    <a:pt x="12461" y="984"/>
                    <a:pt x="20681" y="9312"/>
                    <a:pt x="21529" y="19755"/>
                  </a:cubicBezTo>
                  <a:lnTo>
                    <a:pt x="0" y="215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5"/>
            <p:cNvSpPr/>
            <p:nvPr/>
          </p:nvSpPr>
          <p:spPr>
            <a:xfrm>
              <a:off x="5362560" y="2563560"/>
              <a:ext cx="576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5794200" y="1339560"/>
              <a:ext cx="576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8"/>
            <p:cNvSpPr/>
            <p:nvPr/>
          </p:nvSpPr>
          <p:spPr>
            <a:xfrm>
              <a:off x="4643280" y="292392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Группа 30"/>
          <p:cNvGrpSpPr/>
          <p:nvPr/>
        </p:nvGrpSpPr>
        <p:grpSpPr>
          <a:xfrm>
            <a:off x="6012000" y="476280"/>
            <a:ext cx="1800000" cy="3052080"/>
            <a:chOff x="6012000" y="476280"/>
            <a:chExt cx="1800000" cy="3052080"/>
          </a:xfrm>
        </p:grpSpPr>
        <p:sp>
          <p:nvSpPr>
            <p:cNvPr id="342" name="Text Box 10"/>
            <p:cNvSpPr/>
            <p:nvPr/>
          </p:nvSpPr>
          <p:spPr>
            <a:xfrm>
              <a:off x="6012000" y="306864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Группа 28"/>
            <p:cNvGrpSpPr/>
            <p:nvPr/>
          </p:nvGrpSpPr>
          <p:grpSpPr>
            <a:xfrm>
              <a:off x="6083280" y="476280"/>
              <a:ext cx="1728720" cy="2909520"/>
              <a:chOff x="6083280" y="476280"/>
              <a:chExt cx="1728720" cy="2909520"/>
            </a:xfrm>
          </p:grpSpPr>
          <p:sp>
            <p:nvSpPr>
              <p:cNvPr id="344" name="AutoShape 9"/>
              <p:cNvSpPr/>
              <p:nvPr/>
            </p:nvSpPr>
            <p:spPr>
              <a:xfrm>
                <a:off x="6227640" y="930240"/>
                <a:ext cx="1297080" cy="2232360"/>
              </a:xfrm>
              <a:prstGeom prst="rtTriangle">
                <a:avLst/>
              </a:prstGeom>
              <a:gradFill rotWithShape="0">
                <a:gsLst>
                  <a:gs pos="0">
                    <a:srgbClr val="354483"/>
                  </a:gs>
                  <a:gs pos="100000">
                    <a:srgbClr val="6179e1"/>
                  </a:gs>
                </a:gsLst>
                <a:lin ang="5400000"/>
              </a:gra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1"/>
              <p:cNvSpPr/>
              <p:nvPr/>
            </p:nvSpPr>
            <p:spPr>
              <a:xfrm>
                <a:off x="6083280" y="47628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"/>
              <p:cNvSpPr/>
              <p:nvPr/>
            </p:nvSpPr>
            <p:spPr>
              <a:xfrm>
                <a:off x="7523280" y="292608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rc 17"/>
              <p:cNvSpPr/>
              <p:nvPr/>
            </p:nvSpPr>
            <p:spPr>
              <a:xfrm rot="5914800">
                <a:off x="6224760" y="1064160"/>
                <a:ext cx="144360" cy="12996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fill="none" w="21570" h="18045">
                    <a:moveTo>
                      <a:pt x="11871" y="0"/>
                    </a:moveTo>
                    <a:cubicBezTo>
                      <a:pt x="17605" y="3772"/>
                      <a:pt x="21205" y="10045"/>
                      <a:pt x="21569" y="16899"/>
                    </a:cubicBezTo>
                  </a:path>
                  <a:path stroke="0" w="21570" h="18045">
                    <a:moveTo>
                      <a:pt x="11871" y="0"/>
                    </a:moveTo>
                    <a:cubicBezTo>
                      <a:pt x="17605" y="3772"/>
                      <a:pt x="21205" y="10045"/>
                      <a:pt x="21569" y="16899"/>
                    </a:cubicBezTo>
                    <a:lnTo>
                      <a:pt x="0" y="1804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rc 21"/>
              <p:cNvSpPr/>
              <p:nvPr/>
            </p:nvSpPr>
            <p:spPr>
              <a:xfrm rot="15486000">
                <a:off x="7099920" y="2858760"/>
                <a:ext cx="288720" cy="287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7280"/>
                  <a:gd name="textAreaBottom" fmla="*/ 287280 h 287280"/>
                </a:gdLst>
                <a:ahLst/>
                <a:rect l="textAreaLeft" t="textAreaTop" r="textAreaRight" b="textAreaBottom"/>
                <a:pathLst>
                  <a:path fill="none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</a:path>
                  <a:path stroke="0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  <a:lnTo>
                      <a:pt x="0" y="21438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rc 22"/>
              <p:cNvSpPr/>
              <p:nvPr/>
            </p:nvSpPr>
            <p:spPr>
              <a:xfrm rot="15486000">
                <a:off x="7011000" y="2790000"/>
                <a:ext cx="360360" cy="35856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fill="none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</a:path>
                  <a:path stroke="0" w="21553" h="21438">
                    <a:moveTo>
                      <a:pt x="2638" y="-1"/>
                    </a:moveTo>
                    <a:cubicBezTo>
                      <a:pt x="12927" y="1265"/>
                      <a:pt x="20866" y="9663"/>
                      <a:pt x="21552" y="20008"/>
                    </a:cubicBezTo>
                    <a:lnTo>
                      <a:pt x="0" y="21438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7"/>
              <p:cNvSpPr/>
              <p:nvPr/>
            </p:nvSpPr>
            <p:spPr>
              <a:xfrm>
                <a:off x="6154560" y="1341360"/>
                <a:ext cx="5763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3"/>
              <p:cNvSpPr/>
              <p:nvPr/>
            </p:nvSpPr>
            <p:spPr>
              <a:xfrm>
                <a:off x="6227640" y="2953080"/>
                <a:ext cx="215640" cy="215640"/>
              </a:xfrm>
              <a:prstGeom prst="rect">
                <a:avLst/>
              </a:prstGeom>
              <a:solidFill>
                <a:srgbClr val="697ed9"/>
              </a:solidFill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116000" y="62028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611280" y="2602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войства о сумме острых углов прямоугольного треугольника в повседнев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katafot-na-velosipede-e1510573892529"/>
          <p:cNvPicPr/>
          <p:nvPr/>
        </p:nvPicPr>
        <p:blipFill>
          <a:blip r:embed="rId2"/>
          <a:stretch/>
        </p:blipFill>
        <p:spPr>
          <a:xfrm>
            <a:off x="5183280" y="388764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55605-large_default"/>
          <p:cNvPicPr/>
          <p:nvPr/>
        </p:nvPicPr>
        <p:blipFill>
          <a:blip r:embed="rId3"/>
          <a:stretch/>
        </p:blipFill>
        <p:spPr>
          <a:xfrm>
            <a:off x="0" y="1413000"/>
            <a:ext cx="5148360" cy="5445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23392a08fa013756b0876c06c6b178d0"/>
          <p:cNvPicPr/>
          <p:nvPr/>
        </p:nvPicPr>
        <p:blipFill>
          <a:blip r:embed="rId4"/>
          <a:stretch/>
        </p:blipFill>
        <p:spPr>
          <a:xfrm>
            <a:off x="5219640" y="1341360"/>
            <a:ext cx="39243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284720" cy="36446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468360" y="260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ковый отраж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504880" cy="4448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6"/>
          <p:cNvSpPr/>
          <p:nvPr/>
        </p:nvSpPr>
        <p:spPr>
          <a:xfrm>
            <a:off x="4716360" y="479736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М, ОА – два зер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A –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адающий 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T –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раженный 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5:22:17Z</dcterms:created>
  <dc:creator>Саныч</dc:creator>
  <dc:description/>
  <dc:language>en-US</dc:language>
  <cp:lastModifiedBy>пк</cp:lastModifiedBy>
  <dcterms:modified xsi:type="dcterms:W3CDTF">2024-03-27T16:58:47Z</dcterms:modified>
  <cp:revision>54</cp:revision>
  <dc:subject/>
  <dc:title>ПРЯМОУГОЛЬНЫЕ ТРЕУГОЛЬНИКИ</dc:title>
</cp:coreProperties>
</file>