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E1E-9DDA-46F9-A428-65D0E4FA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07F-96D7-41BC-BA99-8FB5F7D9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CE6-BEB1-48BD-A278-28C338A4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0E7-5761-4937-A39F-5BFD5576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072-4C2A-417E-9162-14EC4E8C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D26-23A4-410C-A5A3-5FD91636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984-EB4E-481F-95F5-5808633B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8057-3647-4692-AC6B-6726A35D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B24-5D60-41F7-9F2A-5C3FE79B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6DD-68B5-4402-966A-7BDA4119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B9D-6595-48FD-A69F-A5550F9F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530-550B-442A-AC17-ECD13A6C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228D-6CF7-443F-8A80-0F7FB1B3A0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document/cons_doc_LAW_19702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 Light"/>
              </a:rPr>
              <a:t>Практическая работа по теме «Семья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Picture 8" descr="https://dou47.edu-nv.ru/files/administrator.dou47_edu_nv_ru/_%D0%9D%D0%9E%D0%92%D0%9E%D0%A1%D0%A2%D0%98_/2019-2020_%D1%83%D1%87_%D0%B3%D0%BE%D0%B4/%D0%92%D0%B5%D1%81%D0%BD%D0%B0_2020/%D0%90%D0%BF%D1%80%D0%B5%D0%BB%D1%8C_2020/%D0%A1%D0%B5%D0%BC%D1%8C%D1%8F.png"/>
          <p:cNvPicPr/>
          <p:nvPr/>
        </p:nvPicPr>
        <p:blipFill>
          <a:blip r:embed="rId1"/>
          <a:stretch/>
        </p:blipFill>
        <p:spPr>
          <a:xfrm>
            <a:off x="2295360" y="1368360"/>
            <a:ext cx="709956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885960" y="379440"/>
            <a:ext cx="1084716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Задача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Ира и Даша задумались, откуда в семье берутся деньги и сколько их. Папа сказал, что зарабатывает в день 1400 рублей, мама – 1350 рублей, старшая сестра Соня получает стипендию 1300 рублей, а еще есть пенсия дедушки – 18300 рублей  в месяц. Помоги ребятам вычислить месячный доход семьи в этом месяце. </a:t>
            </a:r>
            <a:r>
              <a:rPr b="0" i="1" lang="ru-RU" sz="32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Подсказ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не забудь, что в месяце рабоч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дней меньше, чем календар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s://nb-ugra.ru/wp-content/uploads/2020/07/article-home-and-garden-content-070417.jpg"/>
          <p:cNvPicPr/>
          <p:nvPr/>
        </p:nvPicPr>
        <p:blipFill>
          <a:blip r:embed="rId1"/>
          <a:stretch/>
        </p:blipFill>
        <p:spPr>
          <a:xfrm>
            <a:off x="7999560" y="3811680"/>
            <a:ext cx="4002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942840" y="417600"/>
            <a:ext cx="803304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ЗАДАЧА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Наташа хочет новый ноутбук, который стоит 37.000 рублей,  и родители предложили ей вести учет доходов и расходов семьи, чтобы рассчитать возможность данного приобретения. Записи за месяц таков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– </a:t>
            </a: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зарплата папы – 45 000 руб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– </a:t>
            </a: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зарплата мамы – 32 000 руб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– </a:t>
            </a: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продукты – 22000 руб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– </a:t>
            </a: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ЖКХ – 5158 руб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– </a:t>
            </a: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интернет – 399 рубл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– </a:t>
            </a: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проезд – 1570 руб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– </a:t>
            </a: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пенсия бабушки – 13800 рубл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– </a:t>
            </a: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репетитор по английскому языку – 8 400 руб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– </a:t>
            </a: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школьные обеды – 3398 руб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– </a:t>
            </a: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бензин – 7000 рубл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– </a:t>
            </a: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корм собаке - 1300 руб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Сможет ли семья Наташи в этом месяце купить новый ноутбу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s://okolokompa.ru/wp-content/uploads/2020/03/casdftffrt3v654-min.jpg"/>
          <p:cNvPicPr/>
          <p:nvPr/>
        </p:nvPicPr>
        <p:blipFill>
          <a:blip r:embed="rId1"/>
          <a:stretch/>
        </p:blipFill>
        <p:spPr>
          <a:xfrm>
            <a:off x="6181560" y="2697120"/>
            <a:ext cx="471816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 Light"/>
              </a:rPr>
              <a:t>Составьте бюджет своей семьи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38080" y="1825560"/>
          <a:ext cx="10515600" cy="4449960"/>
        </p:xfrm>
        <a:graphic>
          <a:graphicData uri="http://schemas.openxmlformats.org/drawingml/2006/table">
            <a:tbl>
              <a:tblPr/>
              <a:tblGrid>
                <a:gridCol w="5257800"/>
                <a:gridCol w="5257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c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c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c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c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c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c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c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c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c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c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c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c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901800" y="1816200"/>
          <a:ext cx="10422000" cy="457200"/>
        </p:xfrm>
        <a:graphic>
          <a:graphicData uri="http://schemas.openxmlformats.org/drawingml/2006/table">
            <a:tbl>
              <a:tblPr/>
              <a:tblGrid>
                <a:gridCol w="10422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ходы                                                               Расходы                         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00000"/>
                      </a:solidFill>
                    </a:lnL>
                    <a:lnR w="28080">
                      <a:solidFill>
                        <a:srgbClr val="c00000"/>
                      </a:solidFill>
                    </a:lnR>
                    <a:lnT w="28080">
                      <a:solidFill>
                        <a:srgbClr val="c00000"/>
                      </a:solidFill>
                    </a:lnT>
                    <a:lnB w="28080">
                      <a:solidFill>
                        <a:srgbClr val="c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 Light"/>
              </a:rPr>
              <a:t>БЮДЖЕТ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51040" y="1650960"/>
            <a:ext cx="10515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юджетный кодекс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(БК РФ) — кодифицированный нормативно-правовой акт, устанавливающий общие принципы бюджетного законодательства Российской Федерации, организации и функционирования бюджетной системы Российской Федерации, правовое положение субъектов бюджетных правоотношений, определяет основы бюджетного процесса и межбюджетных отношений в Российской Федерации, порядок исполнения судебных актов по обращению взыскания на средства бюджетов бюджетной системы Российской Федерации, основания и виды ответственности за нарушение бюджетного законодательства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www.consultant.ru/document/cons_doc_LAW_19702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4962600" y="3079800"/>
            <a:ext cx="2030400" cy="2792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1" descr=""/>
          <p:cNvPicPr/>
          <p:nvPr/>
        </p:nvPicPr>
        <p:blipFill>
          <a:blip r:embed="rId2"/>
          <a:srcRect l="56130" t="61572" r="21689" b="9703"/>
          <a:stretch/>
        </p:blipFill>
        <p:spPr>
          <a:xfrm>
            <a:off x="185760" y="3886200"/>
            <a:ext cx="1330200" cy="12938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6" descr=""/>
          <p:cNvPicPr/>
          <p:nvPr/>
        </p:nvPicPr>
        <p:blipFill>
          <a:blip r:embed="rId3"/>
          <a:srcRect l="8592" t="56080" r="58451" b="8221"/>
          <a:stretch/>
        </p:blipFill>
        <p:spPr>
          <a:xfrm>
            <a:off x="10058400" y="3876840"/>
            <a:ext cx="1536840" cy="1247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1040" y="185760"/>
            <a:ext cx="10515600" cy="1325520"/>
          </a:xfrm>
          <a:prstGeom prst="rect">
            <a:avLst/>
          </a:prstGeom>
          <a:solidFill>
            <a:srgbClr val="ffe699"/>
          </a:solidFill>
          <a:ln w="12600">
            <a:solidFill>
              <a:srgbClr val="41719c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ейный бюджет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бщий «кошелек» семьи, в котором собираются все деньги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Скругленный прямоугольник 6"/>
          <p:cNvSpPr/>
          <p:nvPr/>
        </p:nvSpPr>
        <p:spPr>
          <a:xfrm>
            <a:off x="592200" y="3079800"/>
            <a:ext cx="3470040" cy="8110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аботная плата мамы и па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9"/>
          <p:cNvSpPr/>
          <p:nvPr/>
        </p:nvSpPr>
        <p:spPr>
          <a:xfrm>
            <a:off x="8012160" y="5070600"/>
            <a:ext cx="3540240" cy="8017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пендия брата или се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право 12"/>
          <p:cNvSpPr/>
          <p:nvPr/>
        </p:nvSpPr>
        <p:spPr>
          <a:xfrm rot="741600">
            <a:off x="4167000" y="3444480"/>
            <a:ext cx="846000" cy="54756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право 13"/>
          <p:cNvSpPr/>
          <p:nvPr/>
        </p:nvSpPr>
        <p:spPr>
          <a:xfrm rot="20444400">
            <a:off x="4129200" y="5099040"/>
            <a:ext cx="811080" cy="5414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право 14"/>
          <p:cNvSpPr/>
          <p:nvPr/>
        </p:nvSpPr>
        <p:spPr>
          <a:xfrm rot="11578800">
            <a:off x="6966000" y="5145840"/>
            <a:ext cx="874800" cy="55908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право 15"/>
          <p:cNvSpPr/>
          <p:nvPr/>
        </p:nvSpPr>
        <p:spPr>
          <a:xfrm rot="9268200">
            <a:off x="7104960" y="3432960"/>
            <a:ext cx="857160" cy="52236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6" descr=""/>
          <p:cNvPicPr/>
          <p:nvPr/>
        </p:nvPicPr>
        <p:blipFill>
          <a:blip r:embed="rId4"/>
          <a:srcRect l="13185" t="18680" r="58610" b="53434"/>
          <a:stretch/>
        </p:blipFill>
        <p:spPr>
          <a:xfrm>
            <a:off x="2417760" y="1685880"/>
            <a:ext cx="1612800" cy="1197000"/>
          </a:xfrm>
          <a:prstGeom prst="rect">
            <a:avLst/>
          </a:prstGeom>
          <a:ln w="0">
            <a:noFill/>
          </a:ln>
        </p:spPr>
      </p:pic>
      <p:sp>
        <p:nvSpPr>
          <p:cNvPr id="56" name="Скругленный прямоугольник 21"/>
          <p:cNvSpPr/>
          <p:nvPr/>
        </p:nvSpPr>
        <p:spPr>
          <a:xfrm>
            <a:off x="592200" y="5054760"/>
            <a:ext cx="3438360" cy="8110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бие за маленького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23"/>
          <p:cNvSpPr/>
          <p:nvPr/>
        </p:nvSpPr>
        <p:spPr>
          <a:xfrm>
            <a:off x="8034480" y="3057480"/>
            <a:ext cx="3517920" cy="8193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сия бабушки и дед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5" descr=""/>
          <p:cNvPicPr/>
          <p:nvPr/>
        </p:nvPicPr>
        <p:blipFill>
          <a:blip r:embed="rId5"/>
          <a:srcRect l="60249" t="18892" r="10439" b="47942"/>
          <a:stretch/>
        </p:blipFill>
        <p:spPr>
          <a:xfrm>
            <a:off x="8642520" y="1527120"/>
            <a:ext cx="1866600" cy="15130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2"/>
          <p:cNvSpPr/>
          <p:nvPr/>
        </p:nvSpPr>
        <p:spPr>
          <a:xfrm>
            <a:off x="10958400" y="3890880"/>
            <a:ext cx="636840" cy="1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3"/>
          <p:cNvSpPr/>
          <p:nvPr/>
        </p:nvSpPr>
        <p:spPr>
          <a:xfrm>
            <a:off x="10964880" y="4414680"/>
            <a:ext cx="603360" cy="33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3033720" y="6135840"/>
            <a:ext cx="6541920" cy="634680"/>
          </a:xfrm>
          <a:prstGeom prst="rect">
            <a:avLst/>
          </a:prstGeom>
          <a:solidFill>
            <a:srgbClr val="ffe69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зывает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ход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84320"/>
            <a:ext cx="10515600" cy="1325520"/>
          </a:xfrm>
          <a:prstGeom prst="rect">
            <a:avLst/>
          </a:prstGeom>
          <a:solidFill>
            <a:srgbClr val="ffe699"/>
          </a:solidFill>
          <a:ln w="12600">
            <a:solidFill>
              <a:srgbClr val="41719c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ги из бюджета семьи идут на оплату за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ртир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пле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ы 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зд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и обув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3017880" y="5661000"/>
            <a:ext cx="6156360" cy="1031760"/>
          </a:xfrm>
          <a:prstGeom prst="rect">
            <a:avLst/>
          </a:prstGeom>
          <a:solidFill>
            <a:srgbClr val="ffe699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зывается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х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"/>
          <p:cNvPicPr/>
          <p:nvPr/>
        </p:nvPicPr>
        <p:blipFill>
          <a:blip r:embed="rId1"/>
          <a:srcRect l="8592" t="14457" r="53698" b="5900"/>
          <a:stretch/>
        </p:blipFill>
        <p:spPr>
          <a:xfrm>
            <a:off x="6413400" y="1668600"/>
            <a:ext cx="3722760" cy="3835440"/>
          </a:xfrm>
          <a:prstGeom prst="rect">
            <a:avLst/>
          </a:prstGeom>
          <a:ln w="0">
            <a:noFill/>
          </a:ln>
        </p:spPr>
      </p:pic>
      <p:sp>
        <p:nvSpPr>
          <p:cNvPr id="66" name="Скругленный прямоугольник 5"/>
          <p:cNvSpPr/>
          <p:nvPr/>
        </p:nvSpPr>
        <p:spPr>
          <a:xfrm>
            <a:off x="8937720" y="1674720"/>
            <a:ext cx="1198440" cy="476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хорошо для семейного бюджет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838080" y="4305240"/>
            <a:ext cx="10515600" cy="1325520"/>
          </a:xfrm>
          <a:prstGeom prst="rect">
            <a:avLst/>
          </a:prstGeom>
          <a:solidFill>
            <a:srgbClr val="c5e0b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доход у семьи больше, чем расх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4"/>
          <p:cNvSpPr/>
          <p:nvPr/>
        </p:nvSpPr>
        <p:spPr>
          <a:xfrm>
            <a:off x="5207040" y="2011320"/>
            <a:ext cx="853920" cy="18273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5" descr=""/>
          <p:cNvPicPr/>
          <p:nvPr/>
        </p:nvPicPr>
        <p:blipFill>
          <a:blip r:embed="rId1"/>
          <a:stretch/>
        </p:blipFill>
        <p:spPr>
          <a:xfrm>
            <a:off x="7080120" y="1765440"/>
            <a:ext cx="450216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solidFill>
            <a:srgbClr val="b4c7e7"/>
          </a:solidFill>
          <a:ln w="12600">
            <a:solidFill>
              <a:srgbClr val="41719c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ты можешь сделать в пользу семейного бюджета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20320" y="1841040"/>
            <a:ext cx="102330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ть свет, тепло, вод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ратить деньги зр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сить у родителей покупать ненужные тебе вещ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7858080" y="4309920"/>
            <a:ext cx="1241640" cy="1844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2"/>
          <a:stretch/>
        </p:blipFill>
        <p:spPr>
          <a:xfrm>
            <a:off x="882720" y="4398840"/>
            <a:ext cx="2371680" cy="20480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"/>
          <p:cNvPicPr/>
          <p:nvPr/>
        </p:nvPicPr>
        <p:blipFill>
          <a:blip r:embed="rId3"/>
          <a:stretch/>
        </p:blipFill>
        <p:spPr>
          <a:xfrm>
            <a:off x="9996480" y="1832040"/>
            <a:ext cx="202572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1116000" y="565200"/>
            <a:ext cx="10139400" cy="1438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ланирование семейного бюдж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417600" y="5284800"/>
            <a:ext cx="4599000" cy="1170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Дох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593040" y="5248440"/>
            <a:ext cx="4599000" cy="11700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Расх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7"/>
          <p:cNvSpPr/>
          <p:nvPr/>
        </p:nvSpPr>
        <p:spPr>
          <a:xfrm rot="1294200">
            <a:off x="4355640" y="2044800"/>
            <a:ext cx="579600" cy="31860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8"/>
          <p:cNvSpPr/>
          <p:nvPr/>
        </p:nvSpPr>
        <p:spPr>
          <a:xfrm rot="19877400">
            <a:off x="7023240" y="2061720"/>
            <a:ext cx="579240" cy="318636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436680" y="633240"/>
            <a:ext cx="111553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Задача №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Катя и Алексей задумались, откуда в семье берутся деньги и сколько их. Папа сказал, что зарабатывает в день 1800 рублей, мама – 1400 рублей, пенсия дедушки – 18600 рублей в месяц и пенсия бабушки – 16890 рублей в месяц, стипендия старшего брата 5 125 рублей в месяц.  Помоги ребятам вычислить месячный доход семьи в этом месяце. </a:t>
            </a:r>
            <a:r>
              <a:rPr b="0" i="1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Подсказка: не забудь, ч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в месяце рабочих дней меньш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чем календарных.</a:t>
            </a:r>
            <a:r>
              <a:rPr b="0" lang="ru-RU" sz="28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213600" y="4546440"/>
            <a:ext cx="31701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4" descr="https://sps-sng.ru/wp-content/uploads/2020/08/Kartinka-8.jpg"/>
          <p:cNvPicPr/>
          <p:nvPr/>
        </p:nvPicPr>
        <p:blipFill>
          <a:blip r:embed="rId1"/>
          <a:stretch/>
        </p:blipFill>
        <p:spPr>
          <a:xfrm>
            <a:off x="7632720" y="3821040"/>
            <a:ext cx="45594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1252440" y="590400"/>
            <a:ext cx="1035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а №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ня и Артур задумались, откуда в семье берутся деньги и сколько их. Папа сказал, что зарабатывает в день 1900 рублей, мама – 1500 рублей, а пенсия бабушки – 12 090 рублей в месяц. Помоги ребятам вычислить месячный доход семьи в этом месяце. </a:t>
            </a:r>
            <a:r>
              <a:rPr b="0" i="1" lang="ru-RU" sz="3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Подсказка: не забуд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что в месяце рабочи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дней меньше, ч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00000a"/>
                </a:solidFill>
                <a:latin typeface="Times New Roman"/>
                <a:ea typeface="Times New Roman"/>
              </a:rPr>
              <a:t>календар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s://avatars.mds.yandex.net/get-zen_doc/1578906/pub_5e0d2da3d5bbc300aee76511_5e0f1abf0a451800acb4743e/scale_1200"/>
          <p:cNvPicPr/>
          <p:nvPr/>
        </p:nvPicPr>
        <p:blipFill>
          <a:blip r:embed="rId1"/>
          <a:stretch/>
        </p:blipFill>
        <p:spPr>
          <a:xfrm>
            <a:off x="7637400" y="3983040"/>
            <a:ext cx="385596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8T14:51:23Z</dcterms:created>
  <dc:creator>Acer</dc:creator>
  <dc:description/>
  <dc:language>en-US</dc:language>
  <cp:lastModifiedBy>Пользователь Windows</cp:lastModifiedBy>
  <dcterms:modified xsi:type="dcterms:W3CDTF">2024-03-28T12:39:37Z</dcterms:modified>
  <cp:revision>32</cp:revision>
  <dc:subject/>
  <dc:title>Презентация PowerPoint</dc:title>
</cp:coreProperties>
</file>