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explode.wav" ContentType="audio/x-wav"/>
  <Override PartName="/ppt/media/image22.jpeg" ContentType="image/jpe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4.gif" ContentType="image/gif"/>
  <Override PartName="/ppt/media/image4.jpeg" ContentType="image/jpeg"/>
  <Override PartName="/ppt/media/image13.gif" ContentType="image/gif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elix Titling"/>
              </a:rPr>
              <a:t>МОУ гимназия №1 г. Липец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elix Titling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elix Titling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elix Titling"/>
              </a:rPr>
              <a:t>Учитель математики Иван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Felix Titling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0F3-9195-4C82-A04B-52CF7527FF07}" type="slidenum">
              <a:rPr b="0" lang="ru-RU" sz="1200" spc="-1" strike="noStrike">
                <a:solidFill>
                  <a:srgbClr val="000000"/>
                </a:solidFill>
                <a:latin typeface="Felix Titlin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943D-9957-414B-86C5-24357AA21A48}" type="slidenum">
              <a:rPr b="0" lang="ru-RU" sz="1200" spc="-1" strike="noStrike">
                <a:solidFill>
                  <a:srgbClr val="000000"/>
                </a:solidFill>
                <a:latin typeface="Felix Titlin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Дата 4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ижний колонтитул 5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elix Titling"/>
              </a:rPr>
              <a:t>Учитель математики Иван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хний колонтитул 6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elix Titling"/>
              </a:rPr>
              <a:t>МОУ гимназия №1 г. Липец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185-E98C-4F8F-A959-2533ADB4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2AC-53AA-4490-BB32-C56F769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C04-F0B0-4D4F-BEB9-8740FFD6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0EB-4941-48FD-A9D1-9AED7DB3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802-9E8F-458C-81BC-F82A051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E4F-E0B2-4347-BBCB-A1228FBC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6B5-D1EB-43CF-B5E8-072F797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1B5-0E36-4234-9598-A3DD9BC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2A2-0071-4D1E-B211-B4F19C2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955-F208-469F-87BA-474555E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885-BC09-457B-90E0-18143FB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3D2-1550-4148-B3FA-528C6AF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elix Titl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elix Titl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elix Titl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elix Titl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elix Titl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elix Titl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Felix Titling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9773-735F-47AD-B194-81E4D8CCB9C8}" type="slidenum">
              <a:rPr b="0" lang="ru-RU" sz="1400" spc="-1" strike="noStrike">
                <a:solidFill>
                  <a:srgbClr val="000000"/>
                </a:solidFill>
                <a:latin typeface="Felix Titling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" Target="slide6.xml"/><Relationship Id="rId4" Type="http://schemas.openxmlformats.org/officeDocument/2006/relationships/image" Target="../media/image8.jpeg"/><Relationship Id="rId5" Type="http://schemas.openxmlformats.org/officeDocument/2006/relationships/slide" Target="slide20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" Target="slide7.xml"/><Relationship Id="rId4" Type="http://schemas.openxmlformats.org/officeDocument/2006/relationships/image" Target="../media/image10.jpeg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slide" Target="slide28.xml"/><Relationship Id="rId7" Type="http://schemas.openxmlformats.org/officeDocument/2006/relationships/slide" Target="slide34.xml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68360" y="1263600"/>
            <a:ext cx="813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Monotype Corsiva"/>
              </a:rPr>
              <a:t>КЛУ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7c80"/>
                </a:solidFill>
                <a:latin typeface="Monotype Corsiva"/>
              </a:rPr>
              <a:t>СУПЕ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Monotype Corsiva"/>
              </a:rPr>
              <a:t>МАТЕМАТ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 rot="410400">
            <a:off x="7308720" y="404280"/>
            <a:ext cx="1441440" cy="1295640"/>
          </a:xfrm>
          <a:custGeom>
            <a:avLst/>
            <a:gdLst/>
            <a:ahLst/>
            <a:rect l="l" t="t" r="r" b="b"/>
            <a:pathLst>
              <a:path w="1441450" h="1295400">
                <a:moveTo>
                  <a:pt x="2" y="494798"/>
                </a:moveTo>
                <a:lnTo>
                  <a:pt x="550588" y="494801"/>
                </a:lnTo>
                <a:lnTo>
                  <a:pt x="720725" y="0"/>
                </a:lnTo>
                <a:lnTo>
                  <a:pt x="890862" y="494801"/>
                </a:lnTo>
                <a:lnTo>
                  <a:pt x="1441448" y="494798"/>
                </a:lnTo>
                <a:lnTo>
                  <a:pt x="996013" y="800598"/>
                </a:lnTo>
                <a:lnTo>
                  <a:pt x="1166157" y="1295397"/>
                </a:lnTo>
                <a:lnTo>
                  <a:pt x="720725" y="989591"/>
                </a:lnTo>
                <a:lnTo>
                  <a:pt x="275293" y="1295397"/>
                </a:lnTo>
                <a:lnTo>
                  <a:pt x="44543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2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 rot="20892600">
            <a:off x="1332000" y="2420640"/>
            <a:ext cx="1439640" cy="1295280"/>
          </a:xfrm>
          <a:custGeom>
            <a:avLst/>
            <a:gdLst/>
            <a:ahLst/>
            <a:rect l="l" t="t" r="r" b="b"/>
            <a:pathLst>
              <a:path w="1439862" h="1295400">
                <a:moveTo>
                  <a:pt x="2" y="494798"/>
                </a:moveTo>
                <a:lnTo>
                  <a:pt x="549981" y="494801"/>
                </a:lnTo>
                <a:lnTo>
                  <a:pt x="719931" y="0"/>
                </a:lnTo>
                <a:lnTo>
                  <a:pt x="889881" y="494801"/>
                </a:lnTo>
                <a:lnTo>
                  <a:pt x="1439860" y="494798"/>
                </a:lnTo>
                <a:lnTo>
                  <a:pt x="994915" y="800598"/>
                </a:lnTo>
                <a:lnTo>
                  <a:pt x="1164872" y="1295397"/>
                </a:lnTo>
                <a:lnTo>
                  <a:pt x="719931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20892600">
            <a:off x="324000" y="4941360"/>
            <a:ext cx="1439640" cy="1295640"/>
          </a:xfrm>
          <a:custGeom>
            <a:avLst/>
            <a:gdLst/>
            <a:ahLst/>
            <a:rect l="l" t="t" r="r" b="b"/>
            <a:pathLst>
              <a:path w="1439863" h="1295400">
                <a:moveTo>
                  <a:pt x="2" y="494798"/>
                </a:moveTo>
                <a:lnTo>
                  <a:pt x="549982" y="494801"/>
                </a:lnTo>
                <a:lnTo>
                  <a:pt x="719932" y="0"/>
                </a:lnTo>
                <a:lnTo>
                  <a:pt x="889881" y="494801"/>
                </a:lnTo>
                <a:lnTo>
                  <a:pt x="1439861" y="494798"/>
                </a:lnTo>
                <a:lnTo>
                  <a:pt x="994916" y="800598"/>
                </a:lnTo>
                <a:lnTo>
                  <a:pt x="1164873" y="1295397"/>
                </a:lnTo>
                <a:lnTo>
                  <a:pt x="719932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20892600">
            <a:off x="2700360" y="5013360"/>
            <a:ext cx="1440000" cy="1295280"/>
          </a:xfrm>
          <a:custGeom>
            <a:avLst/>
            <a:gdLst/>
            <a:ahLst/>
            <a:rect l="l" t="t" r="r" b="b"/>
            <a:pathLst>
              <a:path w="1439862" h="1295400">
                <a:moveTo>
                  <a:pt x="2" y="494798"/>
                </a:moveTo>
                <a:lnTo>
                  <a:pt x="549981" y="494801"/>
                </a:lnTo>
                <a:lnTo>
                  <a:pt x="719931" y="0"/>
                </a:lnTo>
                <a:lnTo>
                  <a:pt x="889881" y="494801"/>
                </a:lnTo>
                <a:lnTo>
                  <a:pt x="1439860" y="494798"/>
                </a:lnTo>
                <a:lnTo>
                  <a:pt x="994915" y="800598"/>
                </a:lnTo>
                <a:lnTo>
                  <a:pt x="1164872" y="1295397"/>
                </a:lnTo>
                <a:lnTo>
                  <a:pt x="719931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 rot="20892600">
            <a:off x="5076720" y="5013360"/>
            <a:ext cx="1440000" cy="1295280"/>
          </a:xfrm>
          <a:custGeom>
            <a:avLst/>
            <a:gdLst/>
            <a:ahLst/>
            <a:rect l="l" t="t" r="r" b="b"/>
            <a:pathLst>
              <a:path w="1439863" h="1295400">
                <a:moveTo>
                  <a:pt x="2" y="494798"/>
                </a:moveTo>
                <a:lnTo>
                  <a:pt x="549982" y="494801"/>
                </a:lnTo>
                <a:lnTo>
                  <a:pt x="719932" y="0"/>
                </a:lnTo>
                <a:lnTo>
                  <a:pt x="889881" y="494801"/>
                </a:lnTo>
                <a:lnTo>
                  <a:pt x="1439861" y="494798"/>
                </a:lnTo>
                <a:lnTo>
                  <a:pt x="994916" y="800598"/>
                </a:lnTo>
                <a:lnTo>
                  <a:pt x="1164873" y="1295397"/>
                </a:lnTo>
                <a:lnTo>
                  <a:pt x="719932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20892600">
            <a:off x="2627280" y="260280"/>
            <a:ext cx="1440000" cy="1295640"/>
          </a:xfrm>
          <a:custGeom>
            <a:avLst/>
            <a:gdLst/>
            <a:ahLst/>
            <a:rect l="l" t="t" r="r" b="b"/>
            <a:pathLst>
              <a:path w="1439862" h="1295400">
                <a:moveTo>
                  <a:pt x="2" y="494798"/>
                </a:moveTo>
                <a:lnTo>
                  <a:pt x="549981" y="494801"/>
                </a:lnTo>
                <a:lnTo>
                  <a:pt x="719931" y="0"/>
                </a:lnTo>
                <a:lnTo>
                  <a:pt x="889881" y="494801"/>
                </a:lnTo>
                <a:lnTo>
                  <a:pt x="1439860" y="494798"/>
                </a:lnTo>
                <a:lnTo>
                  <a:pt x="994915" y="800598"/>
                </a:lnTo>
                <a:lnTo>
                  <a:pt x="1164872" y="1295397"/>
                </a:lnTo>
                <a:lnTo>
                  <a:pt x="719931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410400">
            <a:off x="7380360" y="5013000"/>
            <a:ext cx="1441440" cy="1295280"/>
          </a:xfrm>
          <a:custGeom>
            <a:avLst/>
            <a:gdLst/>
            <a:ahLst/>
            <a:rect l="l" t="t" r="r" b="b"/>
            <a:pathLst>
              <a:path w="1441450" h="1295400">
                <a:moveTo>
                  <a:pt x="2" y="494798"/>
                </a:moveTo>
                <a:lnTo>
                  <a:pt x="550588" y="494801"/>
                </a:lnTo>
                <a:lnTo>
                  <a:pt x="720725" y="0"/>
                </a:lnTo>
                <a:lnTo>
                  <a:pt x="890862" y="494801"/>
                </a:lnTo>
                <a:lnTo>
                  <a:pt x="1441448" y="494798"/>
                </a:lnTo>
                <a:lnTo>
                  <a:pt x="996013" y="800598"/>
                </a:lnTo>
                <a:lnTo>
                  <a:pt x="1166157" y="1295397"/>
                </a:lnTo>
                <a:lnTo>
                  <a:pt x="720725" y="989591"/>
                </a:lnTo>
                <a:lnTo>
                  <a:pt x="275293" y="1295397"/>
                </a:lnTo>
                <a:lnTo>
                  <a:pt x="44543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2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20892600">
            <a:off x="539640" y="476280"/>
            <a:ext cx="1440000" cy="1295280"/>
          </a:xfrm>
          <a:custGeom>
            <a:avLst/>
            <a:gdLst/>
            <a:ahLst/>
            <a:rect l="l" t="t" r="r" b="b"/>
            <a:pathLst>
              <a:path w="1439863" h="1295400">
                <a:moveTo>
                  <a:pt x="2" y="494798"/>
                </a:moveTo>
                <a:lnTo>
                  <a:pt x="549982" y="494801"/>
                </a:lnTo>
                <a:lnTo>
                  <a:pt x="719932" y="0"/>
                </a:lnTo>
                <a:lnTo>
                  <a:pt x="889881" y="494801"/>
                </a:lnTo>
                <a:lnTo>
                  <a:pt x="1439861" y="494798"/>
                </a:lnTo>
                <a:lnTo>
                  <a:pt x="994916" y="800598"/>
                </a:lnTo>
                <a:lnTo>
                  <a:pt x="1164873" y="1295397"/>
                </a:lnTo>
                <a:lnTo>
                  <a:pt x="719932" y="989591"/>
                </a:lnTo>
                <a:lnTo>
                  <a:pt x="274990" y="1295397"/>
                </a:lnTo>
                <a:lnTo>
                  <a:pt x="44494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34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410400">
            <a:off x="5076720" y="259920"/>
            <a:ext cx="1441440" cy="1295640"/>
          </a:xfrm>
          <a:custGeom>
            <a:avLst/>
            <a:gdLst/>
            <a:ahLst/>
            <a:rect l="l" t="t" r="r" b="b"/>
            <a:pathLst>
              <a:path w="1441450" h="1295400">
                <a:moveTo>
                  <a:pt x="2" y="494798"/>
                </a:moveTo>
                <a:lnTo>
                  <a:pt x="550588" y="494801"/>
                </a:lnTo>
                <a:lnTo>
                  <a:pt x="720725" y="0"/>
                </a:lnTo>
                <a:lnTo>
                  <a:pt x="890862" y="494801"/>
                </a:lnTo>
                <a:lnTo>
                  <a:pt x="1441448" y="494798"/>
                </a:lnTo>
                <a:lnTo>
                  <a:pt x="996013" y="800598"/>
                </a:lnTo>
                <a:lnTo>
                  <a:pt x="1166157" y="1295397"/>
                </a:lnTo>
                <a:lnTo>
                  <a:pt x="720725" y="989591"/>
                </a:lnTo>
                <a:lnTo>
                  <a:pt x="275293" y="1295397"/>
                </a:lnTo>
                <a:lnTo>
                  <a:pt x="44543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2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 rot="410400">
            <a:off x="6516720" y="2349000"/>
            <a:ext cx="1441440" cy="1295640"/>
          </a:xfrm>
          <a:custGeom>
            <a:avLst/>
            <a:gdLst/>
            <a:ahLst/>
            <a:rect l="l" t="t" r="r" b="b"/>
            <a:pathLst>
              <a:path w="1441450" h="1295400">
                <a:moveTo>
                  <a:pt x="2" y="494798"/>
                </a:moveTo>
                <a:lnTo>
                  <a:pt x="550588" y="494801"/>
                </a:lnTo>
                <a:lnTo>
                  <a:pt x="720725" y="0"/>
                </a:lnTo>
                <a:lnTo>
                  <a:pt x="890862" y="494801"/>
                </a:lnTo>
                <a:lnTo>
                  <a:pt x="1441448" y="494798"/>
                </a:lnTo>
                <a:lnTo>
                  <a:pt x="996013" y="800598"/>
                </a:lnTo>
                <a:lnTo>
                  <a:pt x="1166157" y="1295397"/>
                </a:lnTo>
                <a:lnTo>
                  <a:pt x="720725" y="989591"/>
                </a:lnTo>
                <a:lnTo>
                  <a:pt x="275293" y="1295397"/>
                </a:lnTo>
                <a:lnTo>
                  <a:pt x="445437" y="800598"/>
                </a:lnTo>
                <a:lnTo>
                  <a:pt x="2" y="494798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4d0808"/>
              </a:gs>
            </a:gsLst>
            <a:lin ang="22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826920" y="836640"/>
            <a:ext cx="7488360" cy="2592360"/>
          </a:xfrm>
          <a:custGeom>
            <a:avLst/>
            <a:gdLst>
              <a:gd name="textAreaLeft" fmla="*/ 167760 w 7488360"/>
              <a:gd name="textAreaRight" fmla="*/ 7320600 w 7488360"/>
              <a:gd name="textAreaTop" fmla="*/ 167760 h 2592360"/>
              <a:gd name="textAreaBottom" fmla="*/ 2424600 h 2592360"/>
            </a:gdLst>
            <a:ahLst/>
            <a:rect l="textAreaLeft" t="textAreaTop" r="textAreaRight" b="textAreaBottom"/>
            <a:pathLst>
              <a:path w="62389" h="21600">
                <a:moveTo>
                  <a:pt x="0" y="0"/>
                </a:moveTo>
                <a:lnTo>
                  <a:pt x="62389" y="0"/>
                </a:lnTo>
                <a:lnTo>
                  <a:pt x="62389" y="21600"/>
                </a:lnTo>
                <a:lnTo>
                  <a:pt x="0" y="21600"/>
                </a:lnTo>
                <a:close/>
              </a:path>
              <a:path fill="lightenLess" w="62389" h="21600">
                <a:moveTo>
                  <a:pt x="0" y="0"/>
                </a:moveTo>
                <a:lnTo>
                  <a:pt x="62389" y="0"/>
                </a:lnTo>
                <a:lnTo>
                  <a:pt x="60989" y="1400"/>
                </a:lnTo>
                <a:lnTo>
                  <a:pt x="1400" y="1400"/>
                </a:lnTo>
                <a:close/>
              </a:path>
              <a:path fill="darken" w="62389" h="21600">
                <a:moveTo>
                  <a:pt x="62389" y="0"/>
                </a:moveTo>
                <a:lnTo>
                  <a:pt x="62389" y="21600"/>
                </a:lnTo>
                <a:lnTo>
                  <a:pt x="60989" y="20200"/>
                </a:lnTo>
                <a:lnTo>
                  <a:pt x="60989" y="1400"/>
                </a:lnTo>
                <a:close/>
              </a:path>
              <a:path fill="darkenLess" w="62389" h="21600">
                <a:moveTo>
                  <a:pt x="62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89" y="20200"/>
                </a:lnTo>
                <a:close/>
              </a:path>
              <a:path fill="lighten" w="62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зовите числ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если половина – треть е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3924360" y="3141720"/>
                <a:ext cx="1509480" cy="27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826920" y="907920"/>
            <a:ext cx="7488360" cy="3961080"/>
          </a:xfrm>
          <a:custGeom>
            <a:avLst/>
            <a:gdLst>
              <a:gd name="textAreaLeft" fmla="*/ 256680 w 7488360"/>
              <a:gd name="textAreaRight" fmla="*/ 7231680 w 7488360"/>
              <a:gd name="textAreaTop" fmla="*/ 256680 h 3961080"/>
              <a:gd name="textAreaBottom" fmla="*/ 3704400 h 3961080"/>
            </a:gdLst>
            <a:ahLst/>
            <a:rect l="textAreaLeft" t="textAreaTop" r="textAreaRight" b="textAreaBottom"/>
            <a:pathLst>
              <a:path w="40833" h="21600">
                <a:moveTo>
                  <a:pt x="0" y="0"/>
                </a:moveTo>
                <a:lnTo>
                  <a:pt x="40833" y="0"/>
                </a:lnTo>
                <a:lnTo>
                  <a:pt x="40833" y="21600"/>
                </a:lnTo>
                <a:lnTo>
                  <a:pt x="0" y="21600"/>
                </a:lnTo>
                <a:close/>
              </a:path>
              <a:path fill="lightenLess" w="40833" h="21600">
                <a:moveTo>
                  <a:pt x="0" y="0"/>
                </a:moveTo>
                <a:lnTo>
                  <a:pt x="40833" y="0"/>
                </a:lnTo>
                <a:lnTo>
                  <a:pt x="39433" y="1400"/>
                </a:lnTo>
                <a:lnTo>
                  <a:pt x="1400" y="1400"/>
                </a:lnTo>
                <a:close/>
              </a:path>
              <a:path fill="darken" w="40833" h="21600">
                <a:moveTo>
                  <a:pt x="40833" y="0"/>
                </a:moveTo>
                <a:lnTo>
                  <a:pt x="40833" y="21600"/>
                </a:lnTo>
                <a:lnTo>
                  <a:pt x="39433" y="20200"/>
                </a:lnTo>
                <a:lnTo>
                  <a:pt x="39433" y="1400"/>
                </a:lnTo>
                <a:close/>
              </a:path>
              <a:path fill="darkenLess" w="40833" h="21600">
                <a:moveTo>
                  <a:pt x="40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3" y="20200"/>
                </a:lnTo>
                <a:close/>
              </a:path>
              <a:path fill="lighten" w="40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ой циф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анчивается произвед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сех чисел от </a:t>
            </a: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8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0"/>
          <p:cNvPicPr/>
          <p:nvPr/>
        </p:nvPicPr>
        <p:blipFill>
          <a:blip r:embed="rId4"/>
          <a:stretch/>
        </p:blipFill>
        <p:spPr>
          <a:xfrm>
            <a:off x="3708360" y="436572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>
            <a:hlinkClick r:id="rId1" action="ppaction://hlinksldjump"/>
          </p:cNvPr>
          <p:cNvSpPr/>
          <p:nvPr/>
        </p:nvSpPr>
        <p:spPr>
          <a:xfrm>
            <a:off x="826920" y="549360"/>
            <a:ext cx="7488360" cy="3960720"/>
          </a:xfrm>
          <a:custGeom>
            <a:avLst/>
            <a:gdLst>
              <a:gd name="textAreaLeft" fmla="*/ 256680 w 7488360"/>
              <a:gd name="textAreaRight" fmla="*/ 7231680 w 7488360"/>
              <a:gd name="textAreaTop" fmla="*/ 256680 h 3960720"/>
              <a:gd name="textAreaBottom" fmla="*/ 3704040 h 3960720"/>
            </a:gdLst>
            <a:ahLst/>
            <a:rect l="textAreaLeft" t="textAreaTop" r="textAreaRight" b="textAreaBottom"/>
            <a:pathLst>
              <a:path w="40836" h="21600">
                <a:moveTo>
                  <a:pt x="0" y="0"/>
                </a:moveTo>
                <a:lnTo>
                  <a:pt x="40836" y="0"/>
                </a:lnTo>
                <a:lnTo>
                  <a:pt x="40836" y="21600"/>
                </a:lnTo>
                <a:lnTo>
                  <a:pt x="0" y="21600"/>
                </a:lnTo>
                <a:close/>
              </a:path>
              <a:path fill="lightenLess" w="40836" h="21600">
                <a:moveTo>
                  <a:pt x="0" y="0"/>
                </a:moveTo>
                <a:lnTo>
                  <a:pt x="40836" y="0"/>
                </a:lnTo>
                <a:lnTo>
                  <a:pt x="39436" y="1400"/>
                </a:lnTo>
                <a:lnTo>
                  <a:pt x="1400" y="1400"/>
                </a:lnTo>
                <a:close/>
              </a:path>
              <a:path fill="darken" w="40836" h="21600">
                <a:moveTo>
                  <a:pt x="40836" y="0"/>
                </a:moveTo>
                <a:lnTo>
                  <a:pt x="40836" y="21600"/>
                </a:lnTo>
                <a:lnTo>
                  <a:pt x="39436" y="20200"/>
                </a:lnTo>
                <a:lnTo>
                  <a:pt x="39436" y="1400"/>
                </a:lnTo>
                <a:close/>
              </a:path>
              <a:path fill="darkenLess" w="40836" h="21600">
                <a:moveTo>
                  <a:pt x="40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6" y="20200"/>
                </a:lnTo>
                <a:close/>
              </a:path>
              <a:path fill="lighten" w="40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сставьте в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кобки так, чтобы зна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учившегося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ыло бы равно </a:t>
            </a:r>
            <a:r>
              <a:rPr b="1" lang="ru-RU" sz="8000" spc="-1" strike="noStrike">
                <a:solidFill>
                  <a:srgbClr val="ff0066"/>
                </a:solidFill>
                <a:latin typeface="Times New Roman"/>
              </a:rPr>
              <a:t>75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Object 8"/>
              <p:cNvSpPr txBox="1"/>
              <p:nvPr/>
            </p:nvSpPr>
            <p:spPr>
              <a:xfrm>
                <a:off x="1523880" y="4724280"/>
                <a:ext cx="60962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WordArt 10"/>
          <p:cNvSpPr txBox="1"/>
          <p:nvPr/>
        </p:nvSpPr>
        <p:spPr>
          <a:xfrm>
            <a:off x="1405080" y="4826160"/>
            <a:ext cx="633564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(             ) (      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826920" y="981000"/>
            <a:ext cx="7488360" cy="3960720"/>
          </a:xfrm>
          <a:custGeom>
            <a:avLst/>
            <a:gdLst>
              <a:gd name="textAreaLeft" fmla="*/ 256680 w 7488360"/>
              <a:gd name="textAreaRight" fmla="*/ 7231680 w 7488360"/>
              <a:gd name="textAreaTop" fmla="*/ 256680 h 3960720"/>
              <a:gd name="textAreaBottom" fmla="*/ 3704040 h 3960720"/>
            </a:gdLst>
            <a:ahLst/>
            <a:rect l="textAreaLeft" t="textAreaTop" r="textAreaRight" b="textAreaBottom"/>
            <a:pathLst>
              <a:path w="40836" h="21600">
                <a:moveTo>
                  <a:pt x="0" y="0"/>
                </a:moveTo>
                <a:lnTo>
                  <a:pt x="40836" y="0"/>
                </a:lnTo>
                <a:lnTo>
                  <a:pt x="40836" y="21600"/>
                </a:lnTo>
                <a:lnTo>
                  <a:pt x="0" y="21600"/>
                </a:lnTo>
                <a:close/>
              </a:path>
              <a:path fill="lightenLess" w="40836" h="21600">
                <a:moveTo>
                  <a:pt x="0" y="0"/>
                </a:moveTo>
                <a:lnTo>
                  <a:pt x="40836" y="0"/>
                </a:lnTo>
                <a:lnTo>
                  <a:pt x="39436" y="1400"/>
                </a:lnTo>
                <a:lnTo>
                  <a:pt x="1400" y="1400"/>
                </a:lnTo>
                <a:close/>
              </a:path>
              <a:path fill="darken" w="40836" h="21600">
                <a:moveTo>
                  <a:pt x="40836" y="0"/>
                </a:moveTo>
                <a:lnTo>
                  <a:pt x="40836" y="21600"/>
                </a:lnTo>
                <a:lnTo>
                  <a:pt x="39436" y="20200"/>
                </a:lnTo>
                <a:lnTo>
                  <a:pt x="39436" y="1400"/>
                </a:lnTo>
                <a:close/>
              </a:path>
              <a:path fill="darkenLess" w="40836" h="21600">
                <a:moveTo>
                  <a:pt x="40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6" y="20200"/>
                </a:lnTo>
                <a:close/>
              </a:path>
              <a:path fill="lighten" w="40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ad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elix Titling"/>
              </a:rPr>
              <a:t>Восстанов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elix Titling"/>
              </a:rPr>
              <a:t>стертые циф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8"/>
          <p:cNvSpPr txBox="1"/>
          <p:nvPr/>
        </p:nvSpPr>
        <p:spPr>
          <a:xfrm>
            <a:off x="1692360" y="2852640"/>
            <a:ext cx="5759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_683&lt;506_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1692360" y="2854440"/>
            <a:ext cx="5759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683&lt;50691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5">
            <a:hlinkClick r:id="rId1" action="ppaction://hlinksldjump"/>
          </p:cNvPr>
          <p:cNvSpPr/>
          <p:nvPr/>
        </p:nvSpPr>
        <p:spPr>
          <a:xfrm>
            <a:off x="826920" y="1268280"/>
            <a:ext cx="7488360" cy="3961080"/>
          </a:xfrm>
          <a:custGeom>
            <a:avLst/>
            <a:gdLst>
              <a:gd name="textAreaLeft" fmla="*/ 256680 w 7488360"/>
              <a:gd name="textAreaRight" fmla="*/ 7231680 w 7488360"/>
              <a:gd name="textAreaTop" fmla="*/ 256680 h 3961080"/>
              <a:gd name="textAreaBottom" fmla="*/ 3704400 h 3961080"/>
            </a:gdLst>
            <a:ahLst/>
            <a:rect l="textAreaLeft" t="textAreaTop" r="textAreaRight" b="textAreaBottom"/>
            <a:pathLst>
              <a:path w="40833" h="21600">
                <a:moveTo>
                  <a:pt x="0" y="0"/>
                </a:moveTo>
                <a:lnTo>
                  <a:pt x="40833" y="0"/>
                </a:lnTo>
                <a:lnTo>
                  <a:pt x="40833" y="21600"/>
                </a:lnTo>
                <a:lnTo>
                  <a:pt x="0" y="21600"/>
                </a:lnTo>
                <a:close/>
              </a:path>
              <a:path fill="lightenLess" w="40833" h="21600">
                <a:moveTo>
                  <a:pt x="0" y="0"/>
                </a:moveTo>
                <a:lnTo>
                  <a:pt x="40833" y="0"/>
                </a:lnTo>
                <a:lnTo>
                  <a:pt x="39433" y="1400"/>
                </a:lnTo>
                <a:lnTo>
                  <a:pt x="1400" y="1400"/>
                </a:lnTo>
                <a:close/>
              </a:path>
              <a:path fill="darken" w="40833" h="21600">
                <a:moveTo>
                  <a:pt x="40833" y="0"/>
                </a:moveTo>
                <a:lnTo>
                  <a:pt x="40833" y="21600"/>
                </a:lnTo>
                <a:lnTo>
                  <a:pt x="39433" y="20200"/>
                </a:lnTo>
                <a:lnTo>
                  <a:pt x="39433" y="1400"/>
                </a:lnTo>
                <a:close/>
              </a:path>
              <a:path fill="darkenLess" w="40833" h="21600">
                <a:moveTo>
                  <a:pt x="40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3" y="20200"/>
                </a:lnTo>
                <a:close/>
              </a:path>
              <a:path fill="lighten" w="40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ишите число </a:t>
            </a: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3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 помощи пяти тро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8"/>
          <p:cNvSpPr txBox="1"/>
          <p:nvPr/>
        </p:nvSpPr>
        <p:spPr>
          <a:xfrm>
            <a:off x="971640" y="3789360"/>
            <a:ext cx="69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7=33+3+3:3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4">
            <a:hlinkClick r:id="rId1"/>
          </p:cNvPr>
          <p:cNvSpPr/>
          <p:nvPr/>
        </p:nvSpPr>
        <p:spPr>
          <a:xfrm>
            <a:off x="539640" y="836640"/>
            <a:ext cx="8136000" cy="4968720"/>
          </a:xfrm>
          <a:custGeom>
            <a:avLst/>
            <a:gdLst>
              <a:gd name="textAreaLeft" fmla="*/ 321840 w 8136000"/>
              <a:gd name="textAreaRight" fmla="*/ 7814160 w 8136000"/>
              <a:gd name="textAreaTop" fmla="*/ 321840 h 4968720"/>
              <a:gd name="textAreaBottom" fmla="*/ 4646880 h 4968720"/>
            </a:gdLst>
            <a:ahLst/>
            <a:rect l="textAreaLeft" t="textAreaTop" r="textAreaRight" b="textAreaBottom"/>
            <a:pathLst>
              <a:path w="35368" h="21600">
                <a:moveTo>
                  <a:pt x="0" y="0"/>
                </a:moveTo>
                <a:lnTo>
                  <a:pt x="35368" y="0"/>
                </a:lnTo>
                <a:lnTo>
                  <a:pt x="35368" y="21600"/>
                </a:lnTo>
                <a:lnTo>
                  <a:pt x="0" y="21600"/>
                </a:lnTo>
                <a:close/>
              </a:path>
              <a:path fill="lightenLess" w="35368" h="21600">
                <a:moveTo>
                  <a:pt x="0" y="0"/>
                </a:moveTo>
                <a:lnTo>
                  <a:pt x="35368" y="0"/>
                </a:lnTo>
                <a:lnTo>
                  <a:pt x="33968" y="1400"/>
                </a:lnTo>
                <a:lnTo>
                  <a:pt x="1400" y="1400"/>
                </a:lnTo>
                <a:close/>
              </a:path>
              <a:path fill="darken" w="35368" h="21600">
                <a:moveTo>
                  <a:pt x="35368" y="0"/>
                </a:moveTo>
                <a:lnTo>
                  <a:pt x="35368" y="21600"/>
                </a:lnTo>
                <a:lnTo>
                  <a:pt x="33968" y="20200"/>
                </a:lnTo>
                <a:lnTo>
                  <a:pt x="33968" y="1400"/>
                </a:lnTo>
                <a:close/>
              </a:path>
              <a:path fill="darkenLess" w="35368" h="21600">
                <a:moveTo>
                  <a:pt x="35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68" y="20200"/>
                </a:lnTo>
                <a:close/>
              </a:path>
              <a:path fill="lighten" w="35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тела стая гус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ин гусь впереди и два поз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ин гусь позади и два вперед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дин между дву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три в 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лько их бы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G00160_"/>
          <p:cNvPicPr/>
          <p:nvPr/>
        </p:nvPicPr>
        <p:blipFill>
          <a:blip r:embed="rId3"/>
          <a:stretch/>
        </p:blipFill>
        <p:spPr>
          <a:xfrm>
            <a:off x="7885080" y="5013360"/>
            <a:ext cx="47628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1042920" y="537372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475e76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, друг за другом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5000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rId1"/>
          </p:cNvPr>
          <p:cNvSpPr/>
          <p:nvPr/>
        </p:nvSpPr>
        <p:spPr>
          <a:xfrm>
            <a:off x="324000" y="1268280"/>
            <a:ext cx="8424720" cy="4321440"/>
          </a:xfrm>
          <a:custGeom>
            <a:avLst/>
            <a:gdLst>
              <a:gd name="textAreaLeft" fmla="*/ 280080 w 8424720"/>
              <a:gd name="textAreaRight" fmla="*/ 8144640 w 8424720"/>
              <a:gd name="textAreaTop" fmla="*/ 280080 h 4321440"/>
              <a:gd name="textAreaBottom" fmla="*/ 4041360 h 4321440"/>
            </a:gdLst>
            <a:ahLst/>
            <a:rect l="textAreaLeft" t="textAreaTop" r="textAreaRight" b="textAreaBottom"/>
            <a:pathLst>
              <a:path w="42108" h="21600">
                <a:moveTo>
                  <a:pt x="0" y="0"/>
                </a:moveTo>
                <a:lnTo>
                  <a:pt x="42108" y="0"/>
                </a:lnTo>
                <a:lnTo>
                  <a:pt x="42108" y="21600"/>
                </a:lnTo>
                <a:lnTo>
                  <a:pt x="0" y="21600"/>
                </a:lnTo>
                <a:close/>
              </a:path>
              <a:path fill="lightenLess" w="42108" h="21600">
                <a:moveTo>
                  <a:pt x="0" y="0"/>
                </a:moveTo>
                <a:lnTo>
                  <a:pt x="42108" y="0"/>
                </a:lnTo>
                <a:lnTo>
                  <a:pt x="40708" y="1400"/>
                </a:lnTo>
                <a:lnTo>
                  <a:pt x="1400" y="1400"/>
                </a:lnTo>
                <a:close/>
              </a:path>
              <a:path fill="darken" w="42108" h="21600">
                <a:moveTo>
                  <a:pt x="42108" y="0"/>
                </a:moveTo>
                <a:lnTo>
                  <a:pt x="42108" y="21600"/>
                </a:lnTo>
                <a:lnTo>
                  <a:pt x="40708" y="20200"/>
                </a:lnTo>
                <a:lnTo>
                  <a:pt x="40708" y="1400"/>
                </a:lnTo>
                <a:close/>
              </a:path>
              <a:path fill="darkenLess" w="42108" h="21600">
                <a:moveTo>
                  <a:pt x="42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08" y="20200"/>
                </a:lnTo>
                <a:close/>
              </a:path>
              <a:path fill="lighten" w="42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Женщина обращается к кому-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 вашего класса и говор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«Я тебе мама, но ты мне не сын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то это знач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G00160_"/>
          <p:cNvPicPr/>
          <p:nvPr/>
        </p:nvPicPr>
        <p:blipFill>
          <a:blip r:embed="rId3"/>
          <a:stretch/>
        </p:blipFill>
        <p:spPr>
          <a:xfrm>
            <a:off x="8244000" y="5084640"/>
            <a:ext cx="476280" cy="486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665280" y="5411880"/>
            <a:ext cx="781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Она обращается к девоч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>
            <a:hlinkClick r:id="rId1"/>
          </p:cNvPr>
          <p:cNvSpPr/>
          <p:nvPr/>
        </p:nvSpPr>
        <p:spPr>
          <a:xfrm>
            <a:off x="971640" y="1268280"/>
            <a:ext cx="7416720" cy="4608720"/>
          </a:xfrm>
          <a:custGeom>
            <a:avLst/>
            <a:gdLst>
              <a:gd name="textAreaLeft" fmla="*/ 298440 w 7416720"/>
              <a:gd name="textAreaRight" fmla="*/ 7118280 w 7416720"/>
              <a:gd name="textAreaTop" fmla="*/ 298440 h 4608720"/>
              <a:gd name="textAreaBottom" fmla="*/ 4310280 h 4608720"/>
            </a:gdLst>
            <a:ahLst/>
            <a:rect l="textAreaLeft" t="textAreaTop" r="textAreaRight" b="textAreaBottom"/>
            <a:pathLst>
              <a:path w="34759" h="21600">
                <a:moveTo>
                  <a:pt x="0" y="0"/>
                </a:moveTo>
                <a:lnTo>
                  <a:pt x="34759" y="0"/>
                </a:lnTo>
                <a:lnTo>
                  <a:pt x="34759" y="21600"/>
                </a:lnTo>
                <a:lnTo>
                  <a:pt x="0" y="21600"/>
                </a:lnTo>
                <a:close/>
              </a:path>
              <a:path fill="lightenLess" w="34759" h="21600">
                <a:moveTo>
                  <a:pt x="0" y="0"/>
                </a:moveTo>
                <a:lnTo>
                  <a:pt x="34759" y="0"/>
                </a:lnTo>
                <a:lnTo>
                  <a:pt x="33359" y="1400"/>
                </a:lnTo>
                <a:lnTo>
                  <a:pt x="1400" y="1400"/>
                </a:lnTo>
                <a:close/>
              </a:path>
              <a:path fill="darken" w="34759" h="21600">
                <a:moveTo>
                  <a:pt x="34759" y="0"/>
                </a:moveTo>
                <a:lnTo>
                  <a:pt x="34759" y="21600"/>
                </a:lnTo>
                <a:lnTo>
                  <a:pt x="33359" y="20200"/>
                </a:lnTo>
                <a:lnTo>
                  <a:pt x="33359" y="1400"/>
                </a:lnTo>
                <a:close/>
              </a:path>
              <a:path fill="darkenLess" w="34759" h="21600">
                <a:moveTo>
                  <a:pt x="34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9" y="20200"/>
                </a:lnTo>
                <a:close/>
              </a:path>
              <a:path fill="lighten" w="34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Разделите круглый с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тремя разрез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на 8 одинаковых ча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AG00160_"/>
          <p:cNvPicPr/>
          <p:nvPr/>
        </p:nvPicPr>
        <p:blipFill>
          <a:blip r:embed="rId3"/>
          <a:stretch/>
        </p:blipFill>
        <p:spPr>
          <a:xfrm>
            <a:off x="7840800" y="5319720"/>
            <a:ext cx="476280" cy="485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7"/>
          <p:cNvSpPr/>
          <p:nvPr/>
        </p:nvSpPr>
        <p:spPr>
          <a:xfrm>
            <a:off x="3130560" y="4076640"/>
            <a:ext cx="2881440" cy="1224000"/>
          </a:xfrm>
          <a:prstGeom prst="can">
            <a:avLst>
              <a:gd name="adj" fmla="val 406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9"/>
          <p:cNvSpPr/>
          <p:nvPr/>
        </p:nvSpPr>
        <p:spPr>
          <a:xfrm flipV="1">
            <a:off x="3132000" y="4724280"/>
            <a:ext cx="2881440" cy="217440"/>
          </a:xfrm>
          <a:custGeom>
            <a:avLst/>
            <a:gdLst>
              <a:gd name="textAreaLeft" fmla="*/ 0 w 2881440"/>
              <a:gd name="textAreaRight" fmla="*/ 2881800 w 2881440"/>
              <a:gd name="textAreaTop" fmla="*/ 360 h 217440"/>
              <a:gd name="textAreaBottom" fmla="*/ 218160 h 217440"/>
            </a:gdLst>
            <a:ahLst/>
            <a:rect l="textAreaLeft" t="textAreaTop" r="textAreaRight" b="textAreaBottom"/>
            <a:pathLst>
              <a:path fill="none" w="43038" h="22217">
                <a:moveTo>
                  <a:pt x="-1" y="18959"/>
                </a:moveTo>
                <a:cubicBezTo>
                  <a:pt x="1333" y="8133"/>
                  <a:pt x="10529" y="-1"/>
                  <a:pt x="21438" y="0"/>
                </a:cubicBezTo>
                <a:cubicBezTo>
                  <a:pt x="33367" y="0"/>
                  <a:pt x="43038" y="9670"/>
                  <a:pt x="43038" y="21600"/>
                </a:cubicBezTo>
                <a:cubicBezTo>
                  <a:pt x="43038" y="21805"/>
                  <a:pt x="43035" y="22011"/>
                  <a:pt x="43029" y="22217"/>
                </a:cubicBezTo>
              </a:path>
              <a:path stroke="0" w="43038" h="22217">
                <a:moveTo>
                  <a:pt x="-1" y="18959"/>
                </a:moveTo>
                <a:cubicBezTo>
                  <a:pt x="1333" y="8133"/>
                  <a:pt x="10529" y="-1"/>
                  <a:pt x="21438" y="0"/>
                </a:cubicBezTo>
                <a:cubicBezTo>
                  <a:pt x="33367" y="0"/>
                  <a:pt x="43038" y="9670"/>
                  <a:pt x="43038" y="21600"/>
                </a:cubicBezTo>
                <a:cubicBezTo>
                  <a:pt x="43038" y="21805"/>
                  <a:pt x="43035" y="22011"/>
                  <a:pt x="43029" y="22217"/>
                </a:cubicBezTo>
                <a:lnTo>
                  <a:pt x="21438" y="21600"/>
                </a:lnTo>
                <a:lnTo>
                  <a:pt x="-1" y="18959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5"/>
          <p:cNvGrpSpPr/>
          <p:nvPr/>
        </p:nvGrpSpPr>
        <p:grpSpPr>
          <a:xfrm>
            <a:off x="3565440" y="4149360"/>
            <a:ext cx="1943280" cy="1080000"/>
            <a:chOff x="3565440" y="4149360"/>
            <a:chExt cx="1943280" cy="1080000"/>
          </a:xfrm>
        </p:grpSpPr>
        <p:sp>
          <p:nvSpPr>
            <p:cNvPr id="223" name="Line 10"/>
            <p:cNvSpPr/>
            <p:nvPr/>
          </p:nvSpPr>
          <p:spPr>
            <a:xfrm flipV="1">
              <a:off x="3565440" y="4149360"/>
              <a:ext cx="1943280" cy="358920"/>
            </a:xfrm>
            <a:prstGeom prst="line">
              <a:avLst/>
            </a:prstGeom>
            <a:ln w="57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3565440" y="4508640"/>
              <a:ext cx="0" cy="7207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3780000" y="4121280"/>
            <a:ext cx="1512720" cy="1108080"/>
            <a:chOff x="3780000" y="4121280"/>
            <a:chExt cx="1512720" cy="1108080"/>
          </a:xfrm>
        </p:grpSpPr>
        <p:sp>
          <p:nvSpPr>
            <p:cNvPr id="226" name="Line 12"/>
            <p:cNvSpPr/>
            <p:nvPr/>
          </p:nvSpPr>
          <p:spPr>
            <a:xfrm>
              <a:off x="3780000" y="4121280"/>
              <a:ext cx="1512720" cy="38736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>
              <a:off x="5292720" y="4508640"/>
              <a:ext cx="0" cy="720720"/>
            </a:xfrm>
            <a:prstGeom prst="line">
              <a:avLst/>
            </a:prstGeom>
            <a:ln w="5724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7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28"/>
          <p:cNvSpPr/>
          <p:nvPr/>
        </p:nvSpPr>
        <p:spPr>
          <a:xfrm>
            <a:off x="6013440" y="5661000"/>
            <a:ext cx="574560" cy="57456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">
            <a:hlinkClick r:id="rId1"/>
          </p:cNvPr>
          <p:cNvSpPr/>
          <p:nvPr/>
        </p:nvSpPr>
        <p:spPr>
          <a:xfrm>
            <a:off x="755640" y="476280"/>
            <a:ext cx="7632720" cy="2952720"/>
          </a:xfrm>
          <a:custGeom>
            <a:avLst/>
            <a:gdLst>
              <a:gd name="textAreaLeft" fmla="*/ 191160 w 7632720"/>
              <a:gd name="textAreaRight" fmla="*/ 7441560 w 7632720"/>
              <a:gd name="textAreaTop" fmla="*/ 191160 h 2952720"/>
              <a:gd name="textAreaBottom" fmla="*/ 2761560 h 2952720"/>
            </a:gdLst>
            <a:ahLst/>
            <a:rect l="textAreaLeft" t="textAreaTop" r="textAreaRight" b="textAreaBottom"/>
            <a:pathLst>
              <a:path w="55831" h="21600">
                <a:moveTo>
                  <a:pt x="0" y="0"/>
                </a:moveTo>
                <a:lnTo>
                  <a:pt x="55831" y="0"/>
                </a:lnTo>
                <a:lnTo>
                  <a:pt x="55831" y="21600"/>
                </a:lnTo>
                <a:lnTo>
                  <a:pt x="0" y="21600"/>
                </a:lnTo>
                <a:close/>
              </a:path>
              <a:path fill="lightenLess" w="55831" h="21600">
                <a:moveTo>
                  <a:pt x="0" y="0"/>
                </a:moveTo>
                <a:lnTo>
                  <a:pt x="55831" y="0"/>
                </a:lnTo>
                <a:lnTo>
                  <a:pt x="54431" y="1400"/>
                </a:lnTo>
                <a:lnTo>
                  <a:pt x="1400" y="1400"/>
                </a:lnTo>
                <a:close/>
              </a:path>
              <a:path fill="darken" w="55831" h="21600">
                <a:moveTo>
                  <a:pt x="55831" y="0"/>
                </a:moveTo>
                <a:lnTo>
                  <a:pt x="55831" y="21600"/>
                </a:lnTo>
                <a:lnTo>
                  <a:pt x="54431" y="20200"/>
                </a:lnTo>
                <a:lnTo>
                  <a:pt x="54431" y="1400"/>
                </a:lnTo>
                <a:close/>
              </a:path>
              <a:path fill="darkenLess" w="55831" h="21600">
                <a:moveTo>
                  <a:pt x="55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31" y="20200"/>
                </a:lnTo>
                <a:close/>
              </a:path>
              <a:path fill="lighten" w="55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еред вами черте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с пятью фигу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Я полагаю, что на черте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нет «лишней» фиг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ак ли эт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G00160_"/>
          <p:cNvPicPr/>
          <p:nvPr/>
        </p:nvPicPr>
        <p:blipFill>
          <a:blip r:embed="rId3"/>
          <a:stretch/>
        </p:blipFill>
        <p:spPr>
          <a:xfrm>
            <a:off x="7885080" y="2943360"/>
            <a:ext cx="476280" cy="48564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9"/>
          <p:cNvGrpSpPr/>
          <p:nvPr/>
        </p:nvGrpSpPr>
        <p:grpSpPr>
          <a:xfrm>
            <a:off x="611280" y="4149720"/>
            <a:ext cx="1152360" cy="1152360"/>
            <a:chOff x="611280" y="4149720"/>
            <a:chExt cx="1152360" cy="1152360"/>
          </a:xfrm>
        </p:grpSpPr>
        <p:sp>
          <p:nvSpPr>
            <p:cNvPr id="233" name="Rectangle 8"/>
            <p:cNvSpPr/>
            <p:nvPr/>
          </p:nvSpPr>
          <p:spPr>
            <a:xfrm>
              <a:off x="611280" y="4149720"/>
              <a:ext cx="1152360" cy="1152360"/>
            </a:xfrm>
            <a:prstGeom prst="rect">
              <a:avLst/>
            </a:pr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"/>
            <p:cNvSpPr/>
            <p:nvPr/>
          </p:nvSpPr>
          <p:spPr>
            <a:xfrm>
              <a:off x="611280" y="4149720"/>
              <a:ext cx="1152360" cy="1150920"/>
            </a:xfrm>
            <a:prstGeom prst="ellipse">
              <a:avLst/>
            </a:pr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0"/>
          <p:cNvGrpSpPr/>
          <p:nvPr/>
        </p:nvGrpSpPr>
        <p:grpSpPr>
          <a:xfrm>
            <a:off x="2268360" y="4365720"/>
            <a:ext cx="1368360" cy="936360"/>
            <a:chOff x="2268360" y="4365720"/>
            <a:chExt cx="1368360" cy="936360"/>
          </a:xfrm>
        </p:grpSpPr>
        <p:sp>
          <p:nvSpPr>
            <p:cNvPr id="236" name="Rectangle 12"/>
            <p:cNvSpPr/>
            <p:nvPr/>
          </p:nvSpPr>
          <p:spPr>
            <a:xfrm>
              <a:off x="2268360" y="4365720"/>
              <a:ext cx="936720" cy="9363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3"/>
            <p:cNvSpPr/>
            <p:nvPr/>
          </p:nvSpPr>
          <p:spPr>
            <a:xfrm>
              <a:off x="2700360" y="4365720"/>
              <a:ext cx="936360" cy="936360"/>
            </a:xfrm>
            <a:prstGeom prst="ellipse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2"/>
          <p:cNvGrpSpPr/>
          <p:nvPr/>
        </p:nvGrpSpPr>
        <p:grpSpPr>
          <a:xfrm>
            <a:off x="7162920" y="3860640"/>
            <a:ext cx="1441440" cy="1441440"/>
            <a:chOff x="7162920" y="3860640"/>
            <a:chExt cx="1441440" cy="1441440"/>
          </a:xfrm>
        </p:grpSpPr>
        <p:sp>
          <p:nvSpPr>
            <p:cNvPr id="239" name="Oval 15"/>
            <p:cNvSpPr/>
            <p:nvPr/>
          </p:nvSpPr>
          <p:spPr>
            <a:xfrm>
              <a:off x="7667640" y="3860640"/>
              <a:ext cx="936720" cy="936720"/>
            </a:xfrm>
            <a:prstGeom prst="ellipse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6"/>
            <p:cNvSpPr/>
            <p:nvPr/>
          </p:nvSpPr>
          <p:spPr>
            <a:xfrm>
              <a:off x="7162920" y="4365360"/>
              <a:ext cx="936360" cy="936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1"/>
          <p:cNvGrpSpPr/>
          <p:nvPr/>
        </p:nvGrpSpPr>
        <p:grpSpPr>
          <a:xfrm>
            <a:off x="5580000" y="4365720"/>
            <a:ext cx="1154160" cy="936360"/>
            <a:chOff x="5580000" y="4365720"/>
            <a:chExt cx="1154160" cy="936360"/>
          </a:xfrm>
        </p:grpSpPr>
        <p:sp>
          <p:nvSpPr>
            <p:cNvPr id="242" name="Oval 14"/>
            <p:cNvSpPr/>
            <p:nvPr/>
          </p:nvSpPr>
          <p:spPr>
            <a:xfrm>
              <a:off x="5724720" y="4365720"/>
              <a:ext cx="936360" cy="93636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7"/>
            <p:cNvSpPr/>
            <p:nvPr/>
          </p:nvSpPr>
          <p:spPr>
            <a:xfrm>
              <a:off x="5580000" y="4365720"/>
              <a:ext cx="1154160" cy="93636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104292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771640" y="5661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442764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6084720" y="5661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1"/>
          <p:cNvGrpSpPr/>
          <p:nvPr/>
        </p:nvGrpSpPr>
        <p:grpSpPr>
          <a:xfrm>
            <a:off x="3995640" y="4149720"/>
            <a:ext cx="1152720" cy="1152360"/>
            <a:chOff x="3995640" y="4149720"/>
            <a:chExt cx="1152720" cy="1152360"/>
          </a:xfrm>
        </p:grpSpPr>
        <p:sp>
          <p:nvSpPr>
            <p:cNvPr id="249" name="Oval 29"/>
            <p:cNvSpPr/>
            <p:nvPr/>
          </p:nvSpPr>
          <p:spPr>
            <a:xfrm>
              <a:off x="3995640" y="4149720"/>
              <a:ext cx="1152720" cy="1152360"/>
            </a:xfrm>
            <a:prstGeom prst="ellipse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4168800" y="4335480"/>
              <a:ext cx="792000" cy="79200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32"/>
          <p:cNvSpPr/>
          <p:nvPr/>
        </p:nvSpPr>
        <p:spPr>
          <a:xfrm>
            <a:off x="788508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660"/>
                            </p:stCondLst>
                            <p:childTnLst>
                              <p:par>
                                <p:cTn id="7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7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466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8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660"/>
                            </p:stCondLst>
                            <p:childTnLst>
                              <p:par>
                                <p:cTn id="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>
            <a:hlinkClick r:id="rId1"/>
          </p:cNvPr>
          <p:cNvSpPr/>
          <p:nvPr/>
        </p:nvSpPr>
        <p:spPr>
          <a:xfrm>
            <a:off x="431640" y="1197000"/>
            <a:ext cx="8280720" cy="4464000"/>
          </a:xfrm>
          <a:custGeom>
            <a:avLst/>
            <a:gdLst>
              <a:gd name="textAreaLeft" fmla="*/ 289080 w 8280720"/>
              <a:gd name="textAreaRight" fmla="*/ 7991640 w 8280720"/>
              <a:gd name="textAreaTop" fmla="*/ 289080 h 4464000"/>
              <a:gd name="textAreaBottom" fmla="*/ 4174920 h 4464000"/>
            </a:gdLst>
            <a:ahLst/>
            <a:rect l="textAreaLeft" t="textAreaTop" r="textAreaRight" b="textAreaBottom"/>
            <a:pathLst>
              <a:path w="40067" h="21600">
                <a:moveTo>
                  <a:pt x="0" y="0"/>
                </a:moveTo>
                <a:lnTo>
                  <a:pt x="40067" y="0"/>
                </a:lnTo>
                <a:lnTo>
                  <a:pt x="40067" y="21600"/>
                </a:lnTo>
                <a:lnTo>
                  <a:pt x="0" y="21600"/>
                </a:lnTo>
                <a:close/>
              </a:path>
              <a:path fill="lightenLess" w="40067" h="21600">
                <a:moveTo>
                  <a:pt x="0" y="0"/>
                </a:moveTo>
                <a:lnTo>
                  <a:pt x="40067" y="0"/>
                </a:lnTo>
                <a:lnTo>
                  <a:pt x="38667" y="1400"/>
                </a:lnTo>
                <a:lnTo>
                  <a:pt x="1400" y="1400"/>
                </a:lnTo>
                <a:close/>
              </a:path>
              <a:path fill="darken" w="40067" h="21600">
                <a:moveTo>
                  <a:pt x="40067" y="0"/>
                </a:moveTo>
                <a:lnTo>
                  <a:pt x="40067" y="21600"/>
                </a:lnTo>
                <a:lnTo>
                  <a:pt x="38667" y="20200"/>
                </a:lnTo>
                <a:lnTo>
                  <a:pt x="38667" y="1400"/>
                </a:lnTo>
                <a:close/>
              </a:path>
              <a:path fill="darkenLess" w="40067" h="21600">
                <a:moveTo>
                  <a:pt x="40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67" y="20200"/>
                </a:lnTo>
                <a:close/>
              </a:path>
              <a:path fill="lighten" w="40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Исключите лишнее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AG00160_"/>
          <p:cNvPicPr/>
          <p:nvPr/>
        </p:nvPicPr>
        <p:blipFill>
          <a:blip r:embed="rId3"/>
          <a:stretch/>
        </p:blipFill>
        <p:spPr>
          <a:xfrm>
            <a:off x="8172360" y="5084640"/>
            <a:ext cx="476280" cy="486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611280" y="32814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) пароход, лодка, катер, поезд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11280" y="2637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) тарелка, ложка, чемодан, чашка, ви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611280" y="3933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в) сапоги, носк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туфли, босоножки, кросс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4067280" y="2708280"/>
            <a:ext cx="1726920" cy="504720"/>
          </a:xfrm>
          <a:prstGeom prst="rect">
            <a:avLst/>
          </a:prstGeom>
          <a:noFill/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5219640" y="3357720"/>
            <a:ext cx="1297080" cy="504720"/>
          </a:xfrm>
          <a:prstGeom prst="rect">
            <a:avLst/>
          </a:prstGeom>
          <a:noFill/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2484360" y="4005360"/>
            <a:ext cx="1295640" cy="504720"/>
          </a:xfrm>
          <a:prstGeom prst="rect">
            <a:avLst/>
          </a:prstGeom>
          <a:noFill/>
          <a:ln w="889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8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630"/>
                            </p:stCondLst>
                            <p:childTnLst>
                              <p:par>
                                <p:cTn id="8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230"/>
                            </p:stCondLst>
                            <p:childTnLst>
                              <p:par>
                                <p:cTn id="8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6076" r="0" b="0"/>
          <a:stretch/>
        </p:blipFill>
        <p:spPr>
          <a:xfrm>
            <a:off x="3794040" y="2898720"/>
            <a:ext cx="1559160" cy="2016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Felix Titling"/>
              </a:rPr>
              <a:t>МАТЕМАТИЧЕСКОЕ </a:t>
            </a:r>
            <a:br>
              <a:rPr sz="5400"/>
            </a:br>
            <a:r>
              <a:rPr b="1" lang="ru-RU" sz="5400" spc="-1" strike="noStrike">
                <a:solidFill>
                  <a:srgbClr val="cc00cc"/>
                </a:solidFill>
                <a:latin typeface="Felix Titling"/>
              </a:rPr>
              <a:t>ПУТЕШЕСТВИЕ</a:t>
            </a:r>
            <a:endParaRPr b="0" lang="en-US" sz="5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771280" y="5780160"/>
            <a:ext cx="37436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541600" cy="316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4">
            <a:hlinkClick r:id="rId1"/>
          </p:cNvPr>
          <p:cNvSpPr/>
          <p:nvPr/>
        </p:nvSpPr>
        <p:spPr>
          <a:xfrm>
            <a:off x="611280" y="1123920"/>
            <a:ext cx="7920000" cy="4608720"/>
          </a:xfrm>
          <a:custGeom>
            <a:avLst/>
            <a:gdLst>
              <a:gd name="textAreaLeft" fmla="*/ 298440 w 7920000"/>
              <a:gd name="textAreaRight" fmla="*/ 7621560 w 7920000"/>
              <a:gd name="textAreaTop" fmla="*/ 298440 h 4608720"/>
              <a:gd name="textAreaBottom" fmla="*/ 4310280 h 4608720"/>
            </a:gdLst>
            <a:ahLst/>
            <a:rect l="textAreaLeft" t="textAreaTop" r="textAreaRight" b="textAreaBottom"/>
            <a:pathLst>
              <a:path w="37118" h="21600">
                <a:moveTo>
                  <a:pt x="0" y="0"/>
                </a:moveTo>
                <a:lnTo>
                  <a:pt x="37118" y="0"/>
                </a:lnTo>
                <a:lnTo>
                  <a:pt x="37118" y="21600"/>
                </a:lnTo>
                <a:lnTo>
                  <a:pt x="0" y="21600"/>
                </a:lnTo>
                <a:close/>
              </a:path>
              <a:path fill="lightenLess" w="37118" h="21600">
                <a:moveTo>
                  <a:pt x="0" y="0"/>
                </a:moveTo>
                <a:lnTo>
                  <a:pt x="37118" y="0"/>
                </a:lnTo>
                <a:lnTo>
                  <a:pt x="35718" y="1400"/>
                </a:lnTo>
                <a:lnTo>
                  <a:pt x="1400" y="1400"/>
                </a:lnTo>
                <a:close/>
              </a:path>
              <a:path fill="darken" w="37118" h="21600">
                <a:moveTo>
                  <a:pt x="37118" y="0"/>
                </a:moveTo>
                <a:lnTo>
                  <a:pt x="37118" y="21600"/>
                </a:lnTo>
                <a:lnTo>
                  <a:pt x="35718" y="20200"/>
                </a:lnTo>
                <a:lnTo>
                  <a:pt x="35718" y="1400"/>
                </a:lnTo>
                <a:close/>
              </a:path>
              <a:path fill="darkenLess" w="37118" h="21600">
                <a:moveTo>
                  <a:pt x="37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8" y="20200"/>
                </a:lnTo>
                <a:close/>
              </a:path>
              <a:path fill="lighten" w="37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ключите «лишнюю» фигу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AG00160_"/>
          <p:cNvPicPr/>
          <p:nvPr/>
        </p:nvPicPr>
        <p:blipFill>
          <a:blip r:embed="rId3"/>
          <a:stretch/>
        </p:blipFill>
        <p:spPr>
          <a:xfrm>
            <a:off x="7956720" y="5157720"/>
            <a:ext cx="475920" cy="4860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31"/>
          <p:cNvGrpSpPr/>
          <p:nvPr/>
        </p:nvGrpSpPr>
        <p:grpSpPr>
          <a:xfrm>
            <a:off x="896760" y="3860280"/>
            <a:ext cx="797400" cy="1054800"/>
            <a:chOff x="896760" y="3860280"/>
            <a:chExt cx="797400" cy="1054800"/>
          </a:xfrm>
        </p:grpSpPr>
        <p:sp>
          <p:nvSpPr>
            <p:cNvPr id="265" name="Arc 7"/>
            <p:cNvSpPr/>
            <p:nvPr/>
          </p:nvSpPr>
          <p:spPr>
            <a:xfrm rot="931800">
              <a:off x="971640" y="4192200"/>
              <a:ext cx="647640" cy="647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879"/>
                    <a:pt x="4120" y="6745"/>
                    <a:pt x="10808" y="2888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879"/>
                    <a:pt x="4120" y="6745"/>
                    <a:pt x="10808" y="2888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 flipV="1">
              <a:off x="1225800" y="3860280"/>
              <a:ext cx="7272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1298520" y="3860640"/>
              <a:ext cx="7164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1114560" y="43369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6"/>
          <p:cNvGrpSpPr/>
          <p:nvPr/>
        </p:nvGrpSpPr>
        <p:grpSpPr>
          <a:xfrm>
            <a:off x="6911280" y="3933720"/>
            <a:ext cx="864720" cy="981720"/>
            <a:chOff x="6911280" y="3933720"/>
            <a:chExt cx="864720" cy="981720"/>
          </a:xfrm>
        </p:grpSpPr>
        <p:sp>
          <p:nvSpPr>
            <p:cNvPr id="270" name="Arc 11"/>
            <p:cNvSpPr/>
            <p:nvPr/>
          </p:nvSpPr>
          <p:spPr>
            <a:xfrm rot="1545000">
              <a:off x="7019640" y="4159080"/>
              <a:ext cx="647640" cy="647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462"/>
                    <a:pt x="1" y="21325"/>
                    <a:pt x="3" y="21188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21462"/>
                    <a:pt x="1" y="21325"/>
                    <a:pt x="3" y="21188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5"/>
            <p:cNvGrpSpPr/>
            <p:nvPr/>
          </p:nvGrpSpPr>
          <p:grpSpPr>
            <a:xfrm>
              <a:off x="7029720" y="3933720"/>
              <a:ext cx="657000" cy="514080"/>
              <a:chOff x="7029720" y="3933720"/>
              <a:chExt cx="657000" cy="51408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7309080" y="4303440"/>
                <a:ext cx="14436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1"/>
              <p:cNvSpPr/>
              <p:nvPr/>
            </p:nvSpPr>
            <p:spPr>
              <a:xfrm flipH="1">
                <a:off x="7470720" y="3933720"/>
                <a:ext cx="21600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"/>
              <p:cNvSpPr/>
              <p:nvPr/>
            </p:nvSpPr>
            <p:spPr>
              <a:xfrm flipV="1">
                <a:off x="7029720" y="3942720"/>
                <a:ext cx="647640" cy="431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37"/>
          <p:cNvGrpSpPr/>
          <p:nvPr/>
        </p:nvGrpSpPr>
        <p:grpSpPr>
          <a:xfrm>
            <a:off x="4964400" y="3933360"/>
            <a:ext cx="1298160" cy="1002600"/>
            <a:chOff x="4964400" y="3933360"/>
            <a:chExt cx="1298160" cy="1002600"/>
          </a:xfrm>
        </p:grpSpPr>
        <p:grpSp>
          <p:nvGrpSpPr>
            <p:cNvPr id="276" name="Group 34"/>
            <p:cNvGrpSpPr/>
            <p:nvPr/>
          </p:nvGrpSpPr>
          <p:grpSpPr>
            <a:xfrm>
              <a:off x="5198400" y="3933360"/>
              <a:ext cx="1064160" cy="1002600"/>
              <a:chOff x="5198400" y="3933360"/>
              <a:chExt cx="1064160" cy="1002600"/>
            </a:xfrm>
          </p:grpSpPr>
          <p:sp>
            <p:nvSpPr>
              <p:cNvPr id="277" name="Arc 10"/>
              <p:cNvSpPr/>
              <p:nvPr/>
            </p:nvSpPr>
            <p:spPr>
              <a:xfrm rot="18385800">
                <a:off x="5485680" y="4159080"/>
                <a:ext cx="648000" cy="647640"/>
              </a:xfrm>
              <a:custGeom>
                <a:avLst/>
                <a:gdLst>
                  <a:gd name="textAreaLeft" fmla="*/ 0 w 648000"/>
                  <a:gd name="textAreaRight" fmla="*/ 648000 w 64800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0261"/>
                      <a:pt x="124" y="18925"/>
                      <a:pt x="371" y="17609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20261"/>
                      <a:pt x="124" y="18925"/>
                      <a:pt x="371" y="17609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5630400" y="4303800"/>
                <a:ext cx="144720" cy="14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3"/>
              <p:cNvSpPr/>
              <p:nvPr/>
            </p:nvSpPr>
            <p:spPr>
              <a:xfrm flipH="1" flipV="1">
                <a:off x="5198400" y="3933360"/>
                <a:ext cx="360360" cy="360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rc 24"/>
            <p:cNvSpPr/>
            <p:nvPr/>
          </p:nvSpPr>
          <p:spPr>
            <a:xfrm flipV="1" rot="7603200">
              <a:off x="5194440" y="3938760"/>
              <a:ext cx="385920" cy="76824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360 h 768240"/>
                <a:gd name="textAreaBottom" fmla="*/ 768960 h 76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3"/>
          <p:cNvGrpSpPr/>
          <p:nvPr/>
        </p:nvGrpSpPr>
        <p:grpSpPr>
          <a:xfrm>
            <a:off x="3815640" y="4111560"/>
            <a:ext cx="864720" cy="1342800"/>
            <a:chOff x="3815640" y="4111560"/>
            <a:chExt cx="864720" cy="1342800"/>
          </a:xfrm>
        </p:grpSpPr>
        <p:sp>
          <p:nvSpPr>
            <p:cNvPr id="282" name="Arc 9"/>
            <p:cNvSpPr/>
            <p:nvPr/>
          </p:nvSpPr>
          <p:spPr>
            <a:xfrm rot="12352200">
              <a:off x="3924000" y="4220280"/>
              <a:ext cx="647640" cy="6462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fill="none" w="43200" h="43128">
                  <a:moveTo>
                    <a:pt x="23358" y="-1"/>
                  </a:moveTo>
                  <a:cubicBezTo>
                    <a:pt x="34568" y="915"/>
                    <a:pt x="43200" y="10280"/>
                    <a:pt x="43200" y="21528"/>
                  </a:cubicBezTo>
                  <a:cubicBezTo>
                    <a:pt x="43200" y="33457"/>
                    <a:pt x="33529" y="43128"/>
                    <a:pt x="21600" y="43128"/>
                  </a:cubicBezTo>
                  <a:cubicBezTo>
                    <a:pt x="9670" y="43128"/>
                    <a:pt x="0" y="33457"/>
                    <a:pt x="0" y="21528"/>
                  </a:cubicBezTo>
                  <a:cubicBezTo>
                    <a:pt x="-1" y="13807"/>
                    <a:pt x="4120" y="6673"/>
                    <a:pt x="10808" y="2816"/>
                  </a:cubicBezTo>
                </a:path>
                <a:path stroke="0" w="43200" h="43128">
                  <a:moveTo>
                    <a:pt x="23358" y="-1"/>
                  </a:moveTo>
                  <a:cubicBezTo>
                    <a:pt x="34568" y="915"/>
                    <a:pt x="43200" y="10280"/>
                    <a:pt x="43200" y="21528"/>
                  </a:cubicBezTo>
                  <a:cubicBezTo>
                    <a:pt x="43200" y="33457"/>
                    <a:pt x="33529" y="43128"/>
                    <a:pt x="21600" y="43128"/>
                  </a:cubicBezTo>
                  <a:cubicBezTo>
                    <a:pt x="9670" y="43128"/>
                    <a:pt x="0" y="33457"/>
                    <a:pt x="0" y="21528"/>
                  </a:cubicBezTo>
                  <a:cubicBezTo>
                    <a:pt x="-1" y="13807"/>
                    <a:pt x="4120" y="6673"/>
                    <a:pt x="10808" y="2816"/>
                  </a:cubicBezTo>
                  <a:lnTo>
                    <a:pt x="21600" y="21528"/>
                  </a:lnTo>
                  <a:lnTo>
                    <a:pt x="23358" y="-1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8"/>
            <p:cNvSpPr/>
            <p:nvPr/>
          </p:nvSpPr>
          <p:spPr>
            <a:xfrm>
              <a:off x="4229280" y="46288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 flipH="1">
              <a:off x="3993840" y="4868640"/>
              <a:ext cx="289080" cy="576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 flipH="1">
              <a:off x="3992400" y="4806720"/>
              <a:ext cx="73080" cy="64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2382120" y="4118760"/>
            <a:ext cx="851760" cy="852120"/>
            <a:chOff x="2382120" y="4118760"/>
            <a:chExt cx="851760" cy="852120"/>
          </a:xfrm>
        </p:grpSpPr>
        <p:sp>
          <p:nvSpPr>
            <p:cNvPr id="287" name="Arc 8"/>
            <p:cNvSpPr/>
            <p:nvPr/>
          </p:nvSpPr>
          <p:spPr>
            <a:xfrm rot="3991800">
              <a:off x="2484000" y="4220640"/>
              <a:ext cx="647640" cy="647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879"/>
                    <a:pt x="4120" y="6745"/>
                    <a:pt x="10808" y="2888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879"/>
                    <a:pt x="4120" y="6745"/>
                    <a:pt x="10808" y="2888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>
              <a:off x="2747880" y="430668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V="1">
              <a:off x="3103560" y="4258800"/>
              <a:ext cx="73080" cy="144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0"/>
            <p:cNvSpPr/>
            <p:nvPr/>
          </p:nvSpPr>
          <p:spPr>
            <a:xfrm flipV="1">
              <a:off x="3005280" y="4255560"/>
              <a:ext cx="156960" cy="40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Oval 38"/>
          <p:cNvSpPr/>
          <p:nvPr/>
        </p:nvSpPr>
        <p:spPr>
          <a:xfrm>
            <a:off x="5581800" y="5661000"/>
            <a:ext cx="574560" cy="57456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104292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0"/>
          <p:cNvSpPr/>
          <p:nvPr/>
        </p:nvSpPr>
        <p:spPr>
          <a:xfrm>
            <a:off x="255600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1"/>
          <p:cNvSpPr/>
          <p:nvPr/>
        </p:nvSpPr>
        <p:spPr>
          <a:xfrm>
            <a:off x="406728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565164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7236000" y="566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0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4">
            <a:hlinkClick r:id="rId1"/>
          </p:cNvPr>
          <p:cNvSpPr/>
          <p:nvPr/>
        </p:nvSpPr>
        <p:spPr>
          <a:xfrm>
            <a:off x="539640" y="981000"/>
            <a:ext cx="7993080" cy="4535640"/>
          </a:xfrm>
          <a:custGeom>
            <a:avLst/>
            <a:gdLst>
              <a:gd name="textAreaLeft" fmla="*/ 293760 w 7993080"/>
              <a:gd name="textAreaRight" fmla="*/ 7699320 w 7993080"/>
              <a:gd name="textAreaTop" fmla="*/ 293760 h 4535640"/>
              <a:gd name="textAreaBottom" fmla="*/ 4241880 h 4535640"/>
            </a:gdLst>
            <a:ahLst/>
            <a:rect l="textAreaLeft" t="textAreaTop" r="textAreaRight" b="textAreaBottom"/>
            <a:pathLst>
              <a:path w="38064" h="21600">
                <a:moveTo>
                  <a:pt x="0" y="0"/>
                </a:moveTo>
                <a:lnTo>
                  <a:pt x="38064" y="0"/>
                </a:lnTo>
                <a:lnTo>
                  <a:pt x="38064" y="21600"/>
                </a:lnTo>
                <a:lnTo>
                  <a:pt x="0" y="21600"/>
                </a:lnTo>
                <a:close/>
              </a:path>
              <a:path fill="lightenLess" w="38064" h="21600">
                <a:moveTo>
                  <a:pt x="0" y="0"/>
                </a:moveTo>
                <a:lnTo>
                  <a:pt x="38064" y="0"/>
                </a:lnTo>
                <a:lnTo>
                  <a:pt x="36664" y="1400"/>
                </a:lnTo>
                <a:lnTo>
                  <a:pt x="1400" y="1400"/>
                </a:lnTo>
                <a:close/>
              </a:path>
              <a:path fill="darken" w="38064" h="21600">
                <a:moveTo>
                  <a:pt x="38064" y="0"/>
                </a:moveTo>
                <a:lnTo>
                  <a:pt x="38064" y="21600"/>
                </a:lnTo>
                <a:lnTo>
                  <a:pt x="36664" y="20200"/>
                </a:lnTo>
                <a:lnTo>
                  <a:pt x="36664" y="1400"/>
                </a:lnTo>
                <a:close/>
              </a:path>
              <a:path fill="darkenLess" w="38064" h="21600">
                <a:moveTo>
                  <a:pt x="38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64" y="20200"/>
                </a:lnTo>
                <a:close/>
              </a:path>
              <a:path fill="lighten" w="38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Волк и ли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соревновались в бег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Кто какое место заня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сли известно,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волк был одним из первы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cc"/>
                </a:solidFill>
                <a:latin typeface="Times New Roman"/>
              </a:rPr>
              <a:t>а лиса была предпоследн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Comp13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AG00160_"/>
          <p:cNvPicPr/>
          <p:nvPr/>
        </p:nvPicPr>
        <p:blipFill>
          <a:blip r:embed="rId3"/>
          <a:stretch/>
        </p:blipFill>
        <p:spPr>
          <a:xfrm>
            <a:off x="7812000" y="4797360"/>
            <a:ext cx="476280" cy="486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7"/>
          <p:cNvSpPr txBox="1"/>
          <p:nvPr/>
        </p:nvSpPr>
        <p:spPr>
          <a:xfrm>
            <a:off x="2158920" y="1922400"/>
            <a:ext cx="482436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са - 1 мест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к - 2 мес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>
            <a:hlinkClick r:id="rId1"/>
          </p:cNvPr>
          <p:cNvSpPr/>
          <p:nvPr/>
        </p:nvSpPr>
        <p:spPr>
          <a:xfrm>
            <a:off x="250920" y="1557360"/>
            <a:ext cx="8713800" cy="3959280"/>
          </a:xfrm>
          <a:custGeom>
            <a:avLst/>
            <a:gdLst>
              <a:gd name="textAreaLeft" fmla="*/ 256320 w 8713800"/>
              <a:gd name="textAreaRight" fmla="*/ 8457480 w 8713800"/>
              <a:gd name="textAreaTop" fmla="*/ 256320 h 3959280"/>
              <a:gd name="textAreaBottom" fmla="*/ 3702960 h 3959280"/>
            </a:gdLst>
            <a:ahLst/>
            <a:rect l="textAreaLeft" t="textAreaTop" r="textAreaRight" b="textAreaBottom"/>
            <a:pathLst>
              <a:path w="47536" h="21600">
                <a:moveTo>
                  <a:pt x="0" y="0"/>
                </a:moveTo>
                <a:lnTo>
                  <a:pt x="47536" y="0"/>
                </a:lnTo>
                <a:lnTo>
                  <a:pt x="47536" y="21600"/>
                </a:lnTo>
                <a:lnTo>
                  <a:pt x="0" y="21600"/>
                </a:lnTo>
                <a:close/>
              </a:path>
              <a:path fill="lightenLess" w="47536" h="21600">
                <a:moveTo>
                  <a:pt x="0" y="0"/>
                </a:moveTo>
                <a:lnTo>
                  <a:pt x="47536" y="0"/>
                </a:lnTo>
                <a:lnTo>
                  <a:pt x="46136" y="1400"/>
                </a:lnTo>
                <a:lnTo>
                  <a:pt x="1400" y="1400"/>
                </a:lnTo>
                <a:close/>
              </a:path>
              <a:path fill="darken" w="47536" h="21600">
                <a:moveTo>
                  <a:pt x="47536" y="0"/>
                </a:moveTo>
                <a:lnTo>
                  <a:pt x="47536" y="21600"/>
                </a:lnTo>
                <a:lnTo>
                  <a:pt x="46136" y="20200"/>
                </a:lnTo>
                <a:lnTo>
                  <a:pt x="46136" y="1400"/>
                </a:lnTo>
                <a:close/>
              </a:path>
              <a:path fill="darkenLess" w="47536" h="21600">
                <a:moveTo>
                  <a:pt x="4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36" y="20200"/>
                </a:lnTo>
                <a:close/>
              </a:path>
              <a:path fill="lighten" w="4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вершины угла в 7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ведена прям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ящая этот треуголь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 два равнобедренных треуг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углы данного треуг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4">
            <a:hlinkClick r:id="rId1"/>
          </p:cNvPr>
          <p:cNvSpPr/>
          <p:nvPr/>
        </p:nvSpPr>
        <p:spPr>
          <a:xfrm>
            <a:off x="431640" y="1484280"/>
            <a:ext cx="8280720" cy="3888000"/>
          </a:xfrm>
          <a:custGeom>
            <a:avLst/>
            <a:gdLst>
              <a:gd name="textAreaLeft" fmla="*/ 252000 w 8280720"/>
              <a:gd name="textAreaRight" fmla="*/ 8028720 w 8280720"/>
              <a:gd name="textAreaTop" fmla="*/ 252000 h 3888000"/>
              <a:gd name="textAreaBottom" fmla="*/ 3636000 h 3888000"/>
            </a:gdLst>
            <a:ahLst/>
            <a:rect l="textAreaLeft" t="textAreaTop" r="textAreaRight" b="textAreaBottom"/>
            <a:pathLst>
              <a:path w="46002" h="21600">
                <a:moveTo>
                  <a:pt x="0" y="0"/>
                </a:moveTo>
                <a:lnTo>
                  <a:pt x="46002" y="0"/>
                </a:lnTo>
                <a:lnTo>
                  <a:pt x="46002" y="21600"/>
                </a:lnTo>
                <a:lnTo>
                  <a:pt x="0" y="21600"/>
                </a:lnTo>
                <a:close/>
              </a:path>
              <a:path fill="lightenLess" w="46002" h="21600">
                <a:moveTo>
                  <a:pt x="0" y="0"/>
                </a:moveTo>
                <a:lnTo>
                  <a:pt x="46002" y="0"/>
                </a:lnTo>
                <a:lnTo>
                  <a:pt x="44602" y="1400"/>
                </a:lnTo>
                <a:lnTo>
                  <a:pt x="1400" y="1400"/>
                </a:lnTo>
                <a:close/>
              </a:path>
              <a:path fill="darken" w="46002" h="21600">
                <a:moveTo>
                  <a:pt x="46002" y="0"/>
                </a:moveTo>
                <a:lnTo>
                  <a:pt x="46002" y="21600"/>
                </a:lnTo>
                <a:lnTo>
                  <a:pt x="44602" y="20200"/>
                </a:lnTo>
                <a:lnTo>
                  <a:pt x="44602" y="1400"/>
                </a:lnTo>
                <a:close/>
              </a:path>
              <a:path fill="darkenLess" w="46002" h="21600">
                <a:moveTo>
                  <a:pt x="46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2" y="20200"/>
                </a:lnTo>
                <a:close/>
              </a:path>
              <a:path fill="lighten" w="46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рны ли следу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тверж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8"/>
              <p:cNvSpPr txBox="1"/>
              <p:nvPr/>
            </p:nvSpPr>
            <p:spPr>
              <a:xfrm>
                <a:off x="1865160" y="2997360"/>
                <a:ext cx="2303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4"/>
              <p:cNvSpPr txBox="1"/>
              <p:nvPr/>
            </p:nvSpPr>
            <p:spPr>
              <a:xfrm>
                <a:off x="1836720" y="3429000"/>
                <a:ext cx="237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7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7"/>
              <p:cNvSpPr txBox="1"/>
              <p:nvPr/>
            </p:nvSpPr>
            <p:spPr>
              <a:xfrm>
                <a:off x="1836720" y="3860640"/>
                <a:ext cx="2374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8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08" name="Picture 5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  <p:sp>
        <p:nvSpPr>
          <p:cNvPr id="310" name="Line 7"/>
          <p:cNvSpPr/>
          <p:nvPr/>
        </p:nvSpPr>
        <p:spPr>
          <a:xfrm flipV="1">
            <a:off x="5796000" y="3211560"/>
            <a:ext cx="201600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 flipV="1">
            <a:off x="5796000" y="3932280"/>
            <a:ext cx="201600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 flipH="1">
            <a:off x="6443640" y="2563920"/>
            <a:ext cx="720720" cy="187308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6948360" y="285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77080" y="32050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6516720" y="32050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661080" y="285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6732720" y="3571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6588000" y="39258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6227640" y="393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6372360" y="3565440"/>
            <a:ext cx="21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30"/>
              <p:cNvSpPr txBox="1"/>
              <p:nvPr/>
            </p:nvSpPr>
            <p:spPr>
              <a:xfrm>
                <a:off x="1836720" y="4292640"/>
                <a:ext cx="23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3"/>
              <p:cNvSpPr txBox="1"/>
              <p:nvPr/>
            </p:nvSpPr>
            <p:spPr>
              <a:xfrm>
                <a:off x="1836720" y="4724280"/>
                <a:ext cx="2376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Rectangle 34"/>
          <p:cNvSpPr/>
          <p:nvPr/>
        </p:nvSpPr>
        <p:spPr>
          <a:xfrm>
            <a:off x="1692360" y="4724280"/>
            <a:ext cx="2592360" cy="5050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9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0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0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0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10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10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5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4">
            <a:hlinkClick r:id="rId1"/>
          </p:cNvPr>
          <p:cNvSpPr/>
          <p:nvPr/>
        </p:nvSpPr>
        <p:spPr>
          <a:xfrm>
            <a:off x="468360" y="1557360"/>
            <a:ext cx="8136000" cy="3816360"/>
          </a:xfrm>
          <a:custGeom>
            <a:avLst/>
            <a:gdLst>
              <a:gd name="textAreaLeft" fmla="*/ 247320 w 8136000"/>
              <a:gd name="textAreaRight" fmla="*/ 7888680 w 8136000"/>
              <a:gd name="textAreaTop" fmla="*/ 247320 h 3816360"/>
              <a:gd name="textAreaBottom" fmla="*/ 3569040 h 3816360"/>
            </a:gdLst>
            <a:ahLst/>
            <a:rect l="textAreaLeft" t="textAreaTop" r="textAreaRight" b="textAreaBottom"/>
            <a:pathLst>
              <a:path w="46046" h="21600">
                <a:moveTo>
                  <a:pt x="0" y="0"/>
                </a:moveTo>
                <a:lnTo>
                  <a:pt x="46046" y="0"/>
                </a:lnTo>
                <a:lnTo>
                  <a:pt x="46046" y="21600"/>
                </a:lnTo>
                <a:lnTo>
                  <a:pt x="0" y="21600"/>
                </a:lnTo>
                <a:close/>
              </a:path>
              <a:path fill="lightenLess" w="46046" h="21600">
                <a:moveTo>
                  <a:pt x="0" y="0"/>
                </a:moveTo>
                <a:lnTo>
                  <a:pt x="46046" y="0"/>
                </a:lnTo>
                <a:lnTo>
                  <a:pt x="44646" y="1400"/>
                </a:lnTo>
                <a:lnTo>
                  <a:pt x="1400" y="1400"/>
                </a:lnTo>
                <a:close/>
              </a:path>
              <a:path fill="darken" w="46046" h="21600">
                <a:moveTo>
                  <a:pt x="46046" y="0"/>
                </a:moveTo>
                <a:lnTo>
                  <a:pt x="46046" y="21600"/>
                </a:lnTo>
                <a:lnTo>
                  <a:pt x="44646" y="20200"/>
                </a:lnTo>
                <a:lnTo>
                  <a:pt x="44646" y="1400"/>
                </a:lnTo>
                <a:close/>
              </a:path>
              <a:path fill="darkenLess" w="46046" h="21600">
                <a:moveTo>
                  <a:pt x="46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46" y="20200"/>
                </a:lnTo>
                <a:close/>
              </a:path>
              <a:path fill="lighten" w="46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ль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рисун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гл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ньших 180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  <p:sp>
        <p:nvSpPr>
          <p:cNvPr id="327" name="Line 7"/>
          <p:cNvSpPr/>
          <p:nvPr/>
        </p:nvSpPr>
        <p:spPr>
          <a:xfrm>
            <a:off x="5292720" y="2492280"/>
            <a:ext cx="2158920" cy="18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 flipV="1">
            <a:off x="5076720" y="2781360"/>
            <a:ext cx="273528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5867280" y="2203560"/>
            <a:ext cx="966960" cy="2520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0"/>
          <p:cNvSpPr txBox="1"/>
          <p:nvPr/>
        </p:nvSpPr>
        <p:spPr>
          <a:xfrm>
            <a:off x="2050920" y="2781360"/>
            <a:ext cx="554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12 углов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0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1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4">
            <a:hlinkClick r:id="rId1"/>
          </p:cNvPr>
          <p:cNvSpPr/>
          <p:nvPr/>
        </p:nvSpPr>
        <p:spPr>
          <a:xfrm>
            <a:off x="684360" y="1557360"/>
            <a:ext cx="7775280" cy="3816360"/>
          </a:xfrm>
          <a:custGeom>
            <a:avLst/>
            <a:gdLst>
              <a:gd name="textAreaLeft" fmla="*/ 247320 w 7775280"/>
              <a:gd name="textAreaRight" fmla="*/ 7527960 w 7775280"/>
              <a:gd name="textAreaTop" fmla="*/ 247320 h 3816360"/>
              <a:gd name="textAreaBottom" fmla="*/ 3569040 h 3816360"/>
            </a:gdLst>
            <a:ahLst/>
            <a:rect l="textAreaLeft" t="textAreaTop" r="textAreaRight" b="textAreaBottom"/>
            <a:pathLst>
              <a:path w="44005" h="21600">
                <a:moveTo>
                  <a:pt x="0" y="0"/>
                </a:moveTo>
                <a:lnTo>
                  <a:pt x="44005" y="0"/>
                </a:lnTo>
                <a:lnTo>
                  <a:pt x="44005" y="21600"/>
                </a:lnTo>
                <a:lnTo>
                  <a:pt x="0" y="21600"/>
                </a:lnTo>
                <a:close/>
              </a:path>
              <a:path fill="lightenLess" w="44005" h="21600">
                <a:moveTo>
                  <a:pt x="0" y="0"/>
                </a:moveTo>
                <a:lnTo>
                  <a:pt x="44005" y="0"/>
                </a:lnTo>
                <a:lnTo>
                  <a:pt x="42605" y="1400"/>
                </a:lnTo>
                <a:lnTo>
                  <a:pt x="1400" y="1400"/>
                </a:lnTo>
                <a:close/>
              </a:path>
              <a:path fill="darken" w="44005" h="21600">
                <a:moveTo>
                  <a:pt x="44005" y="0"/>
                </a:moveTo>
                <a:lnTo>
                  <a:pt x="44005" y="21600"/>
                </a:lnTo>
                <a:lnTo>
                  <a:pt x="42605" y="20200"/>
                </a:lnTo>
                <a:lnTo>
                  <a:pt x="42605" y="1400"/>
                </a:lnTo>
                <a:close/>
              </a:path>
              <a:path fill="darkenLess" w="44005" h="21600">
                <a:moveTo>
                  <a:pt x="4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05" y="20200"/>
                </a:lnTo>
                <a:close/>
              </a:path>
              <a:path fill="lighten" w="4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й треугольник «лишний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7"/>
          <p:cNvSpPr/>
          <p:nvPr/>
        </p:nvSpPr>
        <p:spPr>
          <a:xfrm rot="1950000">
            <a:off x="995040" y="2793960"/>
            <a:ext cx="1222200" cy="1370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 rot="20398200">
            <a:off x="2124000" y="3238560"/>
            <a:ext cx="2303640" cy="1439640"/>
          </a:xfrm>
          <a:prstGeom prst="triangle">
            <a:avLst>
              <a:gd name="adj" fmla="val 15162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 rot="10267200">
            <a:off x="3994200" y="2898720"/>
            <a:ext cx="1657440" cy="1060560"/>
          </a:xfrm>
          <a:prstGeom prst="triangle">
            <a:avLst>
              <a:gd name="adj" fmla="val 74181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d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 rot="20259600">
            <a:off x="4749480" y="3238200"/>
            <a:ext cx="2592360" cy="585720"/>
          </a:xfrm>
          <a:prstGeom prst="triangle">
            <a:avLst>
              <a:gd name="adj" fmla="val 90579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d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1"/>
          <p:cNvSpPr/>
          <p:nvPr/>
        </p:nvSpPr>
        <p:spPr>
          <a:xfrm rot="10432800">
            <a:off x="5220720" y="4292280"/>
            <a:ext cx="2663640" cy="360360"/>
          </a:xfrm>
          <a:prstGeom prst="triangle">
            <a:avLst>
              <a:gd name="adj" fmla="val 64162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4">
            <a:hlinkClick r:id="rId1"/>
          </p:cNvPr>
          <p:cNvSpPr/>
          <p:nvPr/>
        </p:nvSpPr>
        <p:spPr>
          <a:xfrm>
            <a:off x="971640" y="1557360"/>
            <a:ext cx="7200720" cy="3743280"/>
          </a:xfrm>
          <a:custGeom>
            <a:avLst/>
            <a:gdLst>
              <a:gd name="textAreaLeft" fmla="*/ 242280 w 7200720"/>
              <a:gd name="textAreaRight" fmla="*/ 6958440 w 7200720"/>
              <a:gd name="textAreaTop" fmla="*/ 242280 h 3743280"/>
              <a:gd name="textAreaBottom" fmla="*/ 3501000 h 3743280"/>
            </a:gdLst>
            <a:ahLst/>
            <a:rect l="textAreaLeft" t="textAreaTop" r="textAreaRight" b="textAreaBottom"/>
            <a:pathLst>
              <a:path w="41549" h="21600">
                <a:moveTo>
                  <a:pt x="0" y="0"/>
                </a:moveTo>
                <a:lnTo>
                  <a:pt x="41549" y="0"/>
                </a:lnTo>
                <a:lnTo>
                  <a:pt x="41549" y="21600"/>
                </a:lnTo>
                <a:lnTo>
                  <a:pt x="0" y="21600"/>
                </a:lnTo>
                <a:close/>
              </a:path>
              <a:path fill="lightenLess" w="41549" h="21600">
                <a:moveTo>
                  <a:pt x="0" y="0"/>
                </a:moveTo>
                <a:lnTo>
                  <a:pt x="41549" y="0"/>
                </a:lnTo>
                <a:lnTo>
                  <a:pt x="40149" y="1400"/>
                </a:lnTo>
                <a:lnTo>
                  <a:pt x="1400" y="1400"/>
                </a:lnTo>
                <a:close/>
              </a:path>
              <a:path fill="darken" w="41549" h="21600">
                <a:moveTo>
                  <a:pt x="41549" y="0"/>
                </a:moveTo>
                <a:lnTo>
                  <a:pt x="41549" y="21600"/>
                </a:lnTo>
                <a:lnTo>
                  <a:pt x="40149" y="20200"/>
                </a:lnTo>
                <a:lnTo>
                  <a:pt x="40149" y="1400"/>
                </a:lnTo>
                <a:close/>
              </a:path>
              <a:path fill="darkenLess" w="41549" h="21600">
                <a:moveTo>
                  <a:pt x="41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49" y="20200"/>
                </a:lnTo>
                <a:close/>
              </a:path>
              <a:path fill="lighten" w="41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лько треуголь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11"/>
          <p:cNvGrpSpPr/>
          <p:nvPr/>
        </p:nvGrpSpPr>
        <p:grpSpPr>
          <a:xfrm>
            <a:off x="2928960" y="3212640"/>
            <a:ext cx="3284280" cy="1656000"/>
            <a:chOff x="2928960" y="3212640"/>
            <a:chExt cx="3284280" cy="1656000"/>
          </a:xfrm>
        </p:grpSpPr>
        <p:sp>
          <p:nvSpPr>
            <p:cNvPr id="343" name="AutoShape 7"/>
            <p:cNvSpPr/>
            <p:nvPr/>
          </p:nvSpPr>
          <p:spPr>
            <a:xfrm>
              <a:off x="2984400" y="3213000"/>
              <a:ext cx="3173040" cy="165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8"/>
            <p:cNvSpPr/>
            <p:nvPr/>
          </p:nvSpPr>
          <p:spPr>
            <a:xfrm rot="10800000">
              <a:off x="2984400" y="3212640"/>
              <a:ext cx="3173040" cy="1655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>
              <a:off x="2928960" y="3213000"/>
              <a:ext cx="0" cy="1655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0"/>
            <p:cNvSpPr/>
            <p:nvPr/>
          </p:nvSpPr>
          <p:spPr>
            <a:xfrm>
              <a:off x="6213240" y="3213000"/>
              <a:ext cx="0" cy="16556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WordArt 12"/>
          <p:cNvSpPr txBox="1"/>
          <p:nvPr/>
        </p:nvSpPr>
        <p:spPr>
          <a:xfrm>
            <a:off x="3708360" y="5157720"/>
            <a:ext cx="1727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12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0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AutoShape 4">
            <a:hlinkClick r:id="rId1"/>
          </p:cNvPr>
          <p:cNvSpPr/>
          <p:nvPr/>
        </p:nvSpPr>
        <p:spPr>
          <a:xfrm>
            <a:off x="395280" y="907920"/>
            <a:ext cx="8353440" cy="4753080"/>
          </a:xfrm>
          <a:custGeom>
            <a:avLst/>
            <a:gdLst>
              <a:gd name="textAreaLeft" fmla="*/ 307800 w 8353440"/>
              <a:gd name="textAreaRight" fmla="*/ 8045640 w 8353440"/>
              <a:gd name="textAreaTop" fmla="*/ 307800 h 4753080"/>
              <a:gd name="textAreaBottom" fmla="*/ 4445280 h 4753080"/>
            </a:gdLst>
            <a:ahLst/>
            <a:rect l="textAreaLeft" t="textAreaTop" r="textAreaRight" b="textAreaBottom"/>
            <a:pathLst>
              <a:path w="37960" h="21600">
                <a:moveTo>
                  <a:pt x="0" y="0"/>
                </a:moveTo>
                <a:lnTo>
                  <a:pt x="37960" y="0"/>
                </a:lnTo>
                <a:lnTo>
                  <a:pt x="37960" y="21600"/>
                </a:lnTo>
                <a:lnTo>
                  <a:pt x="0" y="21600"/>
                </a:lnTo>
                <a:close/>
              </a:path>
              <a:path fill="lightenLess" w="37960" h="21600">
                <a:moveTo>
                  <a:pt x="0" y="0"/>
                </a:moveTo>
                <a:lnTo>
                  <a:pt x="37960" y="0"/>
                </a:lnTo>
                <a:lnTo>
                  <a:pt x="36560" y="1400"/>
                </a:lnTo>
                <a:lnTo>
                  <a:pt x="1400" y="1400"/>
                </a:lnTo>
                <a:close/>
              </a:path>
              <a:path fill="darken" w="37960" h="21600">
                <a:moveTo>
                  <a:pt x="37960" y="0"/>
                </a:moveTo>
                <a:lnTo>
                  <a:pt x="37960" y="21600"/>
                </a:lnTo>
                <a:lnTo>
                  <a:pt x="36560" y="20200"/>
                </a:lnTo>
                <a:lnTo>
                  <a:pt x="36560" y="1400"/>
                </a:lnTo>
                <a:close/>
              </a:path>
              <a:path fill="darkenLess" w="37960" h="21600">
                <a:moveTo>
                  <a:pt x="37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60" y="20200"/>
                </a:lnTo>
                <a:close/>
              </a:path>
              <a:path fill="lighten" w="37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великого гео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механика древней Греци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шедшего для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ближенн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3924360" y="3789360"/>
                <a:ext cx="12272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0" name="Picture 5" descr="8l2"/>
          <p:cNvPicPr/>
          <p:nvPr/>
        </p:nvPicPr>
        <p:blipFill>
          <a:blip r:embed="rId2"/>
          <a:stretch/>
        </p:blipFill>
        <p:spPr>
          <a:xfrm>
            <a:off x="0" y="6377040"/>
            <a:ext cx="9144000" cy="156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8l2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15732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9"/>
          <p:cNvGrpSpPr/>
          <p:nvPr/>
        </p:nvGrpSpPr>
        <p:grpSpPr>
          <a:xfrm>
            <a:off x="2050920" y="2133720"/>
            <a:ext cx="5387760" cy="4179240"/>
            <a:chOff x="2050920" y="2133720"/>
            <a:chExt cx="5387760" cy="4179240"/>
          </a:xfrm>
        </p:grpSpPr>
        <p:graphicFrame>
          <p:nvGraphicFramePr>
            <p:cNvPr id="353" name="Object 10"/>
            <p:cNvGraphicFramePr/>
            <p:nvPr/>
          </p:nvGraphicFramePr>
          <p:xfrm>
            <a:off x="2465280" y="2133720"/>
            <a:ext cx="4144320" cy="3502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65280" y="2133720"/>
                      <a:ext cx="4144320" cy="35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1"/>
            <p:cNvSpPr/>
            <p:nvPr/>
          </p:nvSpPr>
          <p:spPr>
            <a:xfrm>
              <a:off x="2050920" y="5609520"/>
              <a:ext cx="538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66"/>
                  </a:solidFill>
                  <a:latin typeface="Times New Roman"/>
                </a:rPr>
                <a:t>Архиме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7"/>
                </a:solidFill>
                <a:latin typeface="Felix Titling"/>
              </a:rPr>
              <a:t>41</a:t>
            </a: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468360" y="1341360"/>
            <a:ext cx="8353440" cy="4608720"/>
          </a:xfrm>
          <a:custGeom>
            <a:avLst/>
            <a:gdLst>
              <a:gd name="textAreaLeft" fmla="*/ 298440 w 8353440"/>
              <a:gd name="textAreaRight" fmla="*/ 8055000 w 8353440"/>
              <a:gd name="textAreaTop" fmla="*/ 298440 h 4608720"/>
              <a:gd name="textAreaBottom" fmla="*/ 4310280 h 4608720"/>
            </a:gdLst>
            <a:ahLst/>
            <a:rect l="textAreaLeft" t="textAreaTop" r="textAreaRight" b="textAreaBottom"/>
            <a:pathLst>
              <a:path w="39149" h="21600">
                <a:moveTo>
                  <a:pt x="0" y="0"/>
                </a:moveTo>
                <a:lnTo>
                  <a:pt x="39149" y="0"/>
                </a:lnTo>
                <a:lnTo>
                  <a:pt x="39149" y="21600"/>
                </a:lnTo>
                <a:lnTo>
                  <a:pt x="0" y="21600"/>
                </a:lnTo>
                <a:close/>
              </a:path>
              <a:path fill="lightenLess" w="39149" h="21600">
                <a:moveTo>
                  <a:pt x="0" y="0"/>
                </a:moveTo>
                <a:lnTo>
                  <a:pt x="39149" y="0"/>
                </a:lnTo>
                <a:lnTo>
                  <a:pt x="37749" y="1400"/>
                </a:lnTo>
                <a:lnTo>
                  <a:pt x="1400" y="1400"/>
                </a:lnTo>
                <a:close/>
              </a:path>
              <a:path fill="darken" w="39149" h="21600">
                <a:moveTo>
                  <a:pt x="39149" y="0"/>
                </a:moveTo>
                <a:lnTo>
                  <a:pt x="39149" y="21600"/>
                </a:lnTo>
                <a:lnTo>
                  <a:pt x="37749" y="20200"/>
                </a:lnTo>
                <a:lnTo>
                  <a:pt x="37749" y="1400"/>
                </a:lnTo>
                <a:close/>
              </a:path>
              <a:path fill="darkenLess" w="39149" h="21600">
                <a:moveTo>
                  <a:pt x="39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9" y="20200"/>
                </a:lnTo>
                <a:close/>
              </a:path>
              <a:path fill="lighten" w="39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Индийцы называли его «</a:t>
            </a:r>
            <a:r>
              <a:rPr b="1" i="1" lang="ru-RU" sz="3600" spc="-1" strike="noStrike">
                <a:solidFill>
                  <a:srgbClr val="0000ff"/>
                </a:solidFill>
                <a:latin typeface="Elephant"/>
              </a:rPr>
              <a:t>сунья</a:t>
            </a: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арабские математики - «</a:t>
            </a:r>
            <a:r>
              <a:rPr b="1" i="1" lang="ru-RU" sz="3600" spc="-1" strike="noStrike">
                <a:solidFill>
                  <a:srgbClr val="0000ff"/>
                </a:solidFill>
                <a:latin typeface="Elephant"/>
              </a:rPr>
              <a:t>сифр</a:t>
            </a: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Как мы называем его сейча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0"/>
          <p:cNvPicPr/>
          <p:nvPr/>
        </p:nvPicPr>
        <p:blipFill>
          <a:blip r:embed="rId1"/>
          <a:stretch/>
        </p:blipFill>
        <p:spPr>
          <a:xfrm>
            <a:off x="2340000" y="2997360"/>
            <a:ext cx="1871640" cy="2808000"/>
          </a:xfrm>
          <a:prstGeom prst="rect">
            <a:avLst/>
          </a:prstGeom>
          <a:ln w="0">
            <a:noFill/>
          </a:ln>
        </p:spPr>
      </p:pic>
      <p:sp>
        <p:nvSpPr>
          <p:cNvPr id="359" name="WordArt 8"/>
          <p:cNvSpPr txBox="1"/>
          <p:nvPr/>
        </p:nvSpPr>
        <p:spPr>
          <a:xfrm>
            <a:off x="4572000" y="429264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уль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0" name="Picture 9" descr="часы"/>
          <p:cNvPicPr/>
          <p:nvPr/>
        </p:nvPicPr>
        <p:blipFill>
          <a:blip r:embed="rId2"/>
          <a:stretch/>
        </p:blipFill>
        <p:spPr>
          <a:xfrm>
            <a:off x="7740720" y="4797360"/>
            <a:ext cx="714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10"/>
          <p:cNvGrpSpPr/>
          <p:nvPr/>
        </p:nvGrpSpPr>
        <p:grpSpPr>
          <a:xfrm>
            <a:off x="7451640" y="333360"/>
            <a:ext cx="957240" cy="923760"/>
            <a:chOff x="7451640" y="333360"/>
            <a:chExt cx="957240" cy="923760"/>
          </a:xfrm>
        </p:grpSpPr>
        <p:grpSp>
          <p:nvGrpSpPr>
            <p:cNvPr id="362" name="Group 11"/>
            <p:cNvGrpSpPr/>
            <p:nvPr/>
          </p:nvGrpSpPr>
          <p:grpSpPr>
            <a:xfrm>
              <a:off x="7451640" y="714240"/>
              <a:ext cx="347400" cy="542880"/>
              <a:chOff x="7451640" y="714240"/>
              <a:chExt cx="347400" cy="542880"/>
            </a:xfrm>
          </p:grpSpPr>
          <p:sp>
            <p:nvSpPr>
              <p:cNvPr id="363" name="Freeform 12"/>
              <p:cNvSpPr/>
              <p:nvPr/>
            </p:nvSpPr>
            <p:spPr>
              <a:xfrm>
                <a:off x="7451640" y="71424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7465680" y="75240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584480" y="115236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5"/>
            <p:cNvGrpSpPr/>
            <p:nvPr/>
          </p:nvGrpSpPr>
          <p:grpSpPr>
            <a:xfrm>
              <a:off x="7756200" y="333360"/>
              <a:ext cx="347760" cy="542880"/>
              <a:chOff x="7756200" y="333360"/>
              <a:chExt cx="347760" cy="542880"/>
            </a:xfrm>
          </p:grpSpPr>
          <p:sp>
            <p:nvSpPr>
              <p:cNvPr id="367" name="Freeform 16"/>
              <p:cNvSpPr/>
              <p:nvPr/>
            </p:nvSpPr>
            <p:spPr>
              <a:xfrm>
                <a:off x="7756200" y="3333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770600" y="3715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7889400" y="7714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9"/>
            <p:cNvGrpSpPr/>
            <p:nvPr/>
          </p:nvGrpSpPr>
          <p:grpSpPr>
            <a:xfrm>
              <a:off x="8061120" y="714240"/>
              <a:ext cx="347760" cy="542880"/>
              <a:chOff x="8061120" y="714240"/>
              <a:chExt cx="347760" cy="542880"/>
            </a:xfrm>
          </p:grpSpPr>
          <p:sp>
            <p:nvSpPr>
              <p:cNvPr id="371" name="Freeform 20"/>
              <p:cNvSpPr/>
              <p:nvPr/>
            </p:nvSpPr>
            <p:spPr>
              <a:xfrm>
                <a:off x="8061120" y="71424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8075520" y="75240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194320" y="115236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4" name="Picture 23" descr="1161711461_74"/>
          <p:cNvPicPr/>
          <p:nvPr/>
        </p:nvPicPr>
        <p:blipFill>
          <a:blip r:embed="rId3"/>
          <a:stretch/>
        </p:blipFill>
        <p:spPr>
          <a:xfrm>
            <a:off x="468360" y="333360"/>
            <a:ext cx="984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0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d9"/>
                </a:solidFill>
                <a:latin typeface="Felix Titling"/>
              </a:rPr>
              <a:t>42</a:t>
            </a: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25520" y="1427040"/>
            <a:ext cx="8280360" cy="4464000"/>
          </a:xfrm>
          <a:custGeom>
            <a:avLst/>
            <a:gdLst>
              <a:gd name="textAreaLeft" fmla="*/ 289080 w 8280360"/>
              <a:gd name="textAreaRight" fmla="*/ 7991280 w 8280360"/>
              <a:gd name="textAreaTop" fmla="*/ 289080 h 4464000"/>
              <a:gd name="textAreaBottom" fmla="*/ 4174920 h 4464000"/>
            </a:gdLst>
            <a:ahLst/>
            <a:rect l="textAreaLeft" t="textAreaTop" r="textAreaRight" b="textAreaBottom"/>
            <a:pathLst>
              <a:path w="40065" h="21600">
                <a:moveTo>
                  <a:pt x="0" y="0"/>
                </a:moveTo>
                <a:lnTo>
                  <a:pt x="40065" y="0"/>
                </a:lnTo>
                <a:lnTo>
                  <a:pt x="40065" y="21600"/>
                </a:lnTo>
                <a:lnTo>
                  <a:pt x="0" y="21600"/>
                </a:lnTo>
                <a:close/>
              </a:path>
              <a:path fill="lightenLess" w="40065" h="21600">
                <a:moveTo>
                  <a:pt x="0" y="0"/>
                </a:moveTo>
                <a:lnTo>
                  <a:pt x="40065" y="0"/>
                </a:lnTo>
                <a:lnTo>
                  <a:pt x="38665" y="1400"/>
                </a:lnTo>
                <a:lnTo>
                  <a:pt x="1400" y="1400"/>
                </a:lnTo>
                <a:close/>
              </a:path>
              <a:path fill="darken" w="40065" h="21600">
                <a:moveTo>
                  <a:pt x="40065" y="0"/>
                </a:moveTo>
                <a:lnTo>
                  <a:pt x="40065" y="21600"/>
                </a:lnTo>
                <a:lnTo>
                  <a:pt x="38665" y="20200"/>
                </a:lnTo>
                <a:lnTo>
                  <a:pt x="38665" y="1400"/>
                </a:lnTo>
                <a:close/>
              </a:path>
              <a:path fill="darkenLess" w="40065" h="21600">
                <a:moveTo>
                  <a:pt x="40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65" y="20200"/>
                </a:lnTo>
                <a:close/>
              </a:path>
              <a:path fill="lighten" w="40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Это название происх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от двух латинских сл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«дважды»  и «секу», буква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«рассекающиеся на две част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О чем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0"/>
          <p:cNvGrpSpPr/>
          <p:nvPr/>
        </p:nvGrpSpPr>
        <p:grpSpPr>
          <a:xfrm>
            <a:off x="1368360" y="3676320"/>
            <a:ext cx="3003480" cy="2592360"/>
            <a:chOff x="1368360" y="3676320"/>
            <a:chExt cx="3003480" cy="2592360"/>
          </a:xfrm>
        </p:grpSpPr>
        <p:sp>
          <p:nvSpPr>
            <p:cNvPr id="378" name="Line 5"/>
            <p:cNvSpPr/>
            <p:nvPr/>
          </p:nvSpPr>
          <p:spPr>
            <a:xfrm flipV="1">
              <a:off x="1389240" y="5981760"/>
              <a:ext cx="2982600" cy="254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 flipV="1">
              <a:off x="1368360" y="3676320"/>
              <a:ext cx="1496880" cy="2592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1376640" y="4887720"/>
              <a:ext cx="2201040" cy="135396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rc 8"/>
            <p:cNvSpPr/>
            <p:nvPr/>
          </p:nvSpPr>
          <p:spPr>
            <a:xfrm rot="21010200">
              <a:off x="1662120" y="5816160"/>
              <a:ext cx="144360" cy="144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rc 9"/>
            <p:cNvSpPr/>
            <p:nvPr/>
          </p:nvSpPr>
          <p:spPr>
            <a:xfrm rot="1701600">
              <a:off x="1799640" y="5994360"/>
              <a:ext cx="144720" cy="144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13" descr="часы"/>
          <p:cNvPicPr/>
          <p:nvPr/>
        </p:nvPicPr>
        <p:blipFill>
          <a:blip r:embed="rId1"/>
          <a:stretch/>
        </p:blipFill>
        <p:spPr>
          <a:xfrm>
            <a:off x="7702560" y="4797360"/>
            <a:ext cx="714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4"/>
          <p:cNvGrpSpPr/>
          <p:nvPr/>
        </p:nvGrpSpPr>
        <p:grpSpPr>
          <a:xfrm>
            <a:off x="7451640" y="333360"/>
            <a:ext cx="957240" cy="923760"/>
            <a:chOff x="7451640" y="333360"/>
            <a:chExt cx="957240" cy="923760"/>
          </a:xfrm>
        </p:grpSpPr>
        <p:grpSp>
          <p:nvGrpSpPr>
            <p:cNvPr id="385" name="Group 15"/>
            <p:cNvGrpSpPr/>
            <p:nvPr/>
          </p:nvGrpSpPr>
          <p:grpSpPr>
            <a:xfrm>
              <a:off x="7451640" y="714240"/>
              <a:ext cx="347400" cy="542880"/>
              <a:chOff x="7451640" y="714240"/>
              <a:chExt cx="347400" cy="542880"/>
            </a:xfrm>
          </p:grpSpPr>
          <p:sp>
            <p:nvSpPr>
              <p:cNvPr id="386" name="Freeform 16"/>
              <p:cNvSpPr/>
              <p:nvPr/>
            </p:nvSpPr>
            <p:spPr>
              <a:xfrm>
                <a:off x="7451640" y="71424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7"/>
              <p:cNvSpPr/>
              <p:nvPr/>
            </p:nvSpPr>
            <p:spPr>
              <a:xfrm>
                <a:off x="7465680" y="75240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"/>
              <p:cNvSpPr/>
              <p:nvPr/>
            </p:nvSpPr>
            <p:spPr>
              <a:xfrm>
                <a:off x="7584480" y="115236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19"/>
            <p:cNvGrpSpPr/>
            <p:nvPr/>
          </p:nvGrpSpPr>
          <p:grpSpPr>
            <a:xfrm>
              <a:off x="7756200" y="333360"/>
              <a:ext cx="347760" cy="542880"/>
              <a:chOff x="7756200" y="333360"/>
              <a:chExt cx="347760" cy="542880"/>
            </a:xfrm>
          </p:grpSpPr>
          <p:sp>
            <p:nvSpPr>
              <p:cNvPr id="390" name="Freeform 20"/>
              <p:cNvSpPr/>
              <p:nvPr/>
            </p:nvSpPr>
            <p:spPr>
              <a:xfrm>
                <a:off x="7756200" y="3333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1"/>
              <p:cNvSpPr/>
              <p:nvPr/>
            </p:nvSpPr>
            <p:spPr>
              <a:xfrm>
                <a:off x="7770600" y="3715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2"/>
              <p:cNvSpPr/>
              <p:nvPr/>
            </p:nvSpPr>
            <p:spPr>
              <a:xfrm>
                <a:off x="7889400" y="7714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3"/>
            <p:cNvGrpSpPr/>
            <p:nvPr/>
          </p:nvGrpSpPr>
          <p:grpSpPr>
            <a:xfrm>
              <a:off x="8061120" y="714240"/>
              <a:ext cx="347760" cy="542880"/>
              <a:chOff x="8061120" y="714240"/>
              <a:chExt cx="347760" cy="542880"/>
            </a:xfrm>
          </p:grpSpPr>
          <p:sp>
            <p:nvSpPr>
              <p:cNvPr id="394" name="Freeform 24"/>
              <p:cNvSpPr/>
              <p:nvPr/>
            </p:nvSpPr>
            <p:spPr>
              <a:xfrm>
                <a:off x="8061120" y="71424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5"/>
              <p:cNvSpPr/>
              <p:nvPr/>
            </p:nvSpPr>
            <p:spPr>
              <a:xfrm>
                <a:off x="8075520" y="75240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6"/>
              <p:cNvSpPr/>
              <p:nvPr/>
            </p:nvSpPr>
            <p:spPr>
              <a:xfrm>
                <a:off x="8194320" y="115236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Picture 27" descr="1161711461_74"/>
          <p:cNvPicPr/>
          <p:nvPr/>
        </p:nvPicPr>
        <p:blipFill>
          <a:blip r:embed="rId2"/>
          <a:stretch/>
        </p:blipFill>
        <p:spPr>
          <a:xfrm>
            <a:off x="468360" y="333360"/>
            <a:ext cx="984240" cy="1008000"/>
          </a:xfrm>
          <a:prstGeom prst="rect">
            <a:avLst/>
          </a:prstGeom>
          <a:ln w="0">
            <a:noFill/>
          </a:ln>
        </p:spPr>
      </p:pic>
      <p:sp>
        <p:nvSpPr>
          <p:cNvPr id="398" name="WordArt 12"/>
          <p:cNvSpPr txBox="1"/>
          <p:nvPr/>
        </p:nvSpPr>
        <p:spPr>
          <a:xfrm>
            <a:off x="3995640" y="4653000"/>
            <a:ext cx="3816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иссектриса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0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Felix Titling"/>
              </a:rPr>
              <a:t>Маршрут путешествия</a:t>
            </a:r>
            <a:endParaRPr b="0" lang="en-US" sz="5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89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Felix Titling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Felix Titling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Felix Titling"/>
              </a:rPr>
              <a:t>О логика</a:t>
            </a:r>
            <a:endParaRPr b="0" lang="en-US" sz="4000" spc="-1" strike="noStrike">
              <a:solidFill>
                <a:srgbClr val="000000"/>
              </a:solidFill>
              <a:latin typeface="Felix Titling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cc00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cc"/>
                </a:solidFill>
                <a:uFillTx/>
                <a:latin typeface="Felix Titling"/>
              </a:rPr>
              <a:t>Геометрия</a:t>
            </a:r>
            <a:endParaRPr b="0" lang="en-US" sz="4000" spc="-1" strike="noStrike">
              <a:solidFill>
                <a:srgbClr val="000000"/>
              </a:solidFill>
              <a:latin typeface="Felix Titling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Felix Titling"/>
              </a:rPr>
              <a:t>Что? Где? Почему?</a:t>
            </a:r>
            <a:endParaRPr b="0" lang="en-US" sz="4000" spc="-1" strike="noStrike">
              <a:solidFill>
                <a:srgbClr val="000000"/>
              </a:solidFill>
              <a:latin typeface="Felix Titl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7"/>
                </a:solidFill>
                <a:latin typeface="Felix Titling"/>
              </a:rPr>
              <a:t>43</a:t>
            </a:r>
            <a:endParaRPr b="0" lang="en-US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611280" y="404640"/>
            <a:ext cx="8137440" cy="6048720"/>
          </a:xfrm>
          <a:custGeom>
            <a:avLst/>
            <a:gdLst>
              <a:gd name="textAreaLeft" fmla="*/ 392040 w 8137440"/>
              <a:gd name="textAreaRight" fmla="*/ 7745400 w 8137440"/>
              <a:gd name="textAreaTop" fmla="*/ 392040 h 6048720"/>
              <a:gd name="textAreaBottom" fmla="*/ 5656680 h 604872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В древности такого термина не бы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Его ввел в </a:t>
            </a:r>
            <a:r>
              <a:rPr b="1" lang="en-US" sz="3200" spc="-1" strike="noStrike">
                <a:solidFill>
                  <a:srgbClr val="000000"/>
                </a:solidFill>
                <a:latin typeface="Elephant"/>
              </a:rPr>
              <a:t>XVII</a:t>
            </a: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 ве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французский матем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Франсуа Ви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в переводе с лати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он означает </a:t>
            </a:r>
            <a:r>
              <a:rPr b="1" i="1" lang="ru-RU" sz="3600" spc="-1" strike="noStrike">
                <a:solidFill>
                  <a:srgbClr val="0000ff"/>
                </a:solidFill>
                <a:latin typeface="Elephant"/>
              </a:rPr>
              <a:t>«спица колеса»</a:t>
            </a:r>
            <a:r>
              <a:rPr b="1" i="1" lang="ru-RU" sz="3600" spc="-1" strike="noStrike">
                <a:solidFill>
                  <a:srgbClr val="000000"/>
                </a:solidFill>
                <a:latin typeface="Elephant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Что это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8"/>
          <p:cNvGrpSpPr/>
          <p:nvPr/>
        </p:nvGrpSpPr>
        <p:grpSpPr>
          <a:xfrm>
            <a:off x="3276720" y="3645000"/>
            <a:ext cx="2520720" cy="2520720"/>
            <a:chOff x="3276720" y="3645000"/>
            <a:chExt cx="2520720" cy="2520720"/>
          </a:xfrm>
        </p:grpSpPr>
        <p:sp>
          <p:nvSpPr>
            <p:cNvPr id="402" name="Oval 5"/>
            <p:cNvSpPr/>
            <p:nvPr/>
          </p:nvSpPr>
          <p:spPr>
            <a:xfrm>
              <a:off x="3276720" y="3645000"/>
              <a:ext cx="2520720" cy="2520720"/>
            </a:xfrm>
            <a:prstGeom prst="ellipse">
              <a:avLst/>
            </a:prstGeom>
            <a:solidFill>
              <a:srgbClr val="ffead5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Elephant"/>
                </a:rPr>
                <a:t>Ради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>
              <a:off x="4573440" y="4941720"/>
              <a:ext cx="1223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4543200" y="4897440"/>
              <a:ext cx="72720" cy="712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9" descr="часы"/>
          <p:cNvPicPr/>
          <p:nvPr/>
        </p:nvPicPr>
        <p:blipFill>
          <a:blip r:embed="rId1"/>
          <a:stretch/>
        </p:blipFill>
        <p:spPr>
          <a:xfrm>
            <a:off x="7380360" y="5013360"/>
            <a:ext cx="714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0"/>
          <p:cNvGrpSpPr/>
          <p:nvPr/>
        </p:nvGrpSpPr>
        <p:grpSpPr>
          <a:xfrm>
            <a:off x="7451640" y="1484280"/>
            <a:ext cx="957240" cy="923760"/>
            <a:chOff x="7451640" y="1484280"/>
            <a:chExt cx="957240" cy="923760"/>
          </a:xfrm>
        </p:grpSpPr>
        <p:grpSp>
          <p:nvGrpSpPr>
            <p:cNvPr id="407" name="Group 11"/>
            <p:cNvGrpSpPr/>
            <p:nvPr/>
          </p:nvGrpSpPr>
          <p:grpSpPr>
            <a:xfrm>
              <a:off x="7451640" y="1865160"/>
              <a:ext cx="347400" cy="542880"/>
              <a:chOff x="7451640" y="1865160"/>
              <a:chExt cx="347400" cy="542880"/>
            </a:xfrm>
          </p:grpSpPr>
          <p:sp>
            <p:nvSpPr>
              <p:cNvPr id="408" name="Freeform 12"/>
              <p:cNvSpPr/>
              <p:nvPr/>
            </p:nvSpPr>
            <p:spPr>
              <a:xfrm>
                <a:off x="7451640" y="186516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"/>
              <p:cNvSpPr/>
              <p:nvPr/>
            </p:nvSpPr>
            <p:spPr>
              <a:xfrm>
                <a:off x="7465680" y="190332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4"/>
              <p:cNvSpPr/>
              <p:nvPr/>
            </p:nvSpPr>
            <p:spPr>
              <a:xfrm>
                <a:off x="7584480" y="230328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5"/>
            <p:cNvGrpSpPr/>
            <p:nvPr/>
          </p:nvGrpSpPr>
          <p:grpSpPr>
            <a:xfrm>
              <a:off x="7756200" y="1484280"/>
              <a:ext cx="347760" cy="542880"/>
              <a:chOff x="7756200" y="1484280"/>
              <a:chExt cx="347760" cy="542880"/>
            </a:xfrm>
          </p:grpSpPr>
          <p:sp>
            <p:nvSpPr>
              <p:cNvPr id="412" name="Freeform 16"/>
              <p:cNvSpPr/>
              <p:nvPr/>
            </p:nvSpPr>
            <p:spPr>
              <a:xfrm>
                <a:off x="7756200" y="148428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7"/>
              <p:cNvSpPr/>
              <p:nvPr/>
            </p:nvSpPr>
            <p:spPr>
              <a:xfrm>
                <a:off x="7770600" y="152244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8"/>
              <p:cNvSpPr/>
              <p:nvPr/>
            </p:nvSpPr>
            <p:spPr>
              <a:xfrm>
                <a:off x="7889400" y="192240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8061120" y="1865160"/>
              <a:ext cx="347760" cy="542880"/>
              <a:chOff x="8061120" y="1865160"/>
              <a:chExt cx="347760" cy="542880"/>
            </a:xfrm>
          </p:grpSpPr>
          <p:sp>
            <p:nvSpPr>
              <p:cNvPr id="416" name="Freeform 20"/>
              <p:cNvSpPr/>
              <p:nvPr/>
            </p:nvSpPr>
            <p:spPr>
              <a:xfrm>
                <a:off x="8061120" y="18651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1"/>
              <p:cNvSpPr/>
              <p:nvPr/>
            </p:nvSpPr>
            <p:spPr>
              <a:xfrm>
                <a:off x="8075520" y="19033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2"/>
              <p:cNvSpPr/>
              <p:nvPr/>
            </p:nvSpPr>
            <p:spPr>
              <a:xfrm>
                <a:off x="8194320" y="23032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23" descr="1161711461_74"/>
          <p:cNvPicPr/>
          <p:nvPr/>
        </p:nvPicPr>
        <p:blipFill>
          <a:blip r:embed="rId2"/>
          <a:stretch/>
        </p:blipFill>
        <p:spPr>
          <a:xfrm>
            <a:off x="250920" y="260280"/>
            <a:ext cx="984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nodeType="clickEffect" fill="hold">
                      <p:stCondLst>
                        <p:cond delay="0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4"/>
          <p:cNvSpPr/>
          <p:nvPr/>
        </p:nvSpPr>
        <p:spPr>
          <a:xfrm>
            <a:off x="755640" y="1413000"/>
            <a:ext cx="7632720" cy="4392360"/>
          </a:xfrm>
          <a:custGeom>
            <a:avLst/>
            <a:gdLst>
              <a:gd name="textAreaLeft" fmla="*/ 284400 w 7632720"/>
              <a:gd name="textAreaRight" fmla="*/ 7348320 w 7632720"/>
              <a:gd name="textAreaTop" fmla="*/ 284400 h 4392360"/>
              <a:gd name="textAreaBottom" fmla="*/ 4107960 h 4392360"/>
            </a:gdLst>
            <a:ahLst/>
            <a:rect l="textAreaLeft" t="textAreaTop" r="textAreaRight" b="textAreaBottom"/>
            <a:pathLst>
              <a:path w="37534" h="21600">
                <a:moveTo>
                  <a:pt x="0" y="0"/>
                </a:moveTo>
                <a:lnTo>
                  <a:pt x="37534" y="0"/>
                </a:lnTo>
                <a:lnTo>
                  <a:pt x="37534" y="21600"/>
                </a:lnTo>
                <a:lnTo>
                  <a:pt x="0" y="21600"/>
                </a:lnTo>
                <a:close/>
              </a:path>
              <a:path fill="lightenLess" w="37534" h="21600">
                <a:moveTo>
                  <a:pt x="0" y="0"/>
                </a:moveTo>
                <a:lnTo>
                  <a:pt x="37534" y="0"/>
                </a:lnTo>
                <a:lnTo>
                  <a:pt x="36134" y="1400"/>
                </a:lnTo>
                <a:lnTo>
                  <a:pt x="1400" y="1400"/>
                </a:lnTo>
                <a:close/>
              </a:path>
              <a:path fill="darken" w="37534" h="21600">
                <a:moveTo>
                  <a:pt x="37534" y="0"/>
                </a:moveTo>
                <a:lnTo>
                  <a:pt x="37534" y="21600"/>
                </a:lnTo>
                <a:lnTo>
                  <a:pt x="36134" y="20200"/>
                </a:lnTo>
                <a:lnTo>
                  <a:pt x="36134" y="1400"/>
                </a:lnTo>
                <a:close/>
              </a:path>
              <a:path fill="darkenLess" w="37534" h="21600">
                <a:moveTo>
                  <a:pt x="37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34" y="20200"/>
                </a:lnTo>
                <a:close/>
              </a:path>
              <a:path fill="lighten" w="37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Название этого предмета произош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от греческого слова, означающ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в переводе </a:t>
            </a:r>
            <a:r>
              <a:rPr b="1" i="1" lang="ru-RU" sz="3200" spc="-1" strike="noStrike">
                <a:solidFill>
                  <a:srgbClr val="0000ff"/>
                </a:solidFill>
                <a:latin typeface="Elephant"/>
              </a:rPr>
              <a:t>«итальянская кость»</a:t>
            </a:r>
            <a:r>
              <a:rPr b="1" i="1" lang="ru-RU" sz="3200" spc="-1" strike="noStrike">
                <a:solidFill>
                  <a:srgbClr val="000000"/>
                </a:solidFill>
                <a:latin typeface="Elephant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Термин ввели пифагорей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а используется это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в играх маленькими дет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Elephant"/>
              </a:rPr>
              <a:t>Что это за предм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2050920" y="1528920"/>
            <a:ext cx="4535640" cy="4236840"/>
            <a:chOff x="2050920" y="1528920"/>
            <a:chExt cx="4535640" cy="4236840"/>
          </a:xfrm>
        </p:grpSpPr>
        <p:sp>
          <p:nvSpPr>
            <p:cNvPr id="422" name="AutoShape 6"/>
            <p:cNvSpPr/>
            <p:nvPr/>
          </p:nvSpPr>
          <p:spPr>
            <a:xfrm>
              <a:off x="2050920" y="1528920"/>
              <a:ext cx="4535640" cy="42368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WordArt 8"/>
            <p:cNvSpPr txBox="1"/>
            <p:nvPr/>
          </p:nvSpPr>
          <p:spPr>
            <a:xfrm rot="20028600">
              <a:off x="2482560" y="3688920"/>
              <a:ext cx="2663640" cy="85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275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убик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424" name="Picture 10" descr="часы"/>
          <p:cNvPicPr/>
          <p:nvPr/>
        </p:nvPicPr>
        <p:blipFill>
          <a:blip r:embed="rId2"/>
          <a:stretch/>
        </p:blipFill>
        <p:spPr>
          <a:xfrm>
            <a:off x="7380360" y="4724280"/>
            <a:ext cx="714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11"/>
          <p:cNvGrpSpPr/>
          <p:nvPr/>
        </p:nvGrpSpPr>
        <p:grpSpPr>
          <a:xfrm>
            <a:off x="7451640" y="333360"/>
            <a:ext cx="957240" cy="923760"/>
            <a:chOff x="7451640" y="333360"/>
            <a:chExt cx="957240" cy="923760"/>
          </a:xfrm>
        </p:grpSpPr>
        <p:grpSp>
          <p:nvGrpSpPr>
            <p:cNvPr id="426" name="Group 12"/>
            <p:cNvGrpSpPr/>
            <p:nvPr/>
          </p:nvGrpSpPr>
          <p:grpSpPr>
            <a:xfrm>
              <a:off x="7451640" y="714240"/>
              <a:ext cx="347400" cy="542880"/>
              <a:chOff x="7451640" y="714240"/>
              <a:chExt cx="347400" cy="542880"/>
            </a:xfrm>
          </p:grpSpPr>
          <p:sp>
            <p:nvSpPr>
              <p:cNvPr id="427" name="Freeform 13"/>
              <p:cNvSpPr/>
              <p:nvPr/>
            </p:nvSpPr>
            <p:spPr>
              <a:xfrm>
                <a:off x="7451640" y="71424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4"/>
              <p:cNvSpPr/>
              <p:nvPr/>
            </p:nvSpPr>
            <p:spPr>
              <a:xfrm>
                <a:off x="7465680" y="75240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5"/>
              <p:cNvSpPr/>
              <p:nvPr/>
            </p:nvSpPr>
            <p:spPr>
              <a:xfrm>
                <a:off x="7584480" y="115236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6"/>
            <p:cNvGrpSpPr/>
            <p:nvPr/>
          </p:nvGrpSpPr>
          <p:grpSpPr>
            <a:xfrm>
              <a:off x="7756200" y="333360"/>
              <a:ext cx="347760" cy="542880"/>
              <a:chOff x="7756200" y="333360"/>
              <a:chExt cx="347760" cy="542880"/>
            </a:xfrm>
          </p:grpSpPr>
          <p:sp>
            <p:nvSpPr>
              <p:cNvPr id="431" name="Freeform 17"/>
              <p:cNvSpPr/>
              <p:nvPr/>
            </p:nvSpPr>
            <p:spPr>
              <a:xfrm>
                <a:off x="7756200" y="3333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8"/>
              <p:cNvSpPr/>
              <p:nvPr/>
            </p:nvSpPr>
            <p:spPr>
              <a:xfrm>
                <a:off x="7770600" y="3715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9"/>
              <p:cNvSpPr/>
              <p:nvPr/>
            </p:nvSpPr>
            <p:spPr>
              <a:xfrm>
                <a:off x="7889400" y="7714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0"/>
            <p:cNvGrpSpPr/>
            <p:nvPr/>
          </p:nvGrpSpPr>
          <p:grpSpPr>
            <a:xfrm>
              <a:off x="8061120" y="714240"/>
              <a:ext cx="347760" cy="542880"/>
              <a:chOff x="8061120" y="714240"/>
              <a:chExt cx="347760" cy="542880"/>
            </a:xfrm>
          </p:grpSpPr>
          <p:sp>
            <p:nvSpPr>
              <p:cNvPr id="435" name="Freeform 21"/>
              <p:cNvSpPr/>
              <p:nvPr/>
            </p:nvSpPr>
            <p:spPr>
              <a:xfrm>
                <a:off x="8061120" y="71424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"/>
              <p:cNvSpPr/>
              <p:nvPr/>
            </p:nvSpPr>
            <p:spPr>
              <a:xfrm>
                <a:off x="8075520" y="75240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"/>
              <p:cNvSpPr/>
              <p:nvPr/>
            </p:nvSpPr>
            <p:spPr>
              <a:xfrm>
                <a:off x="8194320" y="115236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8" name="Picture 24" descr="1161711461_74"/>
          <p:cNvPicPr/>
          <p:nvPr/>
        </p:nvPicPr>
        <p:blipFill>
          <a:blip r:embed="rId3"/>
          <a:stretch/>
        </p:blipFill>
        <p:spPr>
          <a:xfrm>
            <a:off x="468360" y="333360"/>
            <a:ext cx="984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0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11280" y="1484280"/>
            <a:ext cx="7921440" cy="4321080"/>
          </a:xfrm>
          <a:custGeom>
            <a:avLst/>
            <a:gdLst>
              <a:gd name="textAreaLeft" fmla="*/ 280080 w 7921440"/>
              <a:gd name="textAreaRight" fmla="*/ 7641360 w 7921440"/>
              <a:gd name="textAreaTop" fmla="*/ 280080 h 4321080"/>
              <a:gd name="textAreaBottom" fmla="*/ 4041000 h 432108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Какому ученом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физику и математи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принадлежат сло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Elephant"/>
              </a:rPr>
              <a:t>«То, что может превыш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i="1" lang="ru-RU" sz="3600" spc="-1" strike="noStrike">
                <a:solidFill>
                  <a:srgbClr val="cc3300"/>
                </a:solidFill>
                <a:latin typeface="Elephant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Elephant"/>
              </a:rPr>
              <a:t>геометрию</a:t>
            </a:r>
            <a:r>
              <a:rPr b="1" i="1" lang="ru-RU" sz="3600" spc="-1" strike="noStrike">
                <a:solidFill>
                  <a:srgbClr val="000000"/>
                </a:solidFill>
                <a:latin typeface="Elephant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Elephant"/>
              </a:rPr>
              <a:t>превышает нас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863640" y="1484280"/>
            <a:ext cx="7416720" cy="1312920"/>
          </a:xfrm>
          <a:prstGeom prst="rect">
            <a:avLst/>
          </a:prstGeom>
          <a:solidFill>
            <a:srgbClr val="ffc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66"/>
                </a:solidFill>
                <a:uFillTx/>
                <a:latin typeface="Elephant"/>
              </a:rPr>
              <a:t>Паскал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7" descr="часы"/>
          <p:cNvPicPr/>
          <p:nvPr/>
        </p:nvPicPr>
        <p:blipFill>
          <a:blip r:embed="rId1"/>
          <a:stretch/>
        </p:blipFill>
        <p:spPr>
          <a:xfrm>
            <a:off x="7524720" y="4724280"/>
            <a:ext cx="714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8"/>
          <p:cNvGrpSpPr/>
          <p:nvPr/>
        </p:nvGrpSpPr>
        <p:grpSpPr>
          <a:xfrm>
            <a:off x="7451640" y="333360"/>
            <a:ext cx="957240" cy="923760"/>
            <a:chOff x="7451640" y="333360"/>
            <a:chExt cx="957240" cy="923760"/>
          </a:xfrm>
        </p:grpSpPr>
        <p:grpSp>
          <p:nvGrpSpPr>
            <p:cNvPr id="444" name="Group 9"/>
            <p:cNvGrpSpPr/>
            <p:nvPr/>
          </p:nvGrpSpPr>
          <p:grpSpPr>
            <a:xfrm>
              <a:off x="7451640" y="714240"/>
              <a:ext cx="347400" cy="542880"/>
              <a:chOff x="7451640" y="714240"/>
              <a:chExt cx="347400" cy="542880"/>
            </a:xfrm>
          </p:grpSpPr>
          <p:sp>
            <p:nvSpPr>
              <p:cNvPr id="445" name="Freeform 10"/>
              <p:cNvSpPr/>
              <p:nvPr/>
            </p:nvSpPr>
            <p:spPr>
              <a:xfrm>
                <a:off x="7451640" y="71424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1"/>
              <p:cNvSpPr/>
              <p:nvPr/>
            </p:nvSpPr>
            <p:spPr>
              <a:xfrm>
                <a:off x="7465680" y="75240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2"/>
              <p:cNvSpPr/>
              <p:nvPr/>
            </p:nvSpPr>
            <p:spPr>
              <a:xfrm>
                <a:off x="7584480" y="115236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13"/>
            <p:cNvGrpSpPr/>
            <p:nvPr/>
          </p:nvGrpSpPr>
          <p:grpSpPr>
            <a:xfrm>
              <a:off x="7756200" y="333360"/>
              <a:ext cx="347760" cy="542880"/>
              <a:chOff x="7756200" y="333360"/>
              <a:chExt cx="347760" cy="542880"/>
            </a:xfrm>
          </p:grpSpPr>
          <p:sp>
            <p:nvSpPr>
              <p:cNvPr id="449" name="Freeform 14"/>
              <p:cNvSpPr/>
              <p:nvPr/>
            </p:nvSpPr>
            <p:spPr>
              <a:xfrm>
                <a:off x="7756200" y="3333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5"/>
              <p:cNvSpPr/>
              <p:nvPr/>
            </p:nvSpPr>
            <p:spPr>
              <a:xfrm>
                <a:off x="7770600" y="3715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6"/>
              <p:cNvSpPr/>
              <p:nvPr/>
            </p:nvSpPr>
            <p:spPr>
              <a:xfrm>
                <a:off x="7889400" y="7714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17"/>
            <p:cNvGrpSpPr/>
            <p:nvPr/>
          </p:nvGrpSpPr>
          <p:grpSpPr>
            <a:xfrm>
              <a:off x="8061120" y="714240"/>
              <a:ext cx="347760" cy="542880"/>
              <a:chOff x="8061120" y="714240"/>
              <a:chExt cx="347760" cy="542880"/>
            </a:xfrm>
          </p:grpSpPr>
          <p:sp>
            <p:nvSpPr>
              <p:cNvPr id="453" name="Freeform 18"/>
              <p:cNvSpPr/>
              <p:nvPr/>
            </p:nvSpPr>
            <p:spPr>
              <a:xfrm>
                <a:off x="8061120" y="71424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"/>
              <p:cNvSpPr/>
              <p:nvPr/>
            </p:nvSpPr>
            <p:spPr>
              <a:xfrm>
                <a:off x="8075520" y="75240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0"/>
              <p:cNvSpPr/>
              <p:nvPr/>
            </p:nvSpPr>
            <p:spPr>
              <a:xfrm>
                <a:off x="8194320" y="115236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6" name="Picture 21" descr="1161711461_74"/>
          <p:cNvPicPr/>
          <p:nvPr/>
        </p:nvPicPr>
        <p:blipFill>
          <a:blip r:embed="rId2"/>
          <a:stretch/>
        </p:blipFill>
        <p:spPr>
          <a:xfrm>
            <a:off x="468360" y="333360"/>
            <a:ext cx="984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971640" y="1413000"/>
            <a:ext cx="7345440" cy="4537080"/>
          </a:xfrm>
          <a:custGeom>
            <a:avLst/>
            <a:gdLst>
              <a:gd name="textAreaLeft" fmla="*/ 293760 w 7345440"/>
              <a:gd name="textAreaRight" fmla="*/ 7051680 w 7345440"/>
              <a:gd name="textAreaTop" fmla="*/ 293760 h 4537080"/>
              <a:gd name="textAreaBottom" fmla="*/ 4243320 h 4537080"/>
            </a:gdLst>
            <a:ahLst/>
            <a:rect l="textAreaLeft" t="textAreaTop" r="textAreaRight" b="textAreaBottom"/>
            <a:pathLst>
              <a:path w="34969" h="21600">
                <a:moveTo>
                  <a:pt x="0" y="0"/>
                </a:moveTo>
                <a:lnTo>
                  <a:pt x="34969" y="0"/>
                </a:lnTo>
                <a:lnTo>
                  <a:pt x="34969" y="21600"/>
                </a:lnTo>
                <a:lnTo>
                  <a:pt x="0" y="21600"/>
                </a:lnTo>
                <a:close/>
              </a:path>
              <a:path fill="lightenLess" w="34969" h="21600">
                <a:moveTo>
                  <a:pt x="0" y="0"/>
                </a:moveTo>
                <a:lnTo>
                  <a:pt x="34969" y="0"/>
                </a:lnTo>
                <a:lnTo>
                  <a:pt x="33569" y="1400"/>
                </a:lnTo>
                <a:lnTo>
                  <a:pt x="1400" y="1400"/>
                </a:lnTo>
                <a:close/>
              </a:path>
              <a:path fill="darken" w="34969" h="21600">
                <a:moveTo>
                  <a:pt x="34969" y="0"/>
                </a:moveTo>
                <a:lnTo>
                  <a:pt x="34969" y="21600"/>
                </a:lnTo>
                <a:lnTo>
                  <a:pt x="33569" y="20200"/>
                </a:lnTo>
                <a:lnTo>
                  <a:pt x="33569" y="1400"/>
                </a:lnTo>
                <a:close/>
              </a:path>
              <a:path fill="darkenLess" w="34969" h="21600">
                <a:moveTo>
                  <a:pt x="34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69" y="20200"/>
                </a:lnTo>
                <a:close/>
              </a:path>
              <a:path fill="lighten" w="34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Elephant"/>
              </a:rPr>
              <a:t>Геометрическая фигу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Elephant"/>
              </a:rPr>
              <a:t>обозначаемая одной бук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2627280" y="4437000"/>
            <a:ext cx="13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Elephant"/>
              </a:rPr>
              <a:t>. </a:t>
            </a:r>
            <a:r>
              <a:rPr b="1" lang="ru-RU" sz="7200" spc="-1" strike="noStrike">
                <a:solidFill>
                  <a:srgbClr val="990000"/>
                </a:solidFill>
                <a:latin typeface="Elephant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8" descr="часы"/>
          <p:cNvPicPr/>
          <p:nvPr/>
        </p:nvPicPr>
        <p:blipFill>
          <a:blip r:embed="rId1"/>
          <a:stretch/>
        </p:blipFill>
        <p:spPr>
          <a:xfrm>
            <a:off x="7308720" y="4832280"/>
            <a:ext cx="714600" cy="82872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9"/>
          <p:cNvGrpSpPr/>
          <p:nvPr/>
        </p:nvGrpSpPr>
        <p:grpSpPr>
          <a:xfrm>
            <a:off x="7451640" y="333360"/>
            <a:ext cx="957240" cy="923760"/>
            <a:chOff x="7451640" y="333360"/>
            <a:chExt cx="957240" cy="923760"/>
          </a:xfrm>
        </p:grpSpPr>
        <p:grpSp>
          <p:nvGrpSpPr>
            <p:cNvPr id="462" name="Group 10"/>
            <p:cNvGrpSpPr/>
            <p:nvPr/>
          </p:nvGrpSpPr>
          <p:grpSpPr>
            <a:xfrm>
              <a:off x="7451640" y="714240"/>
              <a:ext cx="347400" cy="542880"/>
              <a:chOff x="7451640" y="714240"/>
              <a:chExt cx="347400" cy="542880"/>
            </a:xfrm>
          </p:grpSpPr>
          <p:sp>
            <p:nvSpPr>
              <p:cNvPr id="463" name="Freeform 11"/>
              <p:cNvSpPr/>
              <p:nvPr/>
            </p:nvSpPr>
            <p:spPr>
              <a:xfrm>
                <a:off x="7451640" y="71424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"/>
              <p:cNvSpPr/>
              <p:nvPr/>
            </p:nvSpPr>
            <p:spPr>
              <a:xfrm>
                <a:off x="7465680" y="75240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3"/>
              <p:cNvSpPr/>
              <p:nvPr/>
            </p:nvSpPr>
            <p:spPr>
              <a:xfrm>
                <a:off x="7584480" y="115236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4"/>
            <p:cNvGrpSpPr/>
            <p:nvPr/>
          </p:nvGrpSpPr>
          <p:grpSpPr>
            <a:xfrm>
              <a:off x="7756200" y="333360"/>
              <a:ext cx="347760" cy="542880"/>
              <a:chOff x="7756200" y="333360"/>
              <a:chExt cx="347760" cy="542880"/>
            </a:xfrm>
          </p:grpSpPr>
          <p:sp>
            <p:nvSpPr>
              <p:cNvPr id="467" name="Freeform 15"/>
              <p:cNvSpPr/>
              <p:nvPr/>
            </p:nvSpPr>
            <p:spPr>
              <a:xfrm>
                <a:off x="7756200" y="33336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6"/>
              <p:cNvSpPr/>
              <p:nvPr/>
            </p:nvSpPr>
            <p:spPr>
              <a:xfrm>
                <a:off x="7770600" y="37152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7"/>
              <p:cNvSpPr/>
              <p:nvPr/>
            </p:nvSpPr>
            <p:spPr>
              <a:xfrm>
                <a:off x="7889400" y="77148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8"/>
            <p:cNvGrpSpPr/>
            <p:nvPr/>
          </p:nvGrpSpPr>
          <p:grpSpPr>
            <a:xfrm>
              <a:off x="8061120" y="714240"/>
              <a:ext cx="347760" cy="542880"/>
              <a:chOff x="8061120" y="714240"/>
              <a:chExt cx="347760" cy="542880"/>
            </a:xfrm>
          </p:grpSpPr>
          <p:sp>
            <p:nvSpPr>
              <p:cNvPr id="471" name="Freeform 19"/>
              <p:cNvSpPr/>
              <p:nvPr/>
            </p:nvSpPr>
            <p:spPr>
              <a:xfrm>
                <a:off x="8061120" y="71424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0"/>
              <p:cNvSpPr/>
              <p:nvPr/>
            </p:nvSpPr>
            <p:spPr>
              <a:xfrm>
                <a:off x="8075520" y="75240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"/>
              <p:cNvSpPr/>
              <p:nvPr/>
            </p:nvSpPr>
            <p:spPr>
              <a:xfrm>
                <a:off x="8194320" y="115236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4" name="Picture 22" descr="1161711461_74"/>
          <p:cNvPicPr/>
          <p:nvPr/>
        </p:nvPicPr>
        <p:blipFill>
          <a:blip r:embed="rId2"/>
          <a:stretch/>
        </p:blipFill>
        <p:spPr>
          <a:xfrm>
            <a:off x="468360" y="333360"/>
            <a:ext cx="984240" cy="1008000"/>
          </a:xfrm>
          <a:prstGeom prst="rect">
            <a:avLst/>
          </a:prstGeom>
          <a:ln w="0">
            <a:noFill/>
          </a:ln>
        </p:spPr>
      </p:pic>
      <p:sp>
        <p:nvSpPr>
          <p:cNvPr id="475" name="WordArt 7"/>
          <p:cNvSpPr txBox="1"/>
          <p:nvPr/>
        </p:nvSpPr>
        <p:spPr>
          <a:xfrm>
            <a:off x="4211640" y="443700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Точ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" descr="1"/>
          <p:cNvPicPr/>
          <p:nvPr/>
        </p:nvPicPr>
        <p:blipFill>
          <a:blip r:embed="rId1"/>
          <a:stretch/>
        </p:blipFill>
        <p:spPr>
          <a:xfrm>
            <a:off x="1440000" y="303120"/>
            <a:ext cx="626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1"/>
          <a:srcRect l="0" t="6076" r="0" b="0"/>
          <a:stretch/>
        </p:blipFill>
        <p:spPr>
          <a:xfrm>
            <a:off x="3780000" y="2927520"/>
            <a:ext cx="1558800" cy="2016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Felix Titling"/>
              </a:rPr>
              <a:t>МАТЕМАТИЧЕСКОЕ </a:t>
            </a:r>
            <a:br>
              <a:rPr sz="5400"/>
            </a:br>
            <a:r>
              <a:rPr b="1" lang="ru-RU" sz="5400" spc="-1" strike="noStrike">
                <a:solidFill>
                  <a:srgbClr val="cc00cc"/>
                </a:solidFill>
                <a:latin typeface="Felix Titling"/>
              </a:rPr>
              <a:t>ПУТЕШЕСТВИЕ</a:t>
            </a:r>
            <a:endParaRPr b="0" lang="en-US" sz="5400" spc="-1" strike="noStrike">
              <a:solidFill>
                <a:srgbClr val="000000"/>
              </a:solidFill>
              <a:latin typeface="Felix Titling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2728800" y="5786280"/>
            <a:ext cx="37432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Felix Titling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541600" cy="3168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"/>
          <p:cNvPicPr/>
          <p:nvPr/>
        </p:nvPicPr>
        <p:blipFill>
          <a:blip r:embed="rId3"/>
          <a:stretch/>
        </p:blipFill>
        <p:spPr>
          <a:xfrm>
            <a:off x="6516720" y="328464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0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83040" cy="6264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716440" cy="6192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"/>
          <p:cNvPicPr/>
          <p:nvPr/>
        </p:nvPicPr>
        <p:blipFill>
          <a:blip r:embed="rId3"/>
          <a:stretch/>
        </p:blipFill>
        <p:spPr>
          <a:xfrm>
            <a:off x="1835280" y="404640"/>
            <a:ext cx="5584680" cy="60487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971640" y="522936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Monotype Corsiva"/>
              </a:rPr>
              <a:t>СПАСИБО ЗА ИГР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1" descr="Новый рисунок (4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3716280"/>
            <a:ext cx="2602080" cy="29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Новый рисунок (12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940360" y="333360"/>
            <a:ext cx="2921040" cy="21528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9">
            <a:hlinkClick r:id="rId5" action="ppaction://hlinksldjump"/>
          </p:cNvPr>
          <p:cNvSpPr/>
          <p:nvPr/>
        </p:nvSpPr>
        <p:spPr>
          <a:xfrm>
            <a:off x="2411280" y="3705120"/>
            <a:ext cx="1729080" cy="1495440"/>
          </a:xfrm>
          <a:prstGeom prst="hexagon">
            <a:avLst>
              <a:gd name="adj" fmla="val 28906"/>
              <a:gd name="vf" fmla="val 11547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6" action="ppaction://hlinksldjump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>
            <a:hlinkClick r:id="rId7" action="ppaction://hlinksldjump"/>
          </p:cNvPr>
          <p:cNvSpPr/>
          <p:nvPr/>
        </p:nvSpPr>
        <p:spPr>
          <a:xfrm>
            <a:off x="3708360" y="4454640"/>
            <a:ext cx="1728720" cy="1495440"/>
          </a:xfrm>
          <a:prstGeom prst="hexagon">
            <a:avLst>
              <a:gd name="adj" fmla="val 28900"/>
              <a:gd name="vf" fmla="val 11547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8" action="ppaction://hlinksldjump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rId9" action="ppaction://hlinksldjump"/>
          </p:cNvPr>
          <p:cNvSpPr/>
          <p:nvPr/>
        </p:nvSpPr>
        <p:spPr>
          <a:xfrm>
            <a:off x="2411280" y="2222640"/>
            <a:ext cx="1729080" cy="1495440"/>
          </a:xfrm>
          <a:prstGeom prst="hexagon">
            <a:avLst>
              <a:gd name="adj" fmla="val 28906"/>
              <a:gd name="vf" fmla="val 115470"/>
            </a:avLst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0" action="ppaction://hlinksldjump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11" action="ppaction://hlinksldjump"/>
          </p:cNvPr>
          <p:cNvSpPr/>
          <p:nvPr/>
        </p:nvSpPr>
        <p:spPr>
          <a:xfrm>
            <a:off x="3708360" y="2955960"/>
            <a:ext cx="1728720" cy="1495440"/>
          </a:xfrm>
          <a:prstGeom prst="hexagon">
            <a:avLst>
              <a:gd name="adj" fmla="val 28900"/>
              <a:gd name="vf" fmla="val 11547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2" action="ppaction://hlinksldjump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>
            <a:hlinkClick r:id="rId13" action="ppaction://hlinksldjump"/>
          </p:cNvPr>
          <p:cNvSpPr/>
          <p:nvPr/>
        </p:nvSpPr>
        <p:spPr>
          <a:xfrm>
            <a:off x="5003640" y="3705120"/>
            <a:ext cx="1729080" cy="1495440"/>
          </a:xfrm>
          <a:prstGeom prst="hexagon">
            <a:avLst>
              <a:gd name="adj" fmla="val 28906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4" action="ppaction://hlinksldjump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>
            <a:hlinkClick r:id="rId15" action="ppaction://hlinksldjump"/>
          </p:cNvPr>
          <p:cNvSpPr/>
          <p:nvPr/>
        </p:nvSpPr>
        <p:spPr>
          <a:xfrm>
            <a:off x="3693960" y="1473120"/>
            <a:ext cx="1729080" cy="1495440"/>
          </a:xfrm>
          <a:prstGeom prst="hexagon">
            <a:avLst>
              <a:gd name="adj" fmla="val 28906"/>
              <a:gd name="vf" fmla="val 11547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6" action="ppaction://hlinksldjump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>
            <a:hlinkClick r:id="rId17" action="ppaction://hlinksldjump"/>
          </p:cNvPr>
          <p:cNvSpPr/>
          <p:nvPr/>
        </p:nvSpPr>
        <p:spPr>
          <a:xfrm>
            <a:off x="4989600" y="2222640"/>
            <a:ext cx="1728720" cy="1495440"/>
          </a:xfrm>
          <a:prstGeom prst="hexagon">
            <a:avLst>
              <a:gd name="adj" fmla="val 28900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8" action="ppaction://hlinksldjump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8"/>
          <p:cNvSpPr txBox="1"/>
          <p:nvPr/>
        </p:nvSpPr>
        <p:spPr>
          <a:xfrm rot="5400000">
            <a:off x="-1764000" y="2781360"/>
            <a:ext cx="612000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гебра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Новый рисунок (2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3429000"/>
            <a:ext cx="3095640" cy="3228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Новый рисуно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70440" y="3429000"/>
            <a:ext cx="312264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/>
          <p:cNvSpPr/>
          <p:nvPr/>
        </p:nvSpPr>
        <p:spPr>
          <a:xfrm>
            <a:off x="1849320" y="2608200"/>
            <a:ext cx="1800360" cy="1800360"/>
          </a:xfrm>
          <a:prstGeom prst="diamond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5" action="ppaction://hlinksldjump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755800" y="3500280"/>
            <a:ext cx="1800360" cy="1800360"/>
          </a:xfrm>
          <a:prstGeom prst="diamond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6" action="ppaction://hlinksldjump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741760" y="1716120"/>
            <a:ext cx="1800000" cy="180036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7" action="ppaction://hlinksldjump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649680" y="2608200"/>
            <a:ext cx="1800360" cy="1800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8" action="ppaction://hlinksldjump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556160" y="1714680"/>
            <a:ext cx="1800360" cy="1800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9" action="ppaction://hlinksldjump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4556160" y="3500280"/>
            <a:ext cx="1800360" cy="1800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0" action="ppaction://hlinksldjump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5450040" y="2608200"/>
            <a:ext cx="1800000" cy="1800360"/>
          </a:xfrm>
          <a:prstGeom prst="diamond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1" action="ppaction://hlinksldjump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826920" y="549360"/>
            <a:ext cx="749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 логика...</a:t>
            </a:r>
            <a:endParaRPr b="1" i="1" lang="en-US" sz="1800" spc="1" strike="noStrike">
              <a:ln w="255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Новый рисунок (7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3429000"/>
            <a:ext cx="3067200" cy="3252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Новый рисунок (8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429000"/>
            <a:ext cx="308628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2828880" y="3029040"/>
            <a:ext cx="1728720" cy="1495440"/>
          </a:xfrm>
          <a:prstGeom prst="triangle">
            <a:avLst>
              <a:gd name="adj" fmla="val 50000"/>
            </a:avLst>
          </a:prstGeom>
          <a:solidFill>
            <a:srgbClr val="33cc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5" action="ppaction://hlinksldjump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572000" y="3014640"/>
            <a:ext cx="1728720" cy="1495440"/>
          </a:xfrm>
          <a:prstGeom prst="triangle">
            <a:avLst>
              <a:gd name="adj" fmla="val 50000"/>
            </a:avLst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6" action="ppaction://hlinksldjump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693960" y="1515960"/>
            <a:ext cx="1729080" cy="1495440"/>
          </a:xfrm>
          <a:prstGeom prst="triangle">
            <a:avLst>
              <a:gd name="adj" fmla="val 50000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7" action="ppaction://hlinksldjump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1965240" y="4525920"/>
            <a:ext cx="1728720" cy="1495440"/>
          </a:xfrm>
          <a:prstGeom prst="triangle">
            <a:avLst>
              <a:gd name="adj" fmla="val 50000"/>
            </a:avLst>
          </a:prstGeom>
          <a:solidFill>
            <a:srgbClr val="ff99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8" action="ppaction://hlinksldjump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3708360" y="4525920"/>
            <a:ext cx="1728720" cy="1495440"/>
          </a:xfrm>
          <a:prstGeom prst="triangle">
            <a:avLst>
              <a:gd name="adj" fmla="val 50000"/>
            </a:avLst>
          </a:prstGeom>
          <a:solidFill>
            <a:srgbClr val="ff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9" action="ppaction://hlinksldjump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5435640" y="4525920"/>
            <a:ext cx="1728720" cy="1495440"/>
          </a:xfrm>
          <a:prstGeom prst="triangle">
            <a:avLst>
              <a:gd name="adj" fmla="val 50000"/>
            </a:avLst>
          </a:prstGeom>
          <a:solidFill>
            <a:srgbClr val="3366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0" action="ppaction://hlinksldjump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1258920" y="260280"/>
            <a:ext cx="665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5e2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ГЕОМЕТРИЯ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c5e2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3944880" y="4581360"/>
            <a:ext cx="1224000" cy="1224000"/>
          </a:xfrm>
          <a:prstGeom prst="rect">
            <a:avLst/>
          </a:prstGeom>
          <a:solidFill>
            <a:srgbClr val="ff00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1" action="ppaction://hlinksldjump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716360" y="3357720"/>
            <a:ext cx="1224000" cy="1223640"/>
          </a:xfrm>
          <a:prstGeom prst="rect">
            <a:avLst/>
          </a:prstGeom>
          <a:solidFill>
            <a:srgbClr val="ff99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2" action="ppaction://hlinksldjump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160800" y="3357720"/>
            <a:ext cx="1224000" cy="1223640"/>
          </a:xfrm>
          <a:prstGeom prst="rect">
            <a:avLst/>
          </a:prstGeom>
          <a:solidFill>
            <a:srgbClr val="00ff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3" action="ppaction://hlinksldjump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435640" y="2133720"/>
            <a:ext cx="1224000" cy="1224000"/>
          </a:xfrm>
          <a:prstGeom prst="rect">
            <a:avLst/>
          </a:prstGeom>
          <a:solidFill>
            <a:srgbClr val="66ff66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3952800" y="2125800"/>
            <a:ext cx="1224000" cy="1224000"/>
          </a:xfrm>
          <a:prstGeom prst="rect">
            <a:avLst/>
          </a:prstGeom>
          <a:solidFill>
            <a:srgbClr val="0000f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411280" y="2125800"/>
            <a:ext cx="1224000" cy="1224000"/>
          </a:xfrm>
          <a:prstGeom prst="rect">
            <a:avLst/>
          </a:prstGeom>
          <a:solidFill>
            <a:srgbClr val="ff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ff5050"/>
                </a:solidFill>
                <a:uFillTx/>
                <a:latin typeface="Elephant"/>
                <a:hlinkClick r:id="rId6" action="ppaction://hlinksldjump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8"/>
          <p:cNvSpPr txBox="1"/>
          <p:nvPr/>
        </p:nvSpPr>
        <p:spPr>
          <a:xfrm>
            <a:off x="903240" y="260280"/>
            <a:ext cx="20131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9"/>
          <p:cNvSpPr txBox="1"/>
          <p:nvPr/>
        </p:nvSpPr>
        <p:spPr>
          <a:xfrm>
            <a:off x="5583240" y="260280"/>
            <a:ext cx="28051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20"/>
          <p:cNvSpPr txBox="1"/>
          <p:nvPr/>
        </p:nvSpPr>
        <p:spPr>
          <a:xfrm>
            <a:off x="3208320" y="260280"/>
            <a:ext cx="20844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21" descr="08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437000"/>
            <a:ext cx="2087640" cy="2087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2"/>
          <p:cNvGrpSpPr/>
          <p:nvPr/>
        </p:nvGrpSpPr>
        <p:grpSpPr>
          <a:xfrm>
            <a:off x="7162920" y="3809880"/>
            <a:ext cx="1257120" cy="2514600"/>
            <a:chOff x="7162920" y="3809880"/>
            <a:chExt cx="1257120" cy="2514600"/>
          </a:xfrm>
        </p:grpSpPr>
        <p:grpSp>
          <p:nvGrpSpPr>
            <p:cNvPr id="108" name="Group 23"/>
            <p:cNvGrpSpPr/>
            <p:nvPr/>
          </p:nvGrpSpPr>
          <p:grpSpPr>
            <a:xfrm>
              <a:off x="7236000" y="5510160"/>
              <a:ext cx="1177920" cy="814320"/>
              <a:chOff x="7236000" y="5510160"/>
              <a:chExt cx="1177920" cy="814320"/>
            </a:xfrm>
          </p:grpSpPr>
          <p:sp>
            <p:nvSpPr>
              <p:cNvPr id="109" name="Freeform 24">
                <a:hlinkClick r:id="" action="ppaction://hlinkshowjump?jump=lastslide"/>
              </p:cNvPr>
              <p:cNvSpPr/>
              <p:nvPr/>
            </p:nvSpPr>
            <p:spPr>
              <a:xfrm>
                <a:off x="7236000" y="5510160"/>
                <a:ext cx="1177920" cy="814320"/>
              </a:xfrm>
              <a:custGeom>
                <a:avLst/>
                <a:gdLst>
                  <a:gd name="textAreaLeft" fmla="*/ 0 w 1177920"/>
                  <a:gd name="textAreaRight" fmla="*/ 1178280 w 117792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742" h="513">
                    <a:moveTo>
                      <a:pt x="236" y="179"/>
                    </a:moveTo>
                    <a:lnTo>
                      <a:pt x="258" y="110"/>
                    </a:lnTo>
                    <a:lnTo>
                      <a:pt x="269" y="74"/>
                    </a:lnTo>
                    <a:lnTo>
                      <a:pt x="274" y="58"/>
                    </a:lnTo>
                    <a:lnTo>
                      <a:pt x="285" y="0"/>
                    </a:lnTo>
                    <a:lnTo>
                      <a:pt x="496" y="7"/>
                    </a:lnTo>
                    <a:lnTo>
                      <a:pt x="499" y="24"/>
                    </a:lnTo>
                    <a:lnTo>
                      <a:pt x="500" y="43"/>
                    </a:lnTo>
                    <a:lnTo>
                      <a:pt x="497" y="61"/>
                    </a:lnTo>
                    <a:lnTo>
                      <a:pt x="494" y="73"/>
                    </a:lnTo>
                    <a:lnTo>
                      <a:pt x="487" y="84"/>
                    </a:lnTo>
                    <a:lnTo>
                      <a:pt x="478" y="95"/>
                    </a:lnTo>
                    <a:lnTo>
                      <a:pt x="457" y="122"/>
                    </a:lnTo>
                    <a:lnTo>
                      <a:pt x="445" y="138"/>
                    </a:lnTo>
                    <a:lnTo>
                      <a:pt x="392" y="190"/>
                    </a:lnTo>
                    <a:lnTo>
                      <a:pt x="395" y="206"/>
                    </a:lnTo>
                    <a:lnTo>
                      <a:pt x="379" y="213"/>
                    </a:lnTo>
                    <a:lnTo>
                      <a:pt x="405" y="343"/>
                    </a:lnTo>
                    <a:lnTo>
                      <a:pt x="432" y="400"/>
                    </a:lnTo>
                    <a:lnTo>
                      <a:pt x="469" y="445"/>
                    </a:lnTo>
                    <a:lnTo>
                      <a:pt x="527" y="461"/>
                    </a:lnTo>
                    <a:lnTo>
                      <a:pt x="594" y="457"/>
                    </a:lnTo>
                    <a:lnTo>
                      <a:pt x="631" y="469"/>
                    </a:lnTo>
                    <a:lnTo>
                      <a:pt x="717" y="469"/>
                    </a:lnTo>
                    <a:lnTo>
                      <a:pt x="742" y="480"/>
                    </a:lnTo>
                    <a:lnTo>
                      <a:pt x="734" y="496"/>
                    </a:lnTo>
                    <a:lnTo>
                      <a:pt x="680" y="513"/>
                    </a:lnTo>
                    <a:lnTo>
                      <a:pt x="503" y="513"/>
                    </a:lnTo>
                    <a:lnTo>
                      <a:pt x="449" y="501"/>
                    </a:lnTo>
                    <a:lnTo>
                      <a:pt x="404" y="501"/>
                    </a:lnTo>
                    <a:lnTo>
                      <a:pt x="361" y="503"/>
                    </a:lnTo>
                    <a:lnTo>
                      <a:pt x="342" y="483"/>
                    </a:lnTo>
                    <a:lnTo>
                      <a:pt x="320" y="497"/>
                    </a:lnTo>
                    <a:lnTo>
                      <a:pt x="303" y="498"/>
                    </a:lnTo>
                    <a:lnTo>
                      <a:pt x="286" y="500"/>
                    </a:lnTo>
                    <a:lnTo>
                      <a:pt x="228" y="493"/>
                    </a:lnTo>
                    <a:lnTo>
                      <a:pt x="195" y="493"/>
                    </a:lnTo>
                    <a:lnTo>
                      <a:pt x="103" y="500"/>
                    </a:lnTo>
                    <a:lnTo>
                      <a:pt x="4" y="491"/>
                    </a:lnTo>
                    <a:lnTo>
                      <a:pt x="0" y="477"/>
                    </a:lnTo>
                    <a:lnTo>
                      <a:pt x="37" y="473"/>
                    </a:lnTo>
                    <a:lnTo>
                      <a:pt x="66" y="446"/>
                    </a:lnTo>
                    <a:lnTo>
                      <a:pt x="108" y="440"/>
                    </a:lnTo>
                    <a:lnTo>
                      <a:pt x="166" y="454"/>
                    </a:lnTo>
                    <a:lnTo>
                      <a:pt x="227" y="454"/>
                    </a:lnTo>
                    <a:lnTo>
                      <a:pt x="251" y="406"/>
                    </a:lnTo>
                    <a:lnTo>
                      <a:pt x="225" y="236"/>
                    </a:lnTo>
                    <a:lnTo>
                      <a:pt x="224" y="221"/>
                    </a:lnTo>
                    <a:lnTo>
                      <a:pt x="227" y="207"/>
                    </a:lnTo>
                    <a:lnTo>
                      <a:pt x="236" y="179"/>
                    </a:lnTo>
                    <a:close/>
                  </a:path>
                </a:pathLst>
              </a:custGeom>
              <a:solidFill>
                <a:srgbClr val="002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5"/>
              <p:cNvGrpSpPr/>
              <p:nvPr/>
            </p:nvGrpSpPr>
            <p:grpSpPr>
              <a:xfrm>
                <a:off x="7715160" y="5613120"/>
                <a:ext cx="120960" cy="635040"/>
                <a:chOff x="7715160" y="5613120"/>
                <a:chExt cx="120960" cy="635040"/>
              </a:xfrm>
            </p:grpSpPr>
            <p:sp>
              <p:nvSpPr>
                <p:cNvPr id="111" name="Freeform 26"/>
                <p:cNvSpPr/>
                <p:nvPr/>
              </p:nvSpPr>
              <p:spPr>
                <a:xfrm>
                  <a:off x="7715160" y="5618160"/>
                  <a:ext cx="120960" cy="63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630000"/>
                    <a:gd name="textAreaBottom" fmla="*/ 630360 h 630000"/>
                  </a:gdLst>
                  <a:ahLst/>
                  <a:rect l="textAreaLeft" t="textAreaTop" r="textAreaRight" b="textAreaBottom"/>
                  <a:pathLst>
                    <a:path w="76" h="397">
                      <a:moveTo>
                        <a:pt x="76" y="0"/>
                      </a:moveTo>
                      <a:lnTo>
                        <a:pt x="51" y="53"/>
                      </a:lnTo>
                      <a:lnTo>
                        <a:pt x="9" y="122"/>
                      </a:lnTo>
                      <a:lnTo>
                        <a:pt x="1" y="137"/>
                      </a:lnTo>
                      <a:lnTo>
                        <a:pt x="0" y="152"/>
                      </a:lnTo>
                      <a:lnTo>
                        <a:pt x="1" y="171"/>
                      </a:lnTo>
                      <a:lnTo>
                        <a:pt x="27" y="294"/>
                      </a:lnTo>
                      <a:lnTo>
                        <a:pt x="34" y="39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7"/>
                <p:cNvSpPr/>
                <p:nvPr/>
              </p:nvSpPr>
              <p:spPr>
                <a:xfrm>
                  <a:off x="7797960" y="5613120"/>
                  <a:ext cx="4680" cy="748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Group 28"/>
            <p:cNvGrpSpPr/>
            <p:nvPr/>
          </p:nvGrpSpPr>
          <p:grpSpPr>
            <a:xfrm>
              <a:off x="7162920" y="4770360"/>
              <a:ext cx="1257120" cy="792000"/>
              <a:chOff x="7162920" y="4770360"/>
              <a:chExt cx="1257120" cy="792000"/>
            </a:xfrm>
          </p:grpSpPr>
          <p:grpSp>
            <p:nvGrpSpPr>
              <p:cNvPr id="114" name="Group 29"/>
              <p:cNvGrpSpPr/>
              <p:nvPr/>
            </p:nvGrpSpPr>
            <p:grpSpPr>
              <a:xfrm>
                <a:off x="7356600" y="4892400"/>
                <a:ext cx="879480" cy="669960"/>
                <a:chOff x="7356600" y="4892400"/>
                <a:chExt cx="879480" cy="669960"/>
              </a:xfrm>
            </p:grpSpPr>
            <p:grpSp>
              <p:nvGrpSpPr>
                <p:cNvPr id="115" name="Group 30"/>
                <p:cNvGrpSpPr/>
                <p:nvPr/>
              </p:nvGrpSpPr>
              <p:grpSpPr>
                <a:xfrm>
                  <a:off x="7356600" y="4910040"/>
                  <a:ext cx="879480" cy="652320"/>
                  <a:chOff x="7356600" y="4910040"/>
                  <a:chExt cx="879480" cy="652320"/>
                </a:xfrm>
              </p:grpSpPr>
              <p:grpSp>
                <p:nvGrpSpPr>
                  <p:cNvPr id="116" name="Group 31"/>
                  <p:cNvGrpSpPr/>
                  <p:nvPr/>
                </p:nvGrpSpPr>
                <p:grpSpPr>
                  <a:xfrm>
                    <a:off x="7356600" y="4910040"/>
                    <a:ext cx="879480" cy="652320"/>
                    <a:chOff x="7356600" y="4910040"/>
                    <a:chExt cx="879480" cy="652320"/>
                  </a:xfrm>
                </p:grpSpPr>
                <p:grpSp>
                  <p:nvGrpSpPr>
                    <p:cNvPr id="117" name="Group 32"/>
                    <p:cNvGrpSpPr/>
                    <p:nvPr/>
                  </p:nvGrpSpPr>
                  <p:grpSpPr>
                    <a:xfrm>
                      <a:off x="7356600" y="4913280"/>
                      <a:ext cx="879480" cy="293400"/>
                      <a:chOff x="7356600" y="4913280"/>
                      <a:chExt cx="879480" cy="293400"/>
                    </a:xfrm>
                  </p:grpSpPr>
                  <p:sp>
                    <p:nvSpPr>
                      <p:cNvPr id="118" name="Freeform 33"/>
                      <p:cNvSpPr/>
                      <p:nvPr/>
                    </p:nvSpPr>
                    <p:spPr>
                      <a:xfrm>
                        <a:off x="8039160" y="4913280"/>
                        <a:ext cx="196920" cy="228600"/>
                      </a:xfrm>
                      <a:custGeom>
                        <a:avLst/>
                        <a:gdLst>
                          <a:gd name="textAreaLeft" fmla="*/ 0 w 196920"/>
                          <a:gd name="textAreaRight" fmla="*/ 197280 w 196920"/>
                          <a:gd name="textAreaTop" fmla="*/ 0 h 228600"/>
                          <a:gd name="textAreaBottom" fmla="*/ 228960 h 228600"/>
                        </a:gdLst>
                        <a:ahLst/>
                        <a:rect l="textAreaLeft" t="textAreaTop" r="textAreaRight" b="textAreaBottom"/>
                        <a:pathLst>
                          <a:path w="124" h="144">
                            <a:moveTo>
                              <a:pt x="0" y="85"/>
                            </a:moveTo>
                            <a:lnTo>
                              <a:pt x="8" y="52"/>
                            </a:lnTo>
                            <a:lnTo>
                              <a:pt x="17" y="33"/>
                            </a:lnTo>
                            <a:lnTo>
                              <a:pt x="30" y="15"/>
                            </a:lnTo>
                            <a:lnTo>
                              <a:pt x="48" y="0"/>
                            </a:lnTo>
                            <a:lnTo>
                              <a:pt x="52" y="26"/>
                            </a:lnTo>
                            <a:lnTo>
                              <a:pt x="63" y="48"/>
                            </a:lnTo>
                            <a:lnTo>
                              <a:pt x="85" y="76"/>
                            </a:lnTo>
                            <a:lnTo>
                              <a:pt x="111" y="98"/>
                            </a:lnTo>
                            <a:lnTo>
                              <a:pt x="124" y="100"/>
                            </a:lnTo>
                            <a:lnTo>
                              <a:pt x="112" y="125"/>
                            </a:lnTo>
                            <a:lnTo>
                              <a:pt x="98" y="144"/>
                            </a:lnTo>
                            <a:lnTo>
                              <a:pt x="61" y="129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Freeform 34"/>
                      <p:cNvSpPr/>
                      <p:nvPr/>
                    </p:nvSpPr>
                    <p:spPr>
                      <a:xfrm>
                        <a:off x="7356600" y="5024160"/>
                        <a:ext cx="195120" cy="182520"/>
                      </a:xfrm>
                      <a:custGeom>
                        <a:avLst/>
                        <a:gdLst>
                          <a:gd name="textAreaLeft" fmla="*/ 0 w 195120"/>
                          <a:gd name="textAreaRight" fmla="*/ 195480 w 195120"/>
                          <a:gd name="textAreaTop" fmla="*/ 0 h 182520"/>
                          <a:gd name="textAreaBottom" fmla="*/ 182880 h 182520"/>
                        </a:gdLst>
                        <a:ahLst/>
                        <a:rect l="textAreaLeft" t="textAreaTop" r="textAreaRight" b="textAreaBottom"/>
                        <a:pathLst>
                          <a:path w="123" h="115">
                            <a:moveTo>
                              <a:pt x="0" y="71"/>
                            </a:moveTo>
                            <a:lnTo>
                              <a:pt x="34" y="115"/>
                            </a:lnTo>
                            <a:lnTo>
                              <a:pt x="65" y="109"/>
                            </a:lnTo>
                            <a:lnTo>
                              <a:pt x="92" y="91"/>
                            </a:lnTo>
                            <a:lnTo>
                              <a:pt x="119" y="71"/>
                            </a:lnTo>
                            <a:lnTo>
                              <a:pt x="123" y="46"/>
                            </a:lnTo>
                            <a:lnTo>
                              <a:pt x="70" y="0"/>
                            </a:lnTo>
                            <a:lnTo>
                              <a:pt x="39" y="32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" name="Freeform 35"/>
                    <p:cNvSpPr/>
                    <p:nvPr/>
                  </p:nvSpPr>
                  <p:spPr>
                    <a:xfrm>
                      <a:off x="7394760" y="4910040"/>
                      <a:ext cx="817560" cy="652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515" h="411">
                          <a:moveTo>
                            <a:pt x="227" y="0"/>
                          </a:moveTo>
                          <a:lnTo>
                            <a:pt x="299" y="19"/>
                          </a:lnTo>
                          <a:lnTo>
                            <a:pt x="328" y="25"/>
                          </a:lnTo>
                          <a:lnTo>
                            <a:pt x="347" y="31"/>
                          </a:lnTo>
                          <a:lnTo>
                            <a:pt x="357" y="35"/>
                          </a:lnTo>
                          <a:lnTo>
                            <a:pt x="367" y="41"/>
                          </a:lnTo>
                          <a:lnTo>
                            <a:pt x="375" y="47"/>
                          </a:lnTo>
                          <a:lnTo>
                            <a:pt x="382" y="55"/>
                          </a:lnTo>
                          <a:lnTo>
                            <a:pt x="389" y="68"/>
                          </a:lnTo>
                          <a:lnTo>
                            <a:pt x="409" y="67"/>
                          </a:lnTo>
                          <a:lnTo>
                            <a:pt x="422" y="84"/>
                          </a:lnTo>
                          <a:lnTo>
                            <a:pt x="437" y="100"/>
                          </a:lnTo>
                          <a:lnTo>
                            <a:pt x="451" y="112"/>
                          </a:lnTo>
                          <a:lnTo>
                            <a:pt x="469" y="125"/>
                          </a:lnTo>
                          <a:lnTo>
                            <a:pt x="491" y="133"/>
                          </a:lnTo>
                          <a:lnTo>
                            <a:pt x="515" y="136"/>
                          </a:lnTo>
                          <a:lnTo>
                            <a:pt x="515" y="157"/>
                          </a:lnTo>
                          <a:lnTo>
                            <a:pt x="513" y="189"/>
                          </a:lnTo>
                          <a:lnTo>
                            <a:pt x="505" y="218"/>
                          </a:lnTo>
                          <a:lnTo>
                            <a:pt x="495" y="238"/>
                          </a:lnTo>
                          <a:lnTo>
                            <a:pt x="479" y="250"/>
                          </a:lnTo>
                          <a:lnTo>
                            <a:pt x="456" y="252"/>
                          </a:lnTo>
                          <a:lnTo>
                            <a:pt x="428" y="244"/>
                          </a:lnTo>
                          <a:lnTo>
                            <a:pt x="422" y="264"/>
                          </a:lnTo>
                          <a:lnTo>
                            <a:pt x="423" y="286"/>
                          </a:lnTo>
                          <a:lnTo>
                            <a:pt x="429" y="312"/>
                          </a:lnTo>
                          <a:lnTo>
                            <a:pt x="431" y="346"/>
                          </a:lnTo>
                          <a:lnTo>
                            <a:pt x="430" y="377"/>
                          </a:lnTo>
                          <a:lnTo>
                            <a:pt x="430" y="397"/>
                          </a:lnTo>
                          <a:lnTo>
                            <a:pt x="400" y="394"/>
                          </a:lnTo>
                          <a:lnTo>
                            <a:pt x="378" y="396"/>
                          </a:lnTo>
                          <a:lnTo>
                            <a:pt x="332" y="403"/>
                          </a:lnTo>
                          <a:lnTo>
                            <a:pt x="294" y="404"/>
                          </a:lnTo>
                          <a:lnTo>
                            <a:pt x="270" y="400"/>
                          </a:lnTo>
                          <a:lnTo>
                            <a:pt x="251" y="408"/>
                          </a:lnTo>
                          <a:lnTo>
                            <a:pt x="220" y="411"/>
                          </a:lnTo>
                          <a:lnTo>
                            <a:pt x="180" y="406"/>
                          </a:lnTo>
                          <a:lnTo>
                            <a:pt x="148" y="395"/>
                          </a:lnTo>
                          <a:lnTo>
                            <a:pt x="127" y="386"/>
                          </a:lnTo>
                          <a:lnTo>
                            <a:pt x="108" y="375"/>
                          </a:lnTo>
                          <a:lnTo>
                            <a:pt x="89" y="361"/>
                          </a:lnTo>
                          <a:lnTo>
                            <a:pt x="104" y="323"/>
                          </a:lnTo>
                          <a:lnTo>
                            <a:pt x="112" y="293"/>
                          </a:lnTo>
                          <a:lnTo>
                            <a:pt x="95" y="279"/>
                          </a:lnTo>
                          <a:lnTo>
                            <a:pt x="80" y="266"/>
                          </a:lnTo>
                          <a:lnTo>
                            <a:pt x="71" y="254"/>
                          </a:lnTo>
                          <a:lnTo>
                            <a:pt x="65" y="238"/>
                          </a:lnTo>
                          <a:lnTo>
                            <a:pt x="56" y="215"/>
                          </a:lnTo>
                          <a:lnTo>
                            <a:pt x="41" y="206"/>
                          </a:lnTo>
                          <a:lnTo>
                            <a:pt x="24" y="200"/>
                          </a:lnTo>
                          <a:lnTo>
                            <a:pt x="10" y="191"/>
                          </a:lnTo>
                          <a:lnTo>
                            <a:pt x="0" y="180"/>
                          </a:lnTo>
                          <a:lnTo>
                            <a:pt x="15" y="176"/>
                          </a:lnTo>
                          <a:lnTo>
                            <a:pt x="39" y="165"/>
                          </a:lnTo>
                          <a:lnTo>
                            <a:pt x="59" y="151"/>
                          </a:lnTo>
                          <a:lnTo>
                            <a:pt x="81" y="123"/>
                          </a:lnTo>
                          <a:lnTo>
                            <a:pt x="84" y="102"/>
                          </a:lnTo>
                          <a:lnTo>
                            <a:pt x="95" y="88"/>
                          </a:lnTo>
                          <a:lnTo>
                            <a:pt x="105" y="75"/>
                          </a:lnTo>
                          <a:lnTo>
                            <a:pt x="112" y="56"/>
                          </a:lnTo>
                          <a:lnTo>
                            <a:pt x="121" y="43"/>
                          </a:lnTo>
                          <a:lnTo>
                            <a:pt x="138" y="35"/>
                          </a:lnTo>
                          <a:lnTo>
                            <a:pt x="155" y="35"/>
                          </a:lnTo>
                          <a:lnTo>
                            <a:pt x="177" y="13"/>
                          </a:lnTo>
                          <a:lnTo>
                            <a:pt x="227" y="0"/>
                          </a:lnTo>
                          <a:close/>
                        </a:path>
                      </a:pathLst>
                    </a:custGeom>
                    <a:solidFill>
                      <a:srgbClr val="c06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36"/>
                  <p:cNvGrpSpPr/>
                  <p:nvPr/>
                </p:nvGrpSpPr>
                <p:grpSpPr>
                  <a:xfrm>
                    <a:off x="7524720" y="4992480"/>
                    <a:ext cx="542880" cy="441360"/>
                    <a:chOff x="7524720" y="4992480"/>
                    <a:chExt cx="542880" cy="441360"/>
                  </a:xfrm>
                </p:grpSpPr>
                <p:grpSp>
                  <p:nvGrpSpPr>
                    <p:cNvPr id="122" name="Group 37"/>
                    <p:cNvGrpSpPr/>
                    <p:nvPr/>
                  </p:nvGrpSpPr>
                  <p:grpSpPr>
                    <a:xfrm>
                      <a:off x="7524720" y="4992480"/>
                      <a:ext cx="542880" cy="441360"/>
                      <a:chOff x="7524720" y="4992480"/>
                      <a:chExt cx="542880" cy="441360"/>
                    </a:xfrm>
                  </p:grpSpPr>
                  <p:sp>
                    <p:nvSpPr>
                      <p:cNvPr id="123" name="Freeform 38"/>
                      <p:cNvSpPr/>
                      <p:nvPr/>
                    </p:nvSpPr>
                    <p:spPr>
                      <a:xfrm>
                        <a:off x="7524720" y="5041800"/>
                        <a:ext cx="103320" cy="117360"/>
                      </a:xfrm>
                      <a:custGeom>
                        <a:avLst/>
                        <a:gdLst>
                          <a:gd name="textAreaLeft" fmla="*/ 0 w 103320"/>
                          <a:gd name="textAreaRight" fmla="*/ 103680 w 103320"/>
                          <a:gd name="textAreaTop" fmla="*/ 0 h 117360"/>
                          <a:gd name="textAreaBottom" fmla="*/ 117720 h 117360"/>
                        </a:gdLst>
                        <a:ahLst/>
                        <a:rect l="textAreaLeft" t="textAreaTop" r="textAreaRight" b="textAreaBottom"/>
                        <a:pathLst>
                          <a:path w="65" h="74">
                            <a:moveTo>
                              <a:pt x="0" y="18"/>
                            </a:moveTo>
                            <a:lnTo>
                              <a:pt x="12" y="30"/>
                            </a:lnTo>
                            <a:lnTo>
                              <a:pt x="13" y="37"/>
                            </a:lnTo>
                            <a:lnTo>
                              <a:pt x="19" y="45"/>
                            </a:lnTo>
                            <a:lnTo>
                              <a:pt x="28" y="49"/>
                            </a:lnTo>
                            <a:lnTo>
                              <a:pt x="36" y="57"/>
                            </a:lnTo>
                            <a:lnTo>
                              <a:pt x="41" y="66"/>
                            </a:lnTo>
                            <a:lnTo>
                              <a:pt x="56" y="70"/>
                            </a:lnTo>
                            <a:lnTo>
                              <a:pt x="65" y="74"/>
                            </a:lnTo>
                            <a:lnTo>
                              <a:pt x="48" y="62"/>
                            </a:lnTo>
                            <a:lnTo>
                              <a:pt x="39" y="52"/>
                            </a:lnTo>
                            <a:lnTo>
                              <a:pt x="32" y="45"/>
                            </a:lnTo>
                            <a:lnTo>
                              <a:pt x="31" y="31"/>
                            </a:lnTo>
                            <a:lnTo>
                              <a:pt x="26" y="34"/>
                            </a:lnTo>
                            <a:lnTo>
                              <a:pt x="19" y="30"/>
                            </a:lnTo>
                            <a:lnTo>
                              <a:pt x="14" y="19"/>
                            </a:lnTo>
                            <a:lnTo>
                              <a:pt x="12" y="11"/>
                            </a:lnTo>
                            <a:lnTo>
                              <a:pt x="13" y="0"/>
                            </a:lnTo>
                            <a:lnTo>
                              <a:pt x="6" y="6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" name="Freeform 39"/>
                      <p:cNvSpPr/>
                      <p:nvPr/>
                    </p:nvSpPr>
                    <p:spPr>
                      <a:xfrm>
                        <a:off x="7524720" y="5338440"/>
                        <a:ext cx="109800" cy="95400"/>
                      </a:xfrm>
                      <a:custGeom>
                        <a:avLst/>
                        <a:gdLst>
                          <a:gd name="textAreaLeft" fmla="*/ 0 w 109800"/>
                          <a:gd name="textAreaRight" fmla="*/ 110160 w 109800"/>
                          <a:gd name="textAreaTop" fmla="*/ 0 h 95400"/>
                          <a:gd name="textAreaBottom" fmla="*/ 95760 h 95400"/>
                        </a:gdLst>
                        <a:ahLst/>
                        <a:rect l="textAreaLeft" t="textAreaTop" r="textAreaRight" b="textAreaBottom"/>
                        <a:pathLst>
                          <a:path w="69" h="60">
                            <a:moveTo>
                              <a:pt x="0" y="0"/>
                            </a:moveTo>
                            <a:lnTo>
                              <a:pt x="8" y="9"/>
                            </a:lnTo>
                            <a:lnTo>
                              <a:pt x="15" y="15"/>
                            </a:lnTo>
                            <a:lnTo>
                              <a:pt x="23" y="23"/>
                            </a:lnTo>
                            <a:lnTo>
                              <a:pt x="31" y="31"/>
                            </a:lnTo>
                            <a:lnTo>
                              <a:pt x="41" y="39"/>
                            </a:lnTo>
                            <a:lnTo>
                              <a:pt x="47" y="60"/>
                            </a:lnTo>
                            <a:lnTo>
                              <a:pt x="46" y="40"/>
                            </a:lnTo>
                            <a:lnTo>
                              <a:pt x="42" y="31"/>
                            </a:lnTo>
                            <a:lnTo>
                              <a:pt x="33" y="25"/>
                            </a:lnTo>
                            <a:lnTo>
                              <a:pt x="31" y="21"/>
                            </a:lnTo>
                            <a:lnTo>
                              <a:pt x="40" y="23"/>
                            </a:lnTo>
                            <a:lnTo>
                              <a:pt x="55" y="24"/>
                            </a:lnTo>
                            <a:lnTo>
                              <a:pt x="69" y="21"/>
                            </a:lnTo>
                            <a:lnTo>
                              <a:pt x="53" y="19"/>
                            </a:lnTo>
                            <a:lnTo>
                              <a:pt x="32" y="16"/>
                            </a:lnTo>
                            <a:lnTo>
                              <a:pt x="17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Freeform 40"/>
                      <p:cNvSpPr/>
                      <p:nvPr/>
                    </p:nvSpPr>
                    <p:spPr>
                      <a:xfrm>
                        <a:off x="7954920" y="4992480"/>
                        <a:ext cx="77760" cy="150840"/>
                      </a:xfrm>
                      <a:custGeom>
                        <a:avLst/>
                        <a:gdLst>
                          <a:gd name="textAreaLeft" fmla="*/ 0 w 77760"/>
                          <a:gd name="textAreaRight" fmla="*/ 78120 w 77760"/>
                          <a:gd name="textAreaTop" fmla="*/ 0 h 150840"/>
                          <a:gd name="textAreaBottom" fmla="*/ 151200 h 150840"/>
                        </a:gdLst>
                        <a:ahLst/>
                        <a:rect l="textAreaLeft" t="textAreaTop" r="textAreaRight" b="textAreaBottom"/>
                        <a:pathLst>
                          <a:path w="49" h="95">
                            <a:moveTo>
                              <a:pt x="26" y="0"/>
                            </a:moveTo>
                            <a:lnTo>
                              <a:pt x="31" y="6"/>
                            </a:lnTo>
                            <a:lnTo>
                              <a:pt x="34" y="12"/>
                            </a:lnTo>
                            <a:lnTo>
                              <a:pt x="40" y="12"/>
                            </a:lnTo>
                            <a:lnTo>
                              <a:pt x="45" y="12"/>
                            </a:lnTo>
                            <a:lnTo>
                              <a:pt x="49" y="13"/>
                            </a:lnTo>
                            <a:lnTo>
                              <a:pt x="41" y="16"/>
                            </a:lnTo>
                            <a:lnTo>
                              <a:pt x="35" y="23"/>
                            </a:lnTo>
                            <a:lnTo>
                              <a:pt x="31" y="30"/>
                            </a:lnTo>
                            <a:lnTo>
                              <a:pt x="31" y="36"/>
                            </a:lnTo>
                            <a:lnTo>
                              <a:pt x="32" y="44"/>
                            </a:lnTo>
                            <a:lnTo>
                              <a:pt x="31" y="53"/>
                            </a:lnTo>
                            <a:lnTo>
                              <a:pt x="23" y="63"/>
                            </a:lnTo>
                            <a:lnTo>
                              <a:pt x="12" y="67"/>
                            </a:lnTo>
                            <a:lnTo>
                              <a:pt x="16" y="63"/>
                            </a:lnTo>
                            <a:lnTo>
                              <a:pt x="22" y="59"/>
                            </a:lnTo>
                            <a:lnTo>
                              <a:pt x="27" y="44"/>
                            </a:lnTo>
                            <a:lnTo>
                              <a:pt x="28" y="40"/>
                            </a:lnTo>
                            <a:lnTo>
                              <a:pt x="20" y="44"/>
                            </a:lnTo>
                            <a:lnTo>
                              <a:pt x="12" y="55"/>
                            </a:lnTo>
                            <a:lnTo>
                              <a:pt x="8" y="65"/>
                            </a:lnTo>
                            <a:lnTo>
                              <a:pt x="7" y="75"/>
                            </a:lnTo>
                            <a:lnTo>
                              <a:pt x="10" y="87"/>
                            </a:lnTo>
                            <a:lnTo>
                              <a:pt x="15" y="95"/>
                            </a:lnTo>
                            <a:lnTo>
                              <a:pt x="6" y="86"/>
                            </a:lnTo>
                            <a:lnTo>
                              <a:pt x="4" y="75"/>
                            </a:lnTo>
                            <a:lnTo>
                              <a:pt x="4" y="65"/>
                            </a:lnTo>
                            <a:lnTo>
                              <a:pt x="6" y="55"/>
                            </a:lnTo>
                            <a:lnTo>
                              <a:pt x="11" y="46"/>
                            </a:lnTo>
                            <a:lnTo>
                              <a:pt x="19" y="36"/>
                            </a:lnTo>
                            <a:lnTo>
                              <a:pt x="22" y="27"/>
                            </a:lnTo>
                            <a:lnTo>
                              <a:pt x="11" y="34"/>
                            </a:lnTo>
                            <a:lnTo>
                              <a:pt x="0" y="33"/>
                            </a:lnTo>
                            <a:lnTo>
                              <a:pt x="10" y="31"/>
                            </a:lnTo>
                            <a:lnTo>
                              <a:pt x="14" y="27"/>
                            </a:lnTo>
                            <a:lnTo>
                              <a:pt x="20" y="24"/>
                            </a:lnTo>
                            <a:lnTo>
                              <a:pt x="24" y="16"/>
                            </a:lnTo>
                            <a:lnTo>
                              <a:pt x="27" y="9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00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6" name="Freeform 41"/>
                      <p:cNvSpPr/>
                      <p:nvPr/>
                    </p:nvSpPr>
                    <p:spPr>
                      <a:xfrm>
                        <a:off x="7986960" y="5216400"/>
                        <a:ext cx="80640" cy="136440"/>
                      </a:xfrm>
                      <a:custGeom>
                        <a:avLst/>
                        <a:gdLst>
                          <a:gd name="textAreaLeft" fmla="*/ 0 w 80640"/>
                          <a:gd name="textAreaRight" fmla="*/ 81000 w 80640"/>
                          <a:gd name="textAreaTop" fmla="*/ 0 h 136440"/>
                          <a:gd name="textAreaBottom" fmla="*/ 136800 h 136440"/>
                        </a:gdLst>
                        <a:ahLst/>
                        <a:rect l="textAreaLeft" t="textAreaTop" r="textAreaRight" b="textAreaBottom"/>
                        <a:pathLst>
                          <a:path w="51" h="86">
                            <a:moveTo>
                              <a:pt x="51" y="51"/>
                            </a:moveTo>
                            <a:lnTo>
                              <a:pt x="45" y="47"/>
                            </a:lnTo>
                            <a:lnTo>
                              <a:pt x="38" y="38"/>
                            </a:lnTo>
                            <a:lnTo>
                              <a:pt x="36" y="24"/>
                            </a:lnTo>
                            <a:lnTo>
                              <a:pt x="35" y="13"/>
                            </a:lnTo>
                            <a:lnTo>
                              <a:pt x="37" y="0"/>
                            </a:lnTo>
                            <a:lnTo>
                              <a:pt x="33" y="7"/>
                            </a:lnTo>
                            <a:lnTo>
                              <a:pt x="30" y="21"/>
                            </a:lnTo>
                            <a:lnTo>
                              <a:pt x="30" y="29"/>
                            </a:lnTo>
                            <a:lnTo>
                              <a:pt x="32" y="36"/>
                            </a:lnTo>
                            <a:lnTo>
                              <a:pt x="21" y="36"/>
                            </a:lnTo>
                            <a:lnTo>
                              <a:pt x="10" y="43"/>
                            </a:lnTo>
                            <a:lnTo>
                              <a:pt x="0" y="51"/>
                            </a:lnTo>
                            <a:lnTo>
                              <a:pt x="11" y="47"/>
                            </a:lnTo>
                            <a:lnTo>
                              <a:pt x="23" y="43"/>
                            </a:lnTo>
                            <a:lnTo>
                              <a:pt x="33" y="43"/>
                            </a:lnTo>
                            <a:lnTo>
                              <a:pt x="23" y="48"/>
                            </a:lnTo>
                            <a:lnTo>
                              <a:pt x="19" y="56"/>
                            </a:lnTo>
                            <a:lnTo>
                              <a:pt x="14" y="64"/>
                            </a:lnTo>
                            <a:lnTo>
                              <a:pt x="12" y="72"/>
                            </a:lnTo>
                            <a:lnTo>
                              <a:pt x="17" y="66"/>
                            </a:lnTo>
                            <a:lnTo>
                              <a:pt x="24" y="57"/>
                            </a:lnTo>
                            <a:lnTo>
                              <a:pt x="35" y="51"/>
                            </a:lnTo>
                            <a:lnTo>
                              <a:pt x="38" y="50"/>
                            </a:lnTo>
                            <a:lnTo>
                              <a:pt x="38" y="57"/>
                            </a:lnTo>
                            <a:lnTo>
                              <a:pt x="40" y="65"/>
                            </a:lnTo>
                            <a:lnTo>
                              <a:pt x="42" y="72"/>
                            </a:lnTo>
                            <a:lnTo>
                              <a:pt x="44" y="80"/>
                            </a:lnTo>
                            <a:lnTo>
                              <a:pt x="48" y="86"/>
                            </a:lnTo>
                            <a:lnTo>
                              <a:pt x="47" y="78"/>
                            </a:lnTo>
                            <a:lnTo>
                              <a:pt x="47" y="72"/>
                            </a:lnTo>
                            <a:lnTo>
                              <a:pt x="46" y="66"/>
                            </a:lnTo>
                            <a:lnTo>
                              <a:pt x="48" y="61"/>
                            </a:lnTo>
                            <a:lnTo>
                              <a:pt x="51" y="5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7" name="Line 42"/>
                    <p:cNvSpPr/>
                    <p:nvPr/>
                  </p:nvSpPr>
                  <p:spPr>
                    <a:xfrm flipV="1">
                      <a:off x="7851960" y="5389200"/>
                      <a:ext cx="190440" cy="3780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8" name="Group 43"/>
                <p:cNvGrpSpPr/>
                <p:nvPr/>
              </p:nvGrpSpPr>
              <p:grpSpPr>
                <a:xfrm>
                  <a:off x="7597800" y="4892400"/>
                  <a:ext cx="276120" cy="316080"/>
                  <a:chOff x="7597800" y="4892400"/>
                  <a:chExt cx="276120" cy="316080"/>
                </a:xfrm>
              </p:grpSpPr>
              <p:grpSp>
                <p:nvGrpSpPr>
                  <p:cNvPr id="129" name="Group 44"/>
                  <p:cNvGrpSpPr/>
                  <p:nvPr/>
                </p:nvGrpSpPr>
                <p:grpSpPr>
                  <a:xfrm>
                    <a:off x="7613640" y="4892400"/>
                    <a:ext cx="244440" cy="293760"/>
                    <a:chOff x="7613640" y="4892400"/>
                    <a:chExt cx="244440" cy="293760"/>
                  </a:xfrm>
                </p:grpSpPr>
                <p:grpSp>
                  <p:nvGrpSpPr>
                    <p:cNvPr id="130" name="Group 45"/>
                    <p:cNvGrpSpPr/>
                    <p:nvPr/>
                  </p:nvGrpSpPr>
                  <p:grpSpPr>
                    <a:xfrm>
                      <a:off x="7613640" y="4892400"/>
                      <a:ext cx="244440" cy="292320"/>
                      <a:chOff x="7613640" y="4892400"/>
                      <a:chExt cx="244440" cy="292320"/>
                    </a:xfrm>
                  </p:grpSpPr>
                  <p:sp>
                    <p:nvSpPr>
                      <p:cNvPr id="131" name="Freeform 46"/>
                      <p:cNvSpPr/>
                      <p:nvPr/>
                    </p:nvSpPr>
                    <p:spPr>
                      <a:xfrm>
                        <a:off x="7613640" y="4892400"/>
                        <a:ext cx="244440" cy="292320"/>
                      </a:xfrm>
                      <a:custGeom>
                        <a:avLst/>
                        <a:gdLst>
                          <a:gd name="textAreaLeft" fmla="*/ 0 w 244440"/>
                          <a:gd name="textAreaRight" fmla="*/ 244800 w 244440"/>
                          <a:gd name="textAreaTop" fmla="*/ 0 h 292320"/>
                          <a:gd name="textAreaBottom" fmla="*/ 292680 h 292320"/>
                        </a:gdLst>
                        <a:ahLst/>
                        <a:rect l="textAreaLeft" t="textAreaTop" r="textAreaRight" b="textAreaBottom"/>
                        <a:pathLst>
                          <a:path w="154" h="184">
                            <a:moveTo>
                              <a:pt x="44" y="15"/>
                            </a:moveTo>
                            <a:lnTo>
                              <a:pt x="0" y="43"/>
                            </a:lnTo>
                            <a:lnTo>
                              <a:pt x="19" y="107"/>
                            </a:lnTo>
                            <a:lnTo>
                              <a:pt x="41" y="143"/>
                            </a:lnTo>
                            <a:lnTo>
                              <a:pt x="75" y="184"/>
                            </a:lnTo>
                            <a:lnTo>
                              <a:pt x="98" y="156"/>
                            </a:lnTo>
                            <a:lnTo>
                              <a:pt x="154" y="25"/>
                            </a:lnTo>
                            <a:lnTo>
                              <a:pt x="128" y="0"/>
                            </a:lnTo>
                            <a:lnTo>
                              <a:pt x="84" y="32"/>
                            </a:lnTo>
                            <a:lnTo>
                              <a:pt x="44" y="15"/>
                            </a:lnTo>
                            <a:close/>
                          </a:path>
                        </a:pathLst>
                      </a:custGeom>
                      <a:solidFill>
                        <a:srgbClr val="e0e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Freeform 47"/>
                      <p:cNvSpPr/>
                      <p:nvPr/>
                    </p:nvSpPr>
                    <p:spPr>
                      <a:xfrm>
                        <a:off x="7747200" y="5008320"/>
                        <a:ext cx="68040" cy="30240"/>
                      </a:xfrm>
                      <a:custGeom>
                        <a:avLst/>
                        <a:gdLst>
                          <a:gd name="textAreaLeft" fmla="*/ 0 w 68040"/>
                          <a:gd name="textAreaRight" fmla="*/ 68400 w 68040"/>
                          <a:gd name="textAreaTop" fmla="*/ 0 h 30240"/>
                          <a:gd name="textAreaBottom" fmla="*/ 30600 h 30240"/>
                        </a:gdLst>
                        <a:ahLst/>
                        <a:rect l="textAreaLeft" t="textAreaTop" r="textAreaRight" b="textAreaBottom"/>
                        <a:pathLst>
                          <a:path w="43" h="19">
                            <a:moveTo>
                              <a:pt x="0" y="0"/>
                            </a:moveTo>
                            <a:lnTo>
                              <a:pt x="43" y="19"/>
                            </a:lnTo>
                            <a:lnTo>
                              <a:pt x="19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Freeform 48"/>
                      <p:cNvSpPr/>
                      <p:nvPr/>
                    </p:nvSpPr>
                    <p:spPr>
                      <a:xfrm>
                        <a:off x="7635960" y="5018040"/>
                        <a:ext cx="27000" cy="1584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17" h="10">
                            <a:moveTo>
                              <a:pt x="17" y="0"/>
                            </a:moveTo>
                            <a:lnTo>
                              <a:pt x="0" y="10"/>
                            </a:lnTo>
                            <a:lnTo>
                              <a:pt x="12" y="7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" name="Group 49"/>
                    <p:cNvGrpSpPr/>
                    <p:nvPr/>
                  </p:nvGrpSpPr>
                  <p:grpSpPr>
                    <a:xfrm>
                      <a:off x="7674120" y="4976640"/>
                      <a:ext cx="92160" cy="209520"/>
                      <a:chOff x="7674120" y="4976640"/>
                      <a:chExt cx="92160" cy="209520"/>
                    </a:xfrm>
                  </p:grpSpPr>
                  <p:sp>
                    <p:nvSpPr>
                      <p:cNvPr id="135" name="Freeform 50"/>
                      <p:cNvSpPr/>
                      <p:nvPr/>
                    </p:nvSpPr>
                    <p:spPr>
                      <a:xfrm>
                        <a:off x="7674120" y="4976640"/>
                        <a:ext cx="92160" cy="209520"/>
                      </a:xfrm>
                      <a:custGeom>
                        <a:avLst/>
                        <a:gdLst>
                          <a:gd name="textAreaLeft" fmla="*/ 0 w 92160"/>
                          <a:gd name="textAreaRight" fmla="*/ 92520 w 92160"/>
                          <a:gd name="textAreaTop" fmla="*/ 0 h 209520"/>
                          <a:gd name="textAreaBottom" fmla="*/ 209880 h 209520"/>
                        </a:gdLst>
                        <a:ahLst/>
                        <a:rect l="textAreaLeft" t="textAreaTop" r="textAreaRight" b="textAreaBottom"/>
                        <a:pathLst>
                          <a:path w="58" h="132">
                            <a:moveTo>
                              <a:pt x="14" y="0"/>
                            </a:moveTo>
                            <a:lnTo>
                              <a:pt x="39" y="20"/>
                            </a:lnTo>
                            <a:lnTo>
                              <a:pt x="33" y="55"/>
                            </a:lnTo>
                            <a:lnTo>
                              <a:pt x="58" y="103"/>
                            </a:lnTo>
                            <a:lnTo>
                              <a:pt x="36" y="132"/>
                            </a:lnTo>
                            <a:lnTo>
                              <a:pt x="5" y="91"/>
                            </a:lnTo>
                            <a:lnTo>
                              <a:pt x="11" y="55"/>
                            </a:lnTo>
                            <a:lnTo>
                              <a:pt x="0" y="29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Freeform 51"/>
                      <p:cNvSpPr/>
                      <p:nvPr/>
                    </p:nvSpPr>
                    <p:spPr>
                      <a:xfrm>
                        <a:off x="7689960" y="5064120"/>
                        <a:ext cx="34920" cy="7920"/>
                      </a:xfrm>
                      <a:custGeom>
                        <a:avLst/>
                        <a:gdLst>
                          <a:gd name="textAreaLeft" fmla="*/ 0 w 34920"/>
                          <a:gd name="textAreaRight" fmla="*/ 34920 w 349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2" h="5">
                            <a:moveTo>
                              <a:pt x="0" y="1"/>
                            </a:moveTo>
                            <a:lnTo>
                              <a:pt x="13" y="3"/>
                            </a:lnTo>
                            <a:lnTo>
                              <a:pt x="22" y="0"/>
                            </a:lnTo>
                            <a:lnTo>
                              <a:pt x="13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e04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7" name="Freeform 52"/>
                  <p:cNvSpPr/>
                  <p:nvPr/>
                </p:nvSpPr>
                <p:spPr>
                  <a:xfrm>
                    <a:off x="7597800" y="4932360"/>
                    <a:ext cx="276120" cy="276120"/>
                  </a:xfrm>
                  <a:custGeom>
                    <a:avLst/>
                    <a:gdLst>
                      <a:gd name="textAreaLeft" fmla="*/ 0 w 276120"/>
                      <a:gd name="textAreaRight" fmla="*/ 276480 w 27612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174" h="174">
                        <a:moveTo>
                          <a:pt x="10" y="16"/>
                        </a:moveTo>
                        <a:lnTo>
                          <a:pt x="29" y="81"/>
                        </a:lnTo>
                        <a:lnTo>
                          <a:pt x="52" y="119"/>
                        </a:lnTo>
                        <a:lnTo>
                          <a:pt x="85" y="160"/>
                        </a:lnTo>
                        <a:lnTo>
                          <a:pt x="107" y="131"/>
                        </a:lnTo>
                        <a:lnTo>
                          <a:pt x="136" y="64"/>
                        </a:lnTo>
                        <a:lnTo>
                          <a:pt x="163" y="0"/>
                        </a:lnTo>
                        <a:lnTo>
                          <a:pt x="174" y="2"/>
                        </a:lnTo>
                        <a:lnTo>
                          <a:pt x="116" y="133"/>
                        </a:lnTo>
                        <a:lnTo>
                          <a:pt x="85" y="174"/>
                        </a:lnTo>
                        <a:lnTo>
                          <a:pt x="44" y="124"/>
                        </a:lnTo>
                        <a:lnTo>
                          <a:pt x="20" y="85"/>
                        </a:lnTo>
                        <a:lnTo>
                          <a:pt x="0" y="20"/>
                        </a:lnTo>
                        <a:lnTo>
                          <a:pt x="10" y="16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" name="Group 53"/>
              <p:cNvGrpSpPr/>
              <p:nvPr/>
            </p:nvGrpSpPr>
            <p:grpSpPr>
              <a:xfrm>
                <a:off x="7162920" y="4770360"/>
                <a:ext cx="1257120" cy="369720"/>
                <a:chOff x="7162920" y="4770360"/>
                <a:chExt cx="1257120" cy="369720"/>
              </a:xfrm>
            </p:grpSpPr>
            <p:sp>
              <p:nvSpPr>
                <p:cNvPr id="139" name="Freeform 54"/>
                <p:cNvSpPr/>
                <p:nvPr/>
              </p:nvSpPr>
              <p:spPr>
                <a:xfrm>
                  <a:off x="7162920" y="4843440"/>
                  <a:ext cx="304920" cy="2966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92" h="187">
                      <a:moveTo>
                        <a:pt x="176" y="58"/>
                      </a:moveTo>
                      <a:lnTo>
                        <a:pt x="186" y="72"/>
                      </a:lnTo>
                      <a:lnTo>
                        <a:pt x="192" y="96"/>
                      </a:lnTo>
                      <a:lnTo>
                        <a:pt x="187" y="122"/>
                      </a:lnTo>
                      <a:lnTo>
                        <a:pt x="176" y="141"/>
                      </a:lnTo>
                      <a:lnTo>
                        <a:pt x="156" y="166"/>
                      </a:lnTo>
                      <a:lnTo>
                        <a:pt x="139" y="179"/>
                      </a:lnTo>
                      <a:lnTo>
                        <a:pt x="118" y="187"/>
                      </a:lnTo>
                      <a:lnTo>
                        <a:pt x="94" y="187"/>
                      </a:lnTo>
                      <a:lnTo>
                        <a:pt x="79" y="179"/>
                      </a:lnTo>
                      <a:lnTo>
                        <a:pt x="63" y="168"/>
                      </a:lnTo>
                      <a:lnTo>
                        <a:pt x="34" y="166"/>
                      </a:lnTo>
                      <a:lnTo>
                        <a:pt x="7" y="163"/>
                      </a:lnTo>
                      <a:lnTo>
                        <a:pt x="0" y="157"/>
                      </a:lnTo>
                      <a:lnTo>
                        <a:pt x="0" y="146"/>
                      </a:lnTo>
                      <a:lnTo>
                        <a:pt x="7" y="140"/>
                      </a:lnTo>
                      <a:lnTo>
                        <a:pt x="27" y="136"/>
                      </a:lnTo>
                      <a:lnTo>
                        <a:pt x="49" y="139"/>
                      </a:lnTo>
                      <a:lnTo>
                        <a:pt x="2" y="103"/>
                      </a:lnTo>
                      <a:lnTo>
                        <a:pt x="0" y="92"/>
                      </a:lnTo>
                      <a:lnTo>
                        <a:pt x="4" y="83"/>
                      </a:lnTo>
                      <a:lnTo>
                        <a:pt x="15" y="78"/>
                      </a:lnTo>
                      <a:lnTo>
                        <a:pt x="67" y="110"/>
                      </a:lnTo>
                      <a:lnTo>
                        <a:pt x="36" y="85"/>
                      </a:lnTo>
                      <a:lnTo>
                        <a:pt x="12" y="61"/>
                      </a:lnTo>
                      <a:lnTo>
                        <a:pt x="13" y="51"/>
                      </a:lnTo>
                      <a:lnTo>
                        <a:pt x="19" y="45"/>
                      </a:lnTo>
                      <a:lnTo>
                        <a:pt x="30" y="44"/>
                      </a:lnTo>
                      <a:lnTo>
                        <a:pt x="89" y="85"/>
                      </a:lnTo>
                      <a:lnTo>
                        <a:pt x="67" y="65"/>
                      </a:lnTo>
                      <a:lnTo>
                        <a:pt x="46" y="35"/>
                      </a:lnTo>
                      <a:lnTo>
                        <a:pt x="46" y="27"/>
                      </a:lnTo>
                      <a:lnTo>
                        <a:pt x="51" y="21"/>
                      </a:lnTo>
                      <a:lnTo>
                        <a:pt x="61" y="19"/>
                      </a:lnTo>
                      <a:lnTo>
                        <a:pt x="84" y="34"/>
                      </a:lnTo>
                      <a:lnTo>
                        <a:pt x="108" y="55"/>
                      </a:lnTo>
                      <a:lnTo>
                        <a:pt x="127" y="66"/>
                      </a:lnTo>
                      <a:lnTo>
                        <a:pt x="135" y="64"/>
                      </a:lnTo>
                      <a:lnTo>
                        <a:pt x="127" y="48"/>
                      </a:lnTo>
                      <a:lnTo>
                        <a:pt x="128" y="28"/>
                      </a:lnTo>
                      <a:lnTo>
                        <a:pt x="139" y="11"/>
                      </a:lnTo>
                      <a:lnTo>
                        <a:pt x="149" y="2"/>
                      </a:lnTo>
                      <a:lnTo>
                        <a:pt x="156" y="0"/>
                      </a:lnTo>
                      <a:lnTo>
                        <a:pt x="162" y="4"/>
                      </a:lnTo>
                      <a:lnTo>
                        <a:pt x="167" y="13"/>
                      </a:lnTo>
                      <a:lnTo>
                        <a:pt x="162" y="26"/>
                      </a:lnTo>
                      <a:lnTo>
                        <a:pt x="160" y="41"/>
                      </a:lnTo>
                      <a:lnTo>
                        <a:pt x="165" y="52"/>
                      </a:lnTo>
                      <a:lnTo>
                        <a:pt x="17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5"/>
                <p:cNvSpPr/>
                <p:nvPr/>
              </p:nvSpPr>
              <p:spPr>
                <a:xfrm>
                  <a:off x="8112240" y="4770360"/>
                  <a:ext cx="307800" cy="296640"/>
                </a:xfrm>
                <a:custGeom>
                  <a:avLst/>
                  <a:gdLst>
                    <a:gd name="textAreaLeft" fmla="*/ 0 w 307800"/>
                    <a:gd name="textAreaRight" fmla="*/ 308160 w 307800"/>
                    <a:gd name="textAreaTop" fmla="*/ 0 h 296640"/>
                    <a:gd name="textAreaBottom" fmla="*/ 297000 h 296640"/>
                  </a:gdLst>
                  <a:ahLst/>
                  <a:rect l="textAreaLeft" t="textAreaTop" r="textAreaRight" b="textAreaBottom"/>
                  <a:pathLst>
                    <a:path w="194" h="187">
                      <a:moveTo>
                        <a:pt x="16" y="58"/>
                      </a:moveTo>
                      <a:lnTo>
                        <a:pt x="6" y="72"/>
                      </a:lnTo>
                      <a:lnTo>
                        <a:pt x="0" y="96"/>
                      </a:lnTo>
                      <a:lnTo>
                        <a:pt x="5" y="122"/>
                      </a:lnTo>
                      <a:lnTo>
                        <a:pt x="16" y="141"/>
                      </a:lnTo>
                      <a:lnTo>
                        <a:pt x="36" y="166"/>
                      </a:lnTo>
                      <a:lnTo>
                        <a:pt x="53" y="180"/>
                      </a:lnTo>
                      <a:lnTo>
                        <a:pt x="74" y="187"/>
                      </a:lnTo>
                      <a:lnTo>
                        <a:pt x="99" y="186"/>
                      </a:lnTo>
                      <a:lnTo>
                        <a:pt x="114" y="180"/>
                      </a:lnTo>
                      <a:lnTo>
                        <a:pt x="130" y="168"/>
                      </a:lnTo>
                      <a:lnTo>
                        <a:pt x="160" y="166"/>
                      </a:lnTo>
                      <a:lnTo>
                        <a:pt x="187" y="163"/>
                      </a:lnTo>
                      <a:lnTo>
                        <a:pt x="194" y="157"/>
                      </a:lnTo>
                      <a:lnTo>
                        <a:pt x="194" y="146"/>
                      </a:lnTo>
                      <a:lnTo>
                        <a:pt x="187" y="140"/>
                      </a:lnTo>
                      <a:lnTo>
                        <a:pt x="167" y="136"/>
                      </a:lnTo>
                      <a:lnTo>
                        <a:pt x="144" y="139"/>
                      </a:lnTo>
                      <a:lnTo>
                        <a:pt x="192" y="103"/>
                      </a:lnTo>
                      <a:lnTo>
                        <a:pt x="194" y="92"/>
                      </a:lnTo>
                      <a:lnTo>
                        <a:pt x="190" y="83"/>
                      </a:lnTo>
                      <a:lnTo>
                        <a:pt x="181" y="79"/>
                      </a:lnTo>
                      <a:lnTo>
                        <a:pt x="126" y="110"/>
                      </a:lnTo>
                      <a:lnTo>
                        <a:pt x="177" y="6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5" y="47"/>
                      </a:lnTo>
                      <a:lnTo>
                        <a:pt x="166" y="45"/>
                      </a:lnTo>
                      <a:lnTo>
                        <a:pt x="104" y="86"/>
                      </a:lnTo>
                      <a:lnTo>
                        <a:pt x="139" y="48"/>
                      </a:lnTo>
                      <a:lnTo>
                        <a:pt x="149" y="37"/>
                      </a:lnTo>
                      <a:lnTo>
                        <a:pt x="147" y="26"/>
                      </a:lnTo>
                      <a:lnTo>
                        <a:pt x="140" y="20"/>
                      </a:lnTo>
                      <a:lnTo>
                        <a:pt x="132" y="19"/>
                      </a:lnTo>
                      <a:lnTo>
                        <a:pt x="109" y="35"/>
                      </a:lnTo>
                      <a:lnTo>
                        <a:pt x="85" y="55"/>
                      </a:lnTo>
                      <a:lnTo>
                        <a:pt x="65" y="66"/>
                      </a:lnTo>
                      <a:lnTo>
                        <a:pt x="57" y="64"/>
                      </a:lnTo>
                      <a:lnTo>
                        <a:pt x="65" y="48"/>
                      </a:lnTo>
                      <a:lnTo>
                        <a:pt x="64" y="28"/>
                      </a:lnTo>
                      <a:lnTo>
                        <a:pt x="53" y="11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30" y="4"/>
                      </a:lnTo>
                      <a:lnTo>
                        <a:pt x="25" y="14"/>
                      </a:lnTo>
                      <a:lnTo>
                        <a:pt x="30" y="26"/>
                      </a:lnTo>
                      <a:lnTo>
                        <a:pt x="32" y="41"/>
                      </a:lnTo>
                      <a:lnTo>
                        <a:pt x="27" y="51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Group 56"/>
            <p:cNvGrpSpPr/>
            <p:nvPr/>
          </p:nvGrpSpPr>
          <p:grpSpPr>
            <a:xfrm>
              <a:off x="7267680" y="3809880"/>
              <a:ext cx="801720" cy="1190520"/>
              <a:chOff x="7267680" y="3809880"/>
              <a:chExt cx="801720" cy="1190520"/>
            </a:xfrm>
          </p:grpSpPr>
          <p:grpSp>
            <p:nvGrpSpPr>
              <p:cNvPr id="142" name="Group 57"/>
              <p:cNvGrpSpPr/>
              <p:nvPr/>
            </p:nvGrpSpPr>
            <p:grpSpPr>
              <a:xfrm>
                <a:off x="7267680" y="3809880"/>
                <a:ext cx="801720" cy="1190520"/>
                <a:chOff x="7267680" y="3809880"/>
                <a:chExt cx="801720" cy="1190520"/>
              </a:xfrm>
            </p:grpSpPr>
            <p:grpSp>
              <p:nvGrpSpPr>
                <p:cNvPr id="143" name="Group 58"/>
                <p:cNvGrpSpPr/>
                <p:nvPr/>
              </p:nvGrpSpPr>
              <p:grpSpPr>
                <a:xfrm>
                  <a:off x="7267680" y="3865320"/>
                  <a:ext cx="733320" cy="1135080"/>
                  <a:chOff x="7267680" y="3865320"/>
                  <a:chExt cx="733320" cy="1135080"/>
                </a:xfrm>
              </p:grpSpPr>
              <p:sp>
                <p:nvSpPr>
                  <p:cNvPr id="144" name="Freeform 59"/>
                  <p:cNvSpPr/>
                  <p:nvPr/>
                </p:nvSpPr>
                <p:spPr>
                  <a:xfrm>
                    <a:off x="7267680" y="3865320"/>
                    <a:ext cx="733320" cy="1135080"/>
                  </a:xfrm>
                  <a:custGeom>
                    <a:avLst/>
                    <a:gdLst>
                      <a:gd name="textAreaLeft" fmla="*/ 0 w 733320"/>
                      <a:gd name="textAreaRight" fmla="*/ 733680 w 733320"/>
                      <a:gd name="textAreaTop" fmla="*/ 0 h 1135080"/>
                      <a:gd name="textAreaBottom" fmla="*/ 1135440 h 1135080"/>
                    </a:gdLst>
                    <a:ahLst/>
                    <a:rect l="textAreaLeft" t="textAreaTop" r="textAreaRight" b="textAreaBottom"/>
                    <a:pathLst>
                      <a:path w="462" h="715">
                        <a:moveTo>
                          <a:pt x="256" y="36"/>
                        </a:moveTo>
                        <a:lnTo>
                          <a:pt x="226" y="73"/>
                        </a:lnTo>
                        <a:lnTo>
                          <a:pt x="214" y="91"/>
                        </a:lnTo>
                        <a:lnTo>
                          <a:pt x="205" y="111"/>
                        </a:lnTo>
                        <a:lnTo>
                          <a:pt x="196" y="138"/>
                        </a:lnTo>
                        <a:lnTo>
                          <a:pt x="188" y="171"/>
                        </a:lnTo>
                        <a:lnTo>
                          <a:pt x="181" y="197"/>
                        </a:lnTo>
                        <a:lnTo>
                          <a:pt x="177" y="215"/>
                        </a:lnTo>
                        <a:lnTo>
                          <a:pt x="168" y="227"/>
                        </a:lnTo>
                        <a:lnTo>
                          <a:pt x="143" y="238"/>
                        </a:lnTo>
                        <a:lnTo>
                          <a:pt x="112" y="247"/>
                        </a:lnTo>
                        <a:lnTo>
                          <a:pt x="81" y="260"/>
                        </a:lnTo>
                        <a:lnTo>
                          <a:pt x="49" y="273"/>
                        </a:lnTo>
                        <a:lnTo>
                          <a:pt x="29" y="284"/>
                        </a:lnTo>
                        <a:lnTo>
                          <a:pt x="13" y="297"/>
                        </a:lnTo>
                        <a:lnTo>
                          <a:pt x="3" y="314"/>
                        </a:lnTo>
                        <a:lnTo>
                          <a:pt x="0" y="333"/>
                        </a:lnTo>
                        <a:lnTo>
                          <a:pt x="0" y="352"/>
                        </a:lnTo>
                        <a:lnTo>
                          <a:pt x="6" y="368"/>
                        </a:lnTo>
                        <a:lnTo>
                          <a:pt x="17" y="383"/>
                        </a:lnTo>
                        <a:lnTo>
                          <a:pt x="33" y="393"/>
                        </a:lnTo>
                        <a:lnTo>
                          <a:pt x="55" y="401"/>
                        </a:lnTo>
                        <a:lnTo>
                          <a:pt x="86" y="405"/>
                        </a:lnTo>
                        <a:lnTo>
                          <a:pt x="116" y="406"/>
                        </a:lnTo>
                        <a:lnTo>
                          <a:pt x="149" y="403"/>
                        </a:lnTo>
                        <a:lnTo>
                          <a:pt x="172" y="397"/>
                        </a:lnTo>
                        <a:lnTo>
                          <a:pt x="168" y="425"/>
                        </a:lnTo>
                        <a:lnTo>
                          <a:pt x="165" y="472"/>
                        </a:lnTo>
                        <a:lnTo>
                          <a:pt x="168" y="521"/>
                        </a:lnTo>
                        <a:lnTo>
                          <a:pt x="175" y="575"/>
                        </a:lnTo>
                        <a:lnTo>
                          <a:pt x="186" y="624"/>
                        </a:lnTo>
                        <a:lnTo>
                          <a:pt x="194" y="644"/>
                        </a:lnTo>
                        <a:lnTo>
                          <a:pt x="204" y="663"/>
                        </a:lnTo>
                        <a:lnTo>
                          <a:pt x="219" y="683"/>
                        </a:lnTo>
                        <a:lnTo>
                          <a:pt x="240" y="702"/>
                        </a:lnTo>
                        <a:lnTo>
                          <a:pt x="253" y="710"/>
                        </a:lnTo>
                        <a:lnTo>
                          <a:pt x="275" y="715"/>
                        </a:lnTo>
                        <a:lnTo>
                          <a:pt x="291" y="710"/>
                        </a:lnTo>
                        <a:lnTo>
                          <a:pt x="311" y="702"/>
                        </a:lnTo>
                        <a:lnTo>
                          <a:pt x="336" y="678"/>
                        </a:lnTo>
                        <a:lnTo>
                          <a:pt x="352" y="649"/>
                        </a:lnTo>
                        <a:lnTo>
                          <a:pt x="365" y="617"/>
                        </a:lnTo>
                        <a:lnTo>
                          <a:pt x="380" y="565"/>
                        </a:lnTo>
                        <a:lnTo>
                          <a:pt x="392" y="524"/>
                        </a:lnTo>
                        <a:lnTo>
                          <a:pt x="402" y="481"/>
                        </a:lnTo>
                        <a:lnTo>
                          <a:pt x="408" y="453"/>
                        </a:lnTo>
                        <a:lnTo>
                          <a:pt x="415" y="404"/>
                        </a:lnTo>
                        <a:lnTo>
                          <a:pt x="418" y="363"/>
                        </a:lnTo>
                        <a:lnTo>
                          <a:pt x="421" y="337"/>
                        </a:lnTo>
                        <a:lnTo>
                          <a:pt x="418" y="322"/>
                        </a:lnTo>
                        <a:lnTo>
                          <a:pt x="429" y="324"/>
                        </a:lnTo>
                        <a:lnTo>
                          <a:pt x="442" y="319"/>
                        </a:lnTo>
                        <a:lnTo>
                          <a:pt x="453" y="306"/>
                        </a:lnTo>
                        <a:lnTo>
                          <a:pt x="460" y="292"/>
                        </a:lnTo>
                        <a:lnTo>
                          <a:pt x="462" y="277"/>
                        </a:lnTo>
                        <a:lnTo>
                          <a:pt x="459" y="264"/>
                        </a:lnTo>
                        <a:lnTo>
                          <a:pt x="450" y="254"/>
                        </a:lnTo>
                        <a:lnTo>
                          <a:pt x="439" y="252"/>
                        </a:lnTo>
                        <a:lnTo>
                          <a:pt x="426" y="252"/>
                        </a:lnTo>
                        <a:lnTo>
                          <a:pt x="440" y="221"/>
                        </a:lnTo>
                        <a:lnTo>
                          <a:pt x="448" y="174"/>
                        </a:lnTo>
                        <a:lnTo>
                          <a:pt x="450" y="122"/>
                        </a:lnTo>
                        <a:lnTo>
                          <a:pt x="448" y="64"/>
                        </a:lnTo>
                        <a:lnTo>
                          <a:pt x="412" y="23"/>
                        </a:lnTo>
                        <a:lnTo>
                          <a:pt x="379" y="4"/>
                        </a:lnTo>
                        <a:lnTo>
                          <a:pt x="332" y="0"/>
                        </a:lnTo>
                        <a:lnTo>
                          <a:pt x="289" y="11"/>
                        </a:lnTo>
                        <a:lnTo>
                          <a:pt x="256" y="36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60"/>
                  <p:cNvSpPr/>
                  <p:nvPr/>
                </p:nvSpPr>
                <p:spPr>
                  <a:xfrm>
                    <a:off x="7535880" y="4430520"/>
                    <a:ext cx="138240" cy="71640"/>
                  </a:xfrm>
                  <a:custGeom>
                    <a:avLst/>
                    <a:gdLst>
                      <a:gd name="textAreaLeft" fmla="*/ 0 w 138240"/>
                      <a:gd name="textAreaRight" fmla="*/ 138240 w 13824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87" h="45">
                        <a:moveTo>
                          <a:pt x="0" y="45"/>
                        </a:moveTo>
                        <a:lnTo>
                          <a:pt x="19" y="41"/>
                        </a:lnTo>
                        <a:lnTo>
                          <a:pt x="42" y="32"/>
                        </a:lnTo>
                        <a:lnTo>
                          <a:pt x="60" y="24"/>
                        </a:lnTo>
                        <a:lnTo>
                          <a:pt x="76" y="13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61"/>
                <p:cNvGrpSpPr/>
                <p:nvPr/>
              </p:nvGrpSpPr>
              <p:grpSpPr>
                <a:xfrm>
                  <a:off x="7540560" y="3809880"/>
                  <a:ext cx="528840" cy="469800"/>
                  <a:chOff x="7540560" y="3809880"/>
                  <a:chExt cx="528840" cy="469800"/>
                </a:xfrm>
              </p:grpSpPr>
              <p:sp>
                <p:nvSpPr>
                  <p:cNvPr id="147" name="Freeform 62"/>
                  <p:cNvSpPr/>
                  <p:nvPr/>
                </p:nvSpPr>
                <p:spPr>
                  <a:xfrm>
                    <a:off x="7540560" y="3809880"/>
                    <a:ext cx="528840" cy="469800"/>
                  </a:xfrm>
                  <a:custGeom>
                    <a:avLst/>
                    <a:gdLst>
                      <a:gd name="textAreaLeft" fmla="*/ 0 w 528840"/>
                      <a:gd name="textAreaRight" fmla="*/ 529200 w 528840"/>
                      <a:gd name="textAreaTop" fmla="*/ 0 h 469800"/>
                      <a:gd name="textAreaBottom" fmla="*/ 470160 h 469800"/>
                    </a:gdLst>
                    <a:ahLst/>
                    <a:rect l="textAreaLeft" t="textAreaTop" r="textAreaRight" b="textAreaBottom"/>
                    <a:pathLst>
                      <a:path w="333" h="296">
                        <a:moveTo>
                          <a:pt x="0" y="81"/>
                        </a:moveTo>
                        <a:lnTo>
                          <a:pt x="2" y="71"/>
                        </a:lnTo>
                        <a:lnTo>
                          <a:pt x="5" y="63"/>
                        </a:lnTo>
                        <a:lnTo>
                          <a:pt x="15" y="50"/>
                        </a:lnTo>
                        <a:lnTo>
                          <a:pt x="29" y="40"/>
                        </a:lnTo>
                        <a:lnTo>
                          <a:pt x="46" y="31"/>
                        </a:lnTo>
                        <a:lnTo>
                          <a:pt x="65" y="23"/>
                        </a:lnTo>
                        <a:lnTo>
                          <a:pt x="90" y="17"/>
                        </a:lnTo>
                        <a:lnTo>
                          <a:pt x="110" y="14"/>
                        </a:lnTo>
                        <a:lnTo>
                          <a:pt x="126" y="5"/>
                        </a:lnTo>
                        <a:lnTo>
                          <a:pt x="142" y="0"/>
                        </a:lnTo>
                        <a:lnTo>
                          <a:pt x="163" y="5"/>
                        </a:lnTo>
                        <a:lnTo>
                          <a:pt x="185" y="11"/>
                        </a:lnTo>
                        <a:lnTo>
                          <a:pt x="201" y="17"/>
                        </a:lnTo>
                        <a:lnTo>
                          <a:pt x="219" y="25"/>
                        </a:lnTo>
                        <a:lnTo>
                          <a:pt x="233" y="33"/>
                        </a:lnTo>
                        <a:lnTo>
                          <a:pt x="249" y="44"/>
                        </a:lnTo>
                        <a:lnTo>
                          <a:pt x="264" y="54"/>
                        </a:lnTo>
                        <a:lnTo>
                          <a:pt x="278" y="66"/>
                        </a:lnTo>
                        <a:lnTo>
                          <a:pt x="291" y="78"/>
                        </a:lnTo>
                        <a:lnTo>
                          <a:pt x="300" y="89"/>
                        </a:lnTo>
                        <a:lnTo>
                          <a:pt x="308" y="101"/>
                        </a:lnTo>
                        <a:lnTo>
                          <a:pt x="316" y="115"/>
                        </a:lnTo>
                        <a:lnTo>
                          <a:pt x="322" y="127"/>
                        </a:lnTo>
                        <a:lnTo>
                          <a:pt x="327" y="140"/>
                        </a:lnTo>
                        <a:lnTo>
                          <a:pt x="330" y="156"/>
                        </a:lnTo>
                        <a:lnTo>
                          <a:pt x="326" y="172"/>
                        </a:lnTo>
                        <a:lnTo>
                          <a:pt x="331" y="183"/>
                        </a:lnTo>
                        <a:lnTo>
                          <a:pt x="333" y="201"/>
                        </a:lnTo>
                        <a:lnTo>
                          <a:pt x="333" y="216"/>
                        </a:lnTo>
                        <a:lnTo>
                          <a:pt x="328" y="229"/>
                        </a:lnTo>
                        <a:lnTo>
                          <a:pt x="315" y="250"/>
                        </a:lnTo>
                        <a:lnTo>
                          <a:pt x="304" y="262"/>
                        </a:lnTo>
                        <a:lnTo>
                          <a:pt x="295" y="272"/>
                        </a:lnTo>
                        <a:lnTo>
                          <a:pt x="282" y="282"/>
                        </a:lnTo>
                        <a:lnTo>
                          <a:pt x="268" y="289"/>
                        </a:lnTo>
                        <a:lnTo>
                          <a:pt x="252" y="296"/>
                        </a:lnTo>
                        <a:lnTo>
                          <a:pt x="239" y="292"/>
                        </a:lnTo>
                        <a:lnTo>
                          <a:pt x="227" y="287"/>
                        </a:lnTo>
                        <a:lnTo>
                          <a:pt x="232" y="271"/>
                        </a:lnTo>
                        <a:lnTo>
                          <a:pt x="231" y="256"/>
                        </a:lnTo>
                        <a:lnTo>
                          <a:pt x="228" y="244"/>
                        </a:lnTo>
                        <a:lnTo>
                          <a:pt x="223" y="231"/>
                        </a:lnTo>
                        <a:lnTo>
                          <a:pt x="211" y="224"/>
                        </a:lnTo>
                        <a:lnTo>
                          <a:pt x="201" y="213"/>
                        </a:lnTo>
                        <a:lnTo>
                          <a:pt x="197" y="197"/>
                        </a:lnTo>
                        <a:lnTo>
                          <a:pt x="196" y="180"/>
                        </a:lnTo>
                        <a:lnTo>
                          <a:pt x="197" y="160"/>
                        </a:lnTo>
                        <a:lnTo>
                          <a:pt x="200" y="144"/>
                        </a:lnTo>
                        <a:lnTo>
                          <a:pt x="207" y="129"/>
                        </a:lnTo>
                        <a:lnTo>
                          <a:pt x="213" y="117"/>
                        </a:lnTo>
                        <a:lnTo>
                          <a:pt x="218" y="106"/>
                        </a:lnTo>
                        <a:lnTo>
                          <a:pt x="207" y="110"/>
                        </a:lnTo>
                        <a:lnTo>
                          <a:pt x="189" y="115"/>
                        </a:lnTo>
                        <a:lnTo>
                          <a:pt x="178" y="116"/>
                        </a:lnTo>
                        <a:lnTo>
                          <a:pt x="165" y="115"/>
                        </a:lnTo>
                        <a:lnTo>
                          <a:pt x="155" y="110"/>
                        </a:lnTo>
                        <a:lnTo>
                          <a:pt x="147" y="104"/>
                        </a:lnTo>
                        <a:lnTo>
                          <a:pt x="134" y="103"/>
                        </a:lnTo>
                        <a:lnTo>
                          <a:pt x="120" y="100"/>
                        </a:lnTo>
                        <a:lnTo>
                          <a:pt x="112" y="94"/>
                        </a:lnTo>
                        <a:lnTo>
                          <a:pt x="101" y="98"/>
                        </a:lnTo>
                        <a:lnTo>
                          <a:pt x="84" y="103"/>
                        </a:lnTo>
                        <a:lnTo>
                          <a:pt x="65" y="104"/>
                        </a:lnTo>
                        <a:lnTo>
                          <a:pt x="47" y="105"/>
                        </a:lnTo>
                        <a:lnTo>
                          <a:pt x="31" y="103"/>
                        </a:lnTo>
                        <a:lnTo>
                          <a:pt x="15" y="99"/>
                        </a:lnTo>
                        <a:lnTo>
                          <a:pt x="5" y="93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63"/>
                  <p:cNvGrpSpPr/>
                  <p:nvPr/>
                </p:nvGrpSpPr>
                <p:grpSpPr>
                  <a:xfrm>
                    <a:off x="7715160" y="3921120"/>
                    <a:ext cx="216000" cy="295200"/>
                    <a:chOff x="7715160" y="3921120"/>
                    <a:chExt cx="216000" cy="295200"/>
                  </a:xfrm>
                </p:grpSpPr>
                <p:grpSp>
                  <p:nvGrpSpPr>
                    <p:cNvPr id="149" name="Group 64"/>
                    <p:cNvGrpSpPr/>
                    <p:nvPr/>
                  </p:nvGrpSpPr>
                  <p:grpSpPr>
                    <a:xfrm>
                      <a:off x="7716960" y="3931920"/>
                      <a:ext cx="214200" cy="284400"/>
                      <a:chOff x="7716960" y="3931920"/>
                      <a:chExt cx="214200" cy="284400"/>
                    </a:xfrm>
                  </p:grpSpPr>
                  <p:sp>
                    <p:nvSpPr>
                      <p:cNvPr id="150" name="Freeform 65"/>
                      <p:cNvSpPr/>
                      <p:nvPr/>
                    </p:nvSpPr>
                    <p:spPr>
                      <a:xfrm>
                        <a:off x="7853400" y="3931920"/>
                        <a:ext cx="77760" cy="82800"/>
                      </a:xfrm>
                      <a:custGeom>
                        <a:avLst/>
                        <a:gdLst>
                          <a:gd name="textAreaLeft" fmla="*/ 0 w 77760"/>
                          <a:gd name="textAreaRight" fmla="*/ 78120 w 7776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49" h="52">
                            <a:moveTo>
                              <a:pt x="0" y="34"/>
                            </a:moveTo>
                            <a:lnTo>
                              <a:pt x="18" y="24"/>
                            </a:lnTo>
                            <a:lnTo>
                              <a:pt x="26" y="15"/>
                            </a:lnTo>
                            <a:lnTo>
                              <a:pt x="24" y="8"/>
                            </a:lnTo>
                            <a:lnTo>
                              <a:pt x="21" y="0"/>
                            </a:lnTo>
                            <a:lnTo>
                              <a:pt x="29" y="4"/>
                            </a:lnTo>
                            <a:lnTo>
                              <a:pt x="32" y="10"/>
                            </a:lnTo>
                            <a:lnTo>
                              <a:pt x="31" y="17"/>
                            </a:lnTo>
                            <a:lnTo>
                              <a:pt x="27" y="26"/>
                            </a:lnTo>
                            <a:lnTo>
                              <a:pt x="39" y="26"/>
                            </a:lnTo>
                            <a:lnTo>
                              <a:pt x="49" y="38"/>
                            </a:lnTo>
                            <a:lnTo>
                              <a:pt x="43" y="34"/>
                            </a:lnTo>
                            <a:lnTo>
                              <a:pt x="37" y="32"/>
                            </a:lnTo>
                            <a:lnTo>
                              <a:pt x="32" y="34"/>
                            </a:lnTo>
                            <a:lnTo>
                              <a:pt x="34" y="41"/>
                            </a:lnTo>
                            <a:lnTo>
                              <a:pt x="29" y="48"/>
                            </a:lnTo>
                            <a:lnTo>
                              <a:pt x="22" y="52"/>
                            </a:lnTo>
                            <a:lnTo>
                              <a:pt x="29" y="41"/>
                            </a:lnTo>
                            <a:lnTo>
                              <a:pt x="28" y="33"/>
                            </a:lnTo>
                            <a:lnTo>
                              <a:pt x="23" y="30"/>
                            </a:lnTo>
                            <a:lnTo>
                              <a:pt x="18" y="32"/>
                            </a:lnTo>
                            <a:lnTo>
                              <a:pt x="6" y="46"/>
                            </a:lnTo>
                            <a:lnTo>
                              <a:pt x="13" y="31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Freeform 66"/>
                      <p:cNvSpPr/>
                      <p:nvPr/>
                    </p:nvSpPr>
                    <p:spPr>
                      <a:xfrm>
                        <a:off x="7891560" y="4136760"/>
                        <a:ext cx="31680" cy="7956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79560"/>
                          <a:gd name="textAreaBottom" fmla="*/ 79920 h 79560"/>
                        </a:gdLst>
                        <a:ahLst/>
                        <a:rect l="textAreaLeft" t="textAreaTop" r="textAreaRight" b="textAreaBottom"/>
                        <a:pathLst>
                          <a:path w="20" h="50">
                            <a:moveTo>
                              <a:pt x="0" y="24"/>
                            </a:moveTo>
                            <a:lnTo>
                              <a:pt x="7" y="24"/>
                            </a:lnTo>
                            <a:lnTo>
                              <a:pt x="14" y="20"/>
                            </a:lnTo>
                            <a:lnTo>
                              <a:pt x="17" y="10"/>
                            </a:lnTo>
                            <a:lnTo>
                              <a:pt x="20" y="0"/>
                            </a:lnTo>
                            <a:lnTo>
                              <a:pt x="19" y="12"/>
                            </a:lnTo>
                            <a:lnTo>
                              <a:pt x="17" y="22"/>
                            </a:lnTo>
                            <a:lnTo>
                              <a:pt x="14" y="28"/>
                            </a:lnTo>
                            <a:lnTo>
                              <a:pt x="9" y="32"/>
                            </a:lnTo>
                            <a:lnTo>
                              <a:pt x="8" y="38"/>
                            </a:lnTo>
                            <a:lnTo>
                              <a:pt x="8" y="45"/>
                            </a:lnTo>
                            <a:lnTo>
                              <a:pt x="19" y="45"/>
                            </a:lnTo>
                            <a:lnTo>
                              <a:pt x="6" y="50"/>
                            </a:lnTo>
                            <a:lnTo>
                              <a:pt x="5" y="39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Freeform 67"/>
                      <p:cNvSpPr/>
                      <p:nvPr/>
                    </p:nvSpPr>
                    <p:spPr>
                      <a:xfrm>
                        <a:off x="7716960" y="3958920"/>
                        <a:ext cx="50760" cy="5040"/>
                      </a:xfrm>
                      <a:custGeom>
                        <a:avLst/>
                        <a:gdLst>
                          <a:gd name="textAreaLeft" fmla="*/ 0 w 50760"/>
                          <a:gd name="textAreaRight" fmla="*/ 51120 w 5076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32" h="3">
                            <a:moveTo>
                              <a:pt x="11" y="1"/>
                            </a:moveTo>
                            <a:lnTo>
                              <a:pt x="18" y="1"/>
                            </a:lnTo>
                            <a:lnTo>
                              <a:pt x="32" y="0"/>
                            </a:lnTo>
                            <a:lnTo>
                              <a:pt x="22" y="3"/>
                            </a:lnTo>
                            <a:lnTo>
                              <a:pt x="13" y="3"/>
                            </a:lnTo>
                            <a:lnTo>
                              <a:pt x="7" y="3"/>
                            </a:lnTo>
                            <a:lnTo>
                              <a:pt x="0" y="1"/>
                            </a:lnTo>
                            <a:lnTo>
                              <a:pt x="11" y="1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3" name="Freeform 68"/>
                    <p:cNvSpPr/>
                    <p:nvPr/>
                  </p:nvSpPr>
                  <p:spPr>
                    <a:xfrm>
                      <a:off x="7715160" y="3921120"/>
                      <a:ext cx="32040" cy="34920"/>
                    </a:xfrm>
                    <a:custGeom>
                      <a:avLst/>
                      <a:gdLst>
                        <a:gd name="textAreaLeft" fmla="*/ 0 w 32040"/>
                        <a:gd name="textAreaRight" fmla="*/ 32400 w 32040"/>
                        <a:gd name="textAreaTop" fmla="*/ 0 h 34920"/>
                        <a:gd name="textAreaBottom" fmla="*/ 34920 h 34920"/>
                      </a:gdLst>
                      <a:ahLst/>
                      <a:rect l="textAreaLeft" t="textAreaTop" r="textAreaRight" b="textAreaBottom"/>
                      <a:pathLst>
                        <a:path w="20" h="22">
                          <a:moveTo>
                            <a:pt x="0" y="22"/>
                          </a:moveTo>
                          <a:lnTo>
                            <a:pt x="6" y="22"/>
                          </a:lnTo>
                          <a:lnTo>
                            <a:pt x="12" y="18"/>
                          </a:lnTo>
                          <a:lnTo>
                            <a:pt x="15" y="11"/>
                          </a:lnTo>
                          <a:lnTo>
                            <a:pt x="20" y="0"/>
                          </a:lnTo>
                          <a:lnTo>
                            <a:pt x="8" y="1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" name="Group 69"/>
              <p:cNvGrpSpPr/>
              <p:nvPr/>
            </p:nvGrpSpPr>
            <p:grpSpPr>
              <a:xfrm>
                <a:off x="7599600" y="4038480"/>
                <a:ext cx="198360" cy="617400"/>
                <a:chOff x="7599600" y="4038480"/>
                <a:chExt cx="198360" cy="617400"/>
              </a:xfrm>
            </p:grpSpPr>
            <p:grpSp>
              <p:nvGrpSpPr>
                <p:cNvPr id="155" name="Group 70"/>
                <p:cNvGrpSpPr/>
                <p:nvPr/>
              </p:nvGrpSpPr>
              <p:grpSpPr>
                <a:xfrm>
                  <a:off x="7599600" y="4038480"/>
                  <a:ext cx="176040" cy="237960"/>
                  <a:chOff x="7599600" y="4038480"/>
                  <a:chExt cx="176040" cy="237960"/>
                </a:xfrm>
              </p:grpSpPr>
              <p:grpSp>
                <p:nvGrpSpPr>
                  <p:cNvPr id="156" name="Group 71"/>
                  <p:cNvGrpSpPr/>
                  <p:nvPr/>
                </p:nvGrpSpPr>
                <p:grpSpPr>
                  <a:xfrm>
                    <a:off x="7599600" y="4038480"/>
                    <a:ext cx="176040" cy="33480"/>
                    <a:chOff x="7599600" y="4038480"/>
                    <a:chExt cx="176040" cy="33480"/>
                  </a:xfrm>
                </p:grpSpPr>
                <p:sp>
                  <p:nvSpPr>
                    <p:cNvPr id="157" name="Freeform 72"/>
                    <p:cNvSpPr/>
                    <p:nvPr/>
                  </p:nvSpPr>
                  <p:spPr>
                    <a:xfrm>
                      <a:off x="7696440" y="4038480"/>
                      <a:ext cx="79200" cy="33480"/>
                    </a:xfrm>
                    <a:custGeom>
                      <a:avLst/>
                      <a:gdLst>
                        <a:gd name="textAreaLeft" fmla="*/ 0 w 79200"/>
                        <a:gd name="textAreaRight" fmla="*/ 79560 w 79200"/>
                        <a:gd name="textAreaTop" fmla="*/ 0 h 33480"/>
                        <a:gd name="textAreaBottom" fmla="*/ 33840 h 33480"/>
                      </a:gdLst>
                      <a:ahLst/>
                      <a:rect l="textAreaLeft" t="textAreaTop" r="textAreaRight" b="textAreaBottom"/>
                      <a:pathLst>
                        <a:path w="50" h="21">
                          <a:moveTo>
                            <a:pt x="0" y="4"/>
                          </a:moveTo>
                          <a:lnTo>
                            <a:pt x="12" y="0"/>
                          </a:lnTo>
                          <a:lnTo>
                            <a:pt x="23" y="1"/>
                          </a:lnTo>
                          <a:lnTo>
                            <a:pt x="34" y="5"/>
                          </a:lnTo>
                          <a:lnTo>
                            <a:pt x="44" y="11"/>
                          </a:lnTo>
                          <a:lnTo>
                            <a:pt x="50" y="21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Freeform 73"/>
                    <p:cNvSpPr/>
                    <p:nvPr/>
                  </p:nvSpPr>
                  <p:spPr>
                    <a:xfrm>
                      <a:off x="7599600" y="4038480"/>
                      <a:ext cx="63360" cy="237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40" h="15">
                          <a:moveTo>
                            <a:pt x="0" y="15"/>
                          </a:moveTo>
                          <a:lnTo>
                            <a:pt x="7" y="7"/>
                          </a:lnTo>
                          <a:lnTo>
                            <a:pt x="17" y="3"/>
                          </a:lnTo>
                          <a:lnTo>
                            <a:pt x="29" y="0"/>
                          </a:lnTo>
                          <a:lnTo>
                            <a:pt x="40" y="2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Group 74"/>
                  <p:cNvGrpSpPr/>
                  <p:nvPr/>
                </p:nvGrpSpPr>
                <p:grpSpPr>
                  <a:xfrm>
                    <a:off x="7602480" y="4065480"/>
                    <a:ext cx="160560" cy="210960"/>
                    <a:chOff x="7602480" y="4065480"/>
                    <a:chExt cx="160560" cy="210960"/>
                  </a:xfrm>
                </p:grpSpPr>
                <p:sp>
                  <p:nvSpPr>
                    <p:cNvPr id="160" name="Oval 75"/>
                    <p:cNvSpPr/>
                    <p:nvPr/>
                  </p:nvSpPr>
                  <p:spPr>
                    <a:xfrm>
                      <a:off x="7602480" y="4065480"/>
                      <a:ext cx="59040" cy="210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Oval 76"/>
                    <p:cNvSpPr/>
                    <p:nvPr/>
                  </p:nvSpPr>
                  <p:spPr>
                    <a:xfrm>
                      <a:off x="7704360" y="4065480"/>
                      <a:ext cx="58680" cy="210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2" name="Group 77"/>
                <p:cNvGrpSpPr/>
                <p:nvPr/>
              </p:nvGrpSpPr>
              <p:grpSpPr>
                <a:xfrm>
                  <a:off x="7613640" y="4437000"/>
                  <a:ext cx="184320" cy="218880"/>
                  <a:chOff x="7613640" y="4437000"/>
                  <a:chExt cx="184320" cy="218880"/>
                </a:xfrm>
              </p:grpSpPr>
              <p:sp>
                <p:nvSpPr>
                  <p:cNvPr id="163" name="Freeform 78"/>
                  <p:cNvSpPr/>
                  <p:nvPr/>
                </p:nvSpPr>
                <p:spPr>
                  <a:xfrm>
                    <a:off x="7751880" y="4437000"/>
                    <a:ext cx="46080" cy="21888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29" h="138">
                        <a:moveTo>
                          <a:pt x="22" y="0"/>
                        </a:moveTo>
                        <a:lnTo>
                          <a:pt x="15" y="12"/>
                        </a:lnTo>
                        <a:lnTo>
                          <a:pt x="6" y="32"/>
                        </a:lnTo>
                        <a:lnTo>
                          <a:pt x="2" y="50"/>
                        </a:lnTo>
                        <a:lnTo>
                          <a:pt x="0" y="74"/>
                        </a:lnTo>
                        <a:lnTo>
                          <a:pt x="1" y="96"/>
                        </a:lnTo>
                        <a:lnTo>
                          <a:pt x="9" y="111"/>
                        </a:lnTo>
                        <a:lnTo>
                          <a:pt x="18" y="125"/>
                        </a:lnTo>
                        <a:lnTo>
                          <a:pt x="29" y="13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79"/>
                  <p:cNvSpPr/>
                  <p:nvPr/>
                </p:nvSpPr>
                <p:spPr>
                  <a:xfrm>
                    <a:off x="7613640" y="4516200"/>
                    <a:ext cx="146160" cy="9360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93600"/>
                      <a:gd name="textAreaBottom" fmla="*/ 93960 h 93600"/>
                    </a:gdLst>
                    <a:ahLst/>
                    <a:rect l="textAreaLeft" t="textAreaTop" r="textAreaRight" b="textAreaBottom"/>
                    <a:pathLst>
                      <a:path w="92" h="59">
                        <a:moveTo>
                          <a:pt x="0" y="3"/>
                        </a:moveTo>
                        <a:lnTo>
                          <a:pt x="11" y="31"/>
                        </a:lnTo>
                        <a:lnTo>
                          <a:pt x="9" y="59"/>
                        </a:lnTo>
                        <a:lnTo>
                          <a:pt x="34" y="52"/>
                        </a:lnTo>
                        <a:lnTo>
                          <a:pt x="47" y="49"/>
                        </a:lnTo>
                        <a:lnTo>
                          <a:pt x="64" y="51"/>
                        </a:lnTo>
                        <a:lnTo>
                          <a:pt x="92" y="57"/>
                        </a:lnTo>
                        <a:lnTo>
                          <a:pt x="86" y="43"/>
                        </a:lnTo>
                        <a:lnTo>
                          <a:pt x="86" y="27"/>
                        </a:lnTo>
                        <a:lnTo>
                          <a:pt x="87" y="12"/>
                        </a:lnTo>
                        <a:lnTo>
                          <a:pt x="88" y="0"/>
                        </a:lnTo>
                        <a:lnTo>
                          <a:pt x="73" y="7"/>
                        </a:lnTo>
                        <a:lnTo>
                          <a:pt x="56" y="12"/>
                        </a:lnTo>
                        <a:lnTo>
                          <a:pt x="39" y="13"/>
                        </a:lnTo>
                        <a:lnTo>
                          <a:pt x="22" y="1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65" name="Group 80"/>
          <p:cNvGrpSpPr/>
          <p:nvPr/>
        </p:nvGrpSpPr>
        <p:grpSpPr>
          <a:xfrm>
            <a:off x="7391520" y="2819520"/>
            <a:ext cx="957240" cy="923760"/>
            <a:chOff x="7391520" y="2819520"/>
            <a:chExt cx="957240" cy="923760"/>
          </a:xfrm>
        </p:grpSpPr>
        <p:grpSp>
          <p:nvGrpSpPr>
            <p:cNvPr id="166" name="Group 81"/>
            <p:cNvGrpSpPr/>
            <p:nvPr/>
          </p:nvGrpSpPr>
          <p:grpSpPr>
            <a:xfrm>
              <a:off x="7391520" y="3200400"/>
              <a:ext cx="347400" cy="542880"/>
              <a:chOff x="7391520" y="3200400"/>
              <a:chExt cx="347400" cy="542880"/>
            </a:xfrm>
          </p:grpSpPr>
          <p:sp>
            <p:nvSpPr>
              <p:cNvPr id="167" name="Freeform 82"/>
              <p:cNvSpPr/>
              <p:nvPr/>
            </p:nvSpPr>
            <p:spPr>
              <a:xfrm>
                <a:off x="7391520" y="3200400"/>
                <a:ext cx="347400" cy="542880"/>
              </a:xfrm>
              <a:custGeom>
                <a:avLst/>
                <a:gdLst>
                  <a:gd name="textAreaLeft" fmla="*/ 0 w 347400"/>
                  <a:gd name="textAreaRight" fmla="*/ 347400 w 34740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3"/>
              <p:cNvSpPr/>
              <p:nvPr/>
            </p:nvSpPr>
            <p:spPr>
              <a:xfrm>
                <a:off x="7405560" y="3238560"/>
                <a:ext cx="309240" cy="3776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84"/>
              <p:cNvSpPr/>
              <p:nvPr/>
            </p:nvSpPr>
            <p:spPr>
              <a:xfrm>
                <a:off x="7524360" y="3638520"/>
                <a:ext cx="99720" cy="856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85"/>
            <p:cNvGrpSpPr/>
            <p:nvPr/>
          </p:nvGrpSpPr>
          <p:grpSpPr>
            <a:xfrm>
              <a:off x="7696080" y="2819520"/>
              <a:ext cx="347760" cy="542880"/>
              <a:chOff x="7696080" y="2819520"/>
              <a:chExt cx="347760" cy="542880"/>
            </a:xfrm>
          </p:grpSpPr>
          <p:sp>
            <p:nvSpPr>
              <p:cNvPr id="171" name="Freeform 86"/>
              <p:cNvSpPr/>
              <p:nvPr/>
            </p:nvSpPr>
            <p:spPr>
              <a:xfrm>
                <a:off x="7696080" y="281952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7"/>
              <p:cNvSpPr/>
              <p:nvPr/>
            </p:nvSpPr>
            <p:spPr>
              <a:xfrm>
                <a:off x="7710480" y="285768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88"/>
              <p:cNvSpPr/>
              <p:nvPr/>
            </p:nvSpPr>
            <p:spPr>
              <a:xfrm>
                <a:off x="7829280" y="325764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89"/>
            <p:cNvGrpSpPr/>
            <p:nvPr/>
          </p:nvGrpSpPr>
          <p:grpSpPr>
            <a:xfrm>
              <a:off x="8001000" y="3200400"/>
              <a:ext cx="347760" cy="542880"/>
              <a:chOff x="8001000" y="3200400"/>
              <a:chExt cx="347760" cy="542880"/>
            </a:xfrm>
          </p:grpSpPr>
          <p:sp>
            <p:nvSpPr>
              <p:cNvPr id="175" name="Freeform 90"/>
              <p:cNvSpPr/>
              <p:nvPr/>
            </p:nvSpPr>
            <p:spPr>
              <a:xfrm>
                <a:off x="8001000" y="3200400"/>
                <a:ext cx="347760" cy="54288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1"/>
              <p:cNvSpPr/>
              <p:nvPr/>
            </p:nvSpPr>
            <p:spPr>
              <a:xfrm>
                <a:off x="8015400" y="3238560"/>
                <a:ext cx="309600" cy="3776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2"/>
              <p:cNvSpPr/>
              <p:nvPr/>
            </p:nvSpPr>
            <p:spPr>
              <a:xfrm>
                <a:off x="8134200" y="3638520"/>
                <a:ext cx="100080" cy="85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826920" y="692280"/>
            <a:ext cx="7488360" cy="5472000"/>
          </a:xfrm>
          <a:custGeom>
            <a:avLst/>
            <a:gdLst>
              <a:gd name="textAreaLeft" fmla="*/ 354600 w 7488360"/>
              <a:gd name="textAreaRight" fmla="*/ 7133760 w 7488360"/>
              <a:gd name="textAreaTop" fmla="*/ 354600 h 5472000"/>
              <a:gd name="textAreaBottom" fmla="*/ 5117400 h 5472000"/>
            </a:gdLst>
            <a:ahLst/>
            <a:rect l="textAreaLeft" t="textAreaTop" r="textAreaRight" b="textAreaBottom"/>
            <a:pathLst>
              <a:path w="29559" h="21600">
                <a:moveTo>
                  <a:pt x="0" y="0"/>
                </a:moveTo>
                <a:lnTo>
                  <a:pt x="29559" y="0"/>
                </a:lnTo>
                <a:lnTo>
                  <a:pt x="29559" y="21600"/>
                </a:lnTo>
                <a:lnTo>
                  <a:pt x="0" y="21600"/>
                </a:lnTo>
                <a:close/>
              </a:path>
              <a:path fill="lightenLess" w="29559" h="21600">
                <a:moveTo>
                  <a:pt x="0" y="0"/>
                </a:moveTo>
                <a:lnTo>
                  <a:pt x="29559" y="0"/>
                </a:lnTo>
                <a:lnTo>
                  <a:pt x="28159" y="1400"/>
                </a:lnTo>
                <a:lnTo>
                  <a:pt x="1400" y="1400"/>
                </a:lnTo>
                <a:close/>
              </a:path>
              <a:path fill="darken" w="29559" h="21600">
                <a:moveTo>
                  <a:pt x="29559" y="0"/>
                </a:moveTo>
                <a:lnTo>
                  <a:pt x="29559" y="21600"/>
                </a:lnTo>
                <a:lnTo>
                  <a:pt x="28159" y="20200"/>
                </a:lnTo>
                <a:lnTo>
                  <a:pt x="28159" y="1400"/>
                </a:lnTo>
                <a:close/>
              </a:path>
              <a:path fill="darkenLess" w="29559" h="21600">
                <a:moveTo>
                  <a:pt x="29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59" y="20200"/>
                </a:lnTo>
                <a:close/>
              </a:path>
              <a:path fill="lighten" w="29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d9"/>
                </a:solidFill>
                <a:latin typeface="Times New Roman"/>
              </a:rPr>
              <a:t>Ноль принадлеж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d9"/>
                </a:solidFill>
                <a:latin typeface="Times New Roman"/>
              </a:rPr>
              <a:t>множеству … чи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а) целы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б) натуральны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) просты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г) положительны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) отриц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3276720" y="2421000"/>
            <a:ext cx="2950920" cy="792000"/>
          </a:xfrm>
          <a:prstGeom prst="rect">
            <a:avLst/>
          </a:prstGeom>
          <a:noFill/>
          <a:ln w="95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>
            <a:hlinkClick r:id="rId1" action="ppaction://hlinksldjump"/>
          </p:cNvPr>
          <p:cNvSpPr/>
          <p:nvPr/>
        </p:nvSpPr>
        <p:spPr>
          <a:xfrm>
            <a:off x="611280" y="1052640"/>
            <a:ext cx="7777080" cy="3960720"/>
          </a:xfrm>
          <a:custGeom>
            <a:avLst/>
            <a:gdLst>
              <a:gd name="textAreaLeft" fmla="*/ 256680 w 7777080"/>
              <a:gd name="textAreaRight" fmla="*/ 7520400 w 7777080"/>
              <a:gd name="textAreaTop" fmla="*/ 256680 h 3960720"/>
              <a:gd name="textAreaBottom" fmla="*/ 3704040 h 3960720"/>
            </a:gdLst>
            <a:ahLst/>
            <a:rect l="textAreaLeft" t="textAreaTop" r="textAreaRight" b="textAreaBottom"/>
            <a:pathLst>
              <a:path w="42411" h="21600">
                <a:moveTo>
                  <a:pt x="0" y="0"/>
                </a:moveTo>
                <a:lnTo>
                  <a:pt x="42411" y="0"/>
                </a:lnTo>
                <a:lnTo>
                  <a:pt x="42411" y="21600"/>
                </a:lnTo>
                <a:lnTo>
                  <a:pt x="0" y="21600"/>
                </a:lnTo>
                <a:close/>
              </a:path>
              <a:path fill="lightenLess" w="42411" h="21600">
                <a:moveTo>
                  <a:pt x="0" y="0"/>
                </a:moveTo>
                <a:lnTo>
                  <a:pt x="42411" y="0"/>
                </a:lnTo>
                <a:lnTo>
                  <a:pt x="41011" y="1400"/>
                </a:lnTo>
                <a:lnTo>
                  <a:pt x="1400" y="1400"/>
                </a:lnTo>
                <a:close/>
              </a:path>
              <a:path fill="darken" w="42411" h="21600">
                <a:moveTo>
                  <a:pt x="42411" y="0"/>
                </a:moveTo>
                <a:lnTo>
                  <a:pt x="42411" y="21600"/>
                </a:lnTo>
                <a:lnTo>
                  <a:pt x="41011" y="20200"/>
                </a:lnTo>
                <a:lnTo>
                  <a:pt x="41011" y="1400"/>
                </a:lnTo>
                <a:close/>
              </a:path>
              <a:path fill="darkenLess" w="42411" h="21600">
                <a:moveTo>
                  <a:pt x="42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11" y="20200"/>
                </a:lnTo>
                <a:close/>
              </a:path>
              <a:path fill="lighten" w="42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чита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16_1"/>
          <p:cNvPicPr/>
          <p:nvPr/>
        </p:nvPicPr>
        <p:blipFill>
          <a:blip r:embed="rId2"/>
          <a:stretch/>
        </p:blipFill>
        <p:spPr>
          <a:xfrm rot="16200000">
            <a:off x="-2491920" y="3314520"/>
            <a:ext cx="571500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16_1"/>
          <p:cNvPicPr/>
          <p:nvPr/>
        </p:nvPicPr>
        <p:blipFill>
          <a:blip r:embed="rId3"/>
          <a:stretch/>
        </p:blipFill>
        <p:spPr>
          <a:xfrm rot="5400000">
            <a:off x="5860440" y="3314880"/>
            <a:ext cx="5715000" cy="2286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10"/>
          <p:cNvSpPr txBox="1"/>
          <p:nvPr/>
        </p:nvSpPr>
        <p:spPr>
          <a:xfrm>
            <a:off x="826920" y="3141720"/>
            <a:ext cx="734544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9-97+95-93+91-89+...+7-5+3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1403280" y="2205000"/>
            <a:ext cx="5832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21:11:34Z</dcterms:created>
  <dc:creator>Ольга Витальевна</dc:creator>
  <dc:description/>
  <dc:language>en-US</dc:language>
  <cp:lastModifiedBy>Пользователь Windows</cp:lastModifiedBy>
  <dcterms:modified xsi:type="dcterms:W3CDTF">2024-03-25T14:48:50Z</dcterms:modified>
  <cp:revision>29</cp:revision>
  <dc:subject/>
  <dc:title>Слайд 1</dc:title>
</cp:coreProperties>
</file>