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16.png" ContentType="image/pn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6D8-9092-4C4D-8448-D4F84E38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6B7-256D-4064-BC75-7B6698FD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AF5-BE1C-44BD-93E2-FB6BB2A4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6B7-B9A7-4CE0-9684-9D814B22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7CFE-A1CA-4687-B081-B90DFA77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AF33-6EBE-439A-AC24-32868B66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645C-3768-4590-9C6D-0662325A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7FB6-3636-4922-8A41-81EF68F2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1A0E-6E1F-4674-A032-ACE23B79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6690-D438-4807-A3EF-81D6663C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96BB-9EFF-4A4D-A79C-96F73B92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DA3-60E8-435C-AB6C-EFAB7E17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D5D4-E8C2-4D31-9A08-27B10EA3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6840-3DC1-41F4-9A43-43911B0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6C3D-7BFD-42AF-84CD-D769EDAF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4D74-62D9-4AF3-9BBC-BACF7991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CF49-4048-4172-8FFD-A4BC33A9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680D-5314-41C0-A387-47803FD6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4772-21B8-4199-9835-89813827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C5CF-79D6-4566-B6D9-7F200BB9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0C4E-EB4E-4F2B-AC18-A4F041C9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8368-D096-4E26-BB88-F277915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A7C-80DB-4F9A-89D0-5B03C235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F0AC-BC5B-49DF-A5A1-685337C9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DA61-A863-4E2A-A6D1-373F9D9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BBE8-570F-46B8-B5FD-65969B9E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6F4D-1DF5-4DCC-9F32-054A946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15BD-02F1-45E2-B855-240F0180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AE3C-7F77-4D8E-B9F5-76B91C27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1E49-AD14-4324-924D-1D99C3B0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5C9A-DD18-4699-BA9A-2F8C7172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2E9FC-B721-4E9D-AA2C-64F33804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071E-3CCA-4092-B5B7-F9E74CB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424-5F56-4EEE-940F-B7EBD2F1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81A2-3B73-447A-81E9-24F1608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A88C-01E3-4538-B0D6-445B073A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26E5-6D5A-43C8-BF7F-1036608D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F054-F3F1-4431-9911-90FECD2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C48B-B9D0-4581-9A60-C5613F2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D6059-455B-4E7A-ADA2-08E51C3F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804D-C8B2-4A59-B1FD-51A8598A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C07F-2CB9-48C8-BD0F-C08827A8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FF23A-D7FF-479D-9473-50889F73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F642-4D4C-4948-A4AB-5B4C1A9E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8A8-D7AE-4AC1-8D96-EA0852A9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C0903-8D8A-4EA4-808A-5DCB2E8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556E0-043B-4D8A-A40F-098CA3FE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F4346-708A-4141-9788-D9A4644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59117-B28B-44BF-9463-B71F969C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3A80A-50F3-4BFC-AD55-54E6DE58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C5A1C-727C-4FBB-ABFE-B1AAEF94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8B694-F124-4547-8178-A99264D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6A4DB-DB4E-4A67-B493-E788390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6D74E-F790-469D-914B-0AD72EA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B654-C920-465D-9F4E-E7CA6EB2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C3A-CF56-4BD1-9B3D-7C877354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FE78-8561-4B4B-BD9C-CE7B860D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656-37FF-4F97-8516-D0F1AD3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64D-B0BB-492F-8ABA-6BEFDA4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FAE-D387-4A24-BD65-A297FD2D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FC6D-2FB6-4279-96C6-0AF045C83C9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445E-5F2D-4AB3-B273-D3B5DC6BC39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2302-8453-4B5D-8166-B0B59D6865A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A3B1-F7BB-4982-AE3D-DB0095BF357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81F-323D-4BC2-A88E-722FD7B5FFC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755640" y="762120"/>
            <a:ext cx="7175520" cy="2047680"/>
          </a:xfrm>
          <a:prstGeom prst="rect">
            <a:avLst/>
          </a:prstGeom>
          <a:ln w="0">
            <a:noFill/>
          </a:ln>
        </p:spPr>
      </p:pic>
      <p:sp>
        <p:nvSpPr>
          <p:cNvPr id="266" name="Заголовок 1"/>
          <p:cNvSpPr/>
          <p:nvPr/>
        </p:nvSpPr>
        <p:spPr>
          <a:xfrm>
            <a:off x="971640" y="3068640"/>
            <a:ext cx="717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38412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        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юбили казаки свой край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          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 превратили его в рай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          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ахали, строили, служили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          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ычаи и веру сохранили.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68" name="Picture 2" descr="C:\Users\admin\Desktop\УГ\Урок\картинки\151.jpg"/>
          <p:cNvPicPr/>
          <p:nvPr/>
        </p:nvPicPr>
        <p:blipFill>
          <a:blip r:embed="rId2"/>
          <a:stretch/>
        </p:blipFill>
        <p:spPr>
          <a:xfrm>
            <a:off x="5419800" y="4127400"/>
            <a:ext cx="3017880" cy="22370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94920" y="5651280"/>
            <a:ext cx="5637240" cy="88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37302a"/>
              </a:solidFill>
              <a:latin typeface="Times New Roman"/>
            </a:endParaRPr>
          </a:p>
        </p:txBody>
      </p:sp>
      <p:pic>
        <p:nvPicPr>
          <p:cNvPr id="270" name="Picture 2" descr="https://wallpapershome.ru/images/pages/pic_h/6140.jpg"/>
          <p:cNvPicPr/>
          <p:nvPr/>
        </p:nvPicPr>
        <p:blipFill>
          <a:blip r:embed="rId3"/>
          <a:stretch/>
        </p:blipFill>
        <p:spPr>
          <a:xfrm>
            <a:off x="384120" y="4156200"/>
            <a:ext cx="4692600" cy="246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1835280" y="262080"/>
            <a:ext cx="6510240" cy="1139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http://img-2006-09.photosight.ru/17/1650351.jpg"/>
          <p:cNvPicPr/>
          <p:nvPr/>
        </p:nvPicPr>
        <p:blipFill>
          <a:blip r:embed="rId2"/>
          <a:stretch/>
        </p:blipFill>
        <p:spPr>
          <a:xfrm>
            <a:off x="395280" y="1341360"/>
            <a:ext cx="4105440" cy="2735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ukrhatka.narod.ru/Ukrainskaya20hata20vnutri201.jpg"/>
          <p:cNvPicPr/>
          <p:nvPr/>
        </p:nvPicPr>
        <p:blipFill>
          <a:blip r:embed="rId3"/>
          <a:stretch/>
        </p:blipFill>
        <p:spPr>
          <a:xfrm>
            <a:off x="4211640" y="3051000"/>
            <a:ext cx="4321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341440" y="285840"/>
            <a:ext cx="6510600" cy="1141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http://www.atamani.ru/sites/default/files/images/%D0%B7%D0%B0%D0%B6%D0%B8%D1%82%D0%BE%D1%87%D0%BD%D1%8B%D0%B9%20%D0%BA%D0%B0%D0%B7%D0%B0%D0%BA.JPG"/>
          <p:cNvPicPr/>
          <p:nvPr/>
        </p:nvPicPr>
        <p:blipFill>
          <a:blip r:embed="rId2"/>
          <a:stretch/>
        </p:blipFill>
        <p:spPr>
          <a:xfrm>
            <a:off x="3995640" y="3357720"/>
            <a:ext cx="4857840" cy="3240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admin\Desktop\УГ\d8d286f72618.jpg"/>
          <p:cNvPicPr/>
          <p:nvPr/>
        </p:nvPicPr>
        <p:blipFill>
          <a:blip r:embed="rId3"/>
          <a:stretch/>
        </p:blipFill>
        <p:spPr>
          <a:xfrm>
            <a:off x="376200" y="1125360"/>
            <a:ext cx="4181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316" name="Picture 4" descr="http://4put.ru/pictures/max/446/1370127.jpg"/>
          <p:cNvPicPr/>
          <p:nvPr/>
        </p:nvPicPr>
        <p:blipFill>
          <a:blip r:embed="rId1"/>
          <a:stretch/>
        </p:blipFill>
        <p:spPr>
          <a:xfrm>
            <a:off x="826920" y="549360"/>
            <a:ext cx="7620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860760" y="836640"/>
            <a:ext cx="781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18" name="Picture 2" descr="https://wallpapershome.ru/images/pages/pic_h/6140.jpg"/>
          <p:cNvPicPr/>
          <p:nvPr/>
        </p:nvPicPr>
        <p:blipFill>
          <a:blip r:embed="rId1"/>
          <a:stretch/>
        </p:blipFill>
        <p:spPr>
          <a:xfrm>
            <a:off x="933480" y="2205000"/>
            <a:ext cx="727704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1828800" y="262080"/>
            <a:ext cx="6516720" cy="1139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www.territa.ru/_ph/494/2/772658541.jpg"/>
          <p:cNvPicPr/>
          <p:nvPr/>
        </p:nvPicPr>
        <p:blipFill>
          <a:blip r:embed="rId2"/>
          <a:stretch/>
        </p:blipFill>
        <p:spPr>
          <a:xfrm>
            <a:off x="826920" y="1557360"/>
            <a:ext cx="7620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143000" y="73152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3"/>
          <p:cNvSpPr/>
          <p:nvPr/>
        </p:nvSpPr>
        <p:spPr>
          <a:xfrm>
            <a:off x="838080" y="1028880"/>
            <a:ext cx="776628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Book Antiqua"/>
              </a:rPr>
              <a:t>Тема урока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Казачья семья. Особенности казачьего быта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http://xn----htbc6aclibhc6h.xn--p1ai/upload/iblock/be7/be77cc79cf1e8d3d3448a1f68c699cce.jpg"/>
          <p:cNvPicPr/>
          <p:nvPr/>
        </p:nvPicPr>
        <p:blipFill>
          <a:blip r:embed="rId1"/>
          <a:stretch/>
        </p:blipFill>
        <p:spPr>
          <a:xfrm>
            <a:off x="368280" y="1655640"/>
            <a:ext cx="8007480" cy="48261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3" descr="https://images.ru.prom.st/373073536_w640_h640_chugunok-gorshok-chugunnyj.jpg"/>
          <p:cNvPicPr/>
          <p:nvPr/>
        </p:nvPicPr>
        <p:blipFill>
          <a:blip r:embed="rId2"/>
          <a:stretch/>
        </p:blipFill>
        <p:spPr>
          <a:xfrm>
            <a:off x="2995560" y="2330280"/>
            <a:ext cx="1327320" cy="137988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3081960" y="1008000"/>
            <a:ext cx="1113480" cy="119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49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рщ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ошк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ш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х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79" name="Picture 4" descr="https://fg-buy.ru/image/cache/data/products/99/d135beaeb031aa43de2e2f0ae8a6baa5-700x700.jpg"/>
          <p:cNvPicPr/>
          <p:nvPr/>
        </p:nvPicPr>
        <p:blipFill>
          <a:blip r:embed="rId3"/>
          <a:stretch/>
        </p:blipFill>
        <p:spPr>
          <a:xfrm>
            <a:off x="0" y="4341960"/>
            <a:ext cx="1927080" cy="1927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s://nsportal.ru/sites/default/files/2019/04/08/kuvshin.jpg"/>
          <p:cNvPicPr/>
          <p:nvPr/>
        </p:nvPicPr>
        <p:blipFill>
          <a:blip r:embed="rId4"/>
          <a:stretch/>
        </p:blipFill>
        <p:spPr>
          <a:xfrm>
            <a:off x="4054320" y="1968480"/>
            <a:ext cx="1806840" cy="18064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5"/>
          <p:cNvSpPr/>
          <p:nvPr/>
        </p:nvSpPr>
        <p:spPr>
          <a:xfrm>
            <a:off x="4509360" y="830160"/>
            <a:ext cx="956520" cy="119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49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етана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ивки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82" name="Picture 8" descr="https://cdn2.static1-sima-land.com/items/1163826/0/700-nw.jpg"/>
          <p:cNvPicPr/>
          <p:nvPr/>
        </p:nvPicPr>
        <p:blipFill>
          <a:blip r:embed="rId5"/>
          <a:stretch/>
        </p:blipFill>
        <p:spPr>
          <a:xfrm>
            <a:off x="5683320" y="2444760"/>
            <a:ext cx="1406520" cy="140508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10"/>
          <p:cNvSpPr/>
          <p:nvPr/>
        </p:nvSpPr>
        <p:spPr>
          <a:xfrm>
            <a:off x="5958000" y="1614600"/>
            <a:ext cx="826920" cy="916920"/>
          </a:xfrm>
          <a:prstGeom prst="rect">
            <a:avLst/>
          </a:prstGeom>
          <a:solidFill>
            <a:srgbClr val="ffffff"/>
          </a:solidFill>
          <a:ln w="15840">
            <a:solidFill>
              <a:srgbClr val="49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сто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орог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ощи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84" name="Picture 10" descr="http://dimru.ru/upload/shop_5/3/6/7/item_367/item_367.jpg"/>
          <p:cNvPicPr/>
          <p:nvPr/>
        </p:nvPicPr>
        <p:blipFill>
          <a:blip r:embed="rId6"/>
          <a:stretch/>
        </p:blipFill>
        <p:spPr>
          <a:xfrm>
            <a:off x="939960" y="1488960"/>
            <a:ext cx="2012760" cy="241308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1"/>
          <p:cNvSpPr/>
          <p:nvPr/>
        </p:nvSpPr>
        <p:spPr>
          <a:xfrm>
            <a:off x="893160" y="150840"/>
            <a:ext cx="2556720" cy="703440"/>
          </a:xfrm>
          <a:prstGeom prst="rect">
            <a:avLst/>
          </a:prstGeom>
          <a:solidFill>
            <a:srgbClr val="ffffff"/>
          </a:solidFill>
          <a:ln w="15840">
            <a:solidFill>
              <a:srgbClr val="6d6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едметы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6" name="Прямоугольник 11"/>
          <p:cNvSpPr/>
          <p:nvPr/>
        </p:nvSpPr>
        <p:spPr>
          <a:xfrm>
            <a:off x="2108160" y="3514680"/>
            <a:ext cx="192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угунок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7" name="Прямоугольник 12"/>
          <p:cNvSpPr/>
          <p:nvPr/>
        </p:nvSpPr>
        <p:spPr>
          <a:xfrm>
            <a:off x="171720" y="3740040"/>
            <a:ext cx="137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хват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Прямоугольник 13"/>
          <p:cNvSpPr/>
          <p:nvPr/>
        </p:nvSpPr>
        <p:spPr>
          <a:xfrm>
            <a:off x="4149000" y="351468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эчик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Прямоугольник 14"/>
          <p:cNvSpPr/>
          <p:nvPr/>
        </p:nvSpPr>
        <p:spPr>
          <a:xfrm>
            <a:off x="5810400" y="3495600"/>
            <a:ext cx="194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акитр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Прямоугольник 15"/>
          <p:cNvSpPr/>
          <p:nvPr/>
        </p:nvSpPr>
        <p:spPr>
          <a:xfrm>
            <a:off x="45360" y="1106640"/>
            <a:ext cx="19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мовар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Прямоугольник 16"/>
          <p:cNvSpPr/>
          <p:nvPr/>
        </p:nvSpPr>
        <p:spPr>
          <a:xfrm>
            <a:off x="5650920" y="146160"/>
            <a:ext cx="1335960" cy="703440"/>
          </a:xfrm>
          <a:prstGeom prst="rect">
            <a:avLst/>
          </a:prstGeom>
          <a:solidFill>
            <a:srgbClr val="ffffff"/>
          </a:solidFill>
          <a:ln w="15840">
            <a:solidFill>
              <a:srgbClr val="7475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ыт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Объект 4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143000" y="731520"/>
            <a:ext cx="6400800" cy="34750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"/>
          <p:cNvPicPr/>
          <p:nvPr/>
        </p:nvPicPr>
        <p:blipFill>
          <a:blip r:embed="rId2"/>
          <a:srcRect l="0" t="4610" r="0" b="0"/>
          <a:stretch/>
        </p:blipFill>
        <p:spPr>
          <a:xfrm>
            <a:off x="1793880" y="101520"/>
            <a:ext cx="6289560" cy="665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4359240" y="4340160"/>
            <a:ext cx="4230720" cy="32068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255240" y="691920"/>
            <a:ext cx="51800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404040"/>
                </a:solidFill>
                <a:latin typeface="Times New Roman"/>
              </a:rPr>
              <a:t>У</a:t>
            </a:r>
            <a:endParaRPr b="0" lang="en-US" sz="166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299" name="Picture 2" descr="http://www.zzima.com/forum/attachment.php?attachmentid=73678&amp;stc=1&amp;d=1316696376"/>
          <p:cNvPicPr/>
          <p:nvPr/>
        </p:nvPicPr>
        <p:blipFill>
          <a:blip r:embed="rId2"/>
          <a:stretch/>
        </p:blipFill>
        <p:spPr>
          <a:xfrm>
            <a:off x="2054160" y="762120"/>
            <a:ext cx="2803680" cy="2700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http://unchainedcoach.files.wordpress.com/2012/09/number7.gif"/>
          <p:cNvPicPr/>
          <p:nvPr/>
        </p:nvPicPr>
        <p:blipFill>
          <a:blip r:embed="rId3"/>
          <a:stretch/>
        </p:blipFill>
        <p:spPr>
          <a:xfrm>
            <a:off x="4657680" y="4138560"/>
            <a:ext cx="2449440" cy="27194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3"/>
          <p:cNvSpPr/>
          <p:nvPr/>
        </p:nvSpPr>
        <p:spPr>
          <a:xfrm>
            <a:off x="5651640" y="1844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Уклад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1563480" y="513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Семья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04937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305" name="Picture 2" descr="http://m-a-sholohov.ru/books/item/f00/s00/z0000003/pic/000025.jpg"/>
          <p:cNvPicPr/>
          <p:nvPr/>
        </p:nvPicPr>
        <p:blipFill>
          <a:blip r:embed="rId1"/>
          <a:stretch/>
        </p:blipFill>
        <p:spPr>
          <a:xfrm>
            <a:off x="203040" y="1052640"/>
            <a:ext cx="880128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Объект 4" descr=""/>
          <p:cNvPicPr/>
          <p:nvPr/>
        </p:nvPicPr>
        <p:blipFill>
          <a:blip r:embed="rId1"/>
          <a:stretch/>
        </p:blipFill>
        <p:spPr>
          <a:xfrm>
            <a:off x="414360" y="18900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20:31:23Z</dcterms:created>
  <dc:creator>admin</dc:creator>
  <dc:description/>
  <dc:language>en-US</dc:language>
  <cp:lastModifiedBy>Лена</cp:lastModifiedBy>
  <dcterms:modified xsi:type="dcterms:W3CDTF">2023-10-14T18:08:40Z</dcterms:modified>
  <cp:revision>37</cp:revision>
  <dc:subject/>
  <dc:title>Урок кубановед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420000000000010243100207f6000400038000</vt:lpwstr>
  </property>
</Properties>
</file>