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97F-4FD9-4066-B306-65C5E3B5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7D3-FA21-479E-84ED-E8B4284A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3D6-2AB9-4395-8059-B056DAB7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C1F-CD59-4754-A0C8-EF28B545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79D-1747-43D8-A398-5DCA3D09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10A-5235-45A5-A25F-06A4C68E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E42-CBDA-4533-AEF1-9812641F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36C7-1327-4396-815F-C84BF61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5B95-6004-41C9-ACF9-35DC98BC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C5F-FE53-4A9E-95EF-A67AFF19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600-5A15-43D9-AFEB-6EEFB137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E38-637E-43C9-B350-F6BD9F7E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0BA9-4250-4697-9DCB-89BBB3C997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savefrom.net/#url=http://youtube.com/watch?v=FYXpz-YqzQo&amp;utm_source=youtube.com&amp;utm_medium=short_domains&amp;utm_campaign=www.ssyoutube.com" TargetMode="External"/><Relationship Id="rId2" Type="http://schemas.openxmlformats.org/officeDocument/2006/relationships/hyperlink" Target="http://i29.mindmix.ru/16/72/407216/65/7448065/light_texture_by_Insan_Stock.jpeg" TargetMode="External"/><Relationship Id="rId3" Type="http://schemas.openxmlformats.org/officeDocument/2006/relationships/hyperlink" Target="http://34-rus.ru/uploads/posts/2011-06/1308076473_news_547.jpg" TargetMode="External"/><Relationship Id="rId4" Type="http://schemas.openxmlformats.org/officeDocument/2006/relationships/hyperlink" Target="http://hauscalls.net/wp-content/uploads/2013/10/teens-1012x600.jpg" TargetMode="External"/><Relationship Id="rId5" Type="http://schemas.openxmlformats.org/officeDocument/2006/relationships/hyperlink" Target="http://www.forsfortuna.com/uploads/posts/2010-09/1284312125_410.jpg" TargetMode="External"/><Relationship Id="rId6" Type="http://schemas.openxmlformats.org/officeDocument/2006/relationships/hyperlink" Target="http://edu.znate.ru/tw_files2/urls_44/3/d-2086/img4.jpg" TargetMode="External"/><Relationship Id="rId7" Type="http://schemas.openxmlformats.org/officeDocument/2006/relationships/hyperlink" Target="http://4.bp.blogspot.com/-s4e3fLXD84M/UzDtTbpHLuI/AAAAAAABS2k/iCI2Rv_DcTw/s1600/native+americans+Funeral_scaffold_of_a_Sioux_chief_0044v_crop+by+Karl+Bodmer+wiki+Sioux+tongva,+indians,+first+nations.jpg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orldpeople.su/image/ivan-iv-vasilevich-groznyj-25-08-1530-18-03-1584_2.png" TargetMode="External"/><Relationship Id="rId2" Type="http://schemas.openxmlformats.org/officeDocument/2006/relationships/hyperlink" Target="http://thejumppalace.com/sitebuilder/images/scroll-745x837.png" TargetMode="External"/><Relationship Id="rId3" Type="http://schemas.openxmlformats.org/officeDocument/2006/relationships/hyperlink" Target="http://www.pokrov-monastir.ru/UserFiles/images/004%2002%20pre.JPG" TargetMode="External"/><Relationship Id="rId4" Type="http://schemas.openxmlformats.org/officeDocument/2006/relationships/hyperlink" Target="http://vseromanovi.narod.ru/img/IMG2.jpg" TargetMode="External"/><Relationship Id="rId5" Type="http://schemas.openxmlformats.org/officeDocument/2006/relationships/hyperlink" Target="http://all-biography.ru/wp-content/uploads/2014/08/Petr-I.jpg" TargetMode="External"/><Relationship Id="rId6" Type="http://schemas.openxmlformats.org/officeDocument/2006/relationships/hyperlink" Target="http://www.fotopositiv.ru/images/dim-01.jpg" TargetMode="External"/><Relationship Id="rId7" Type="http://schemas.openxmlformats.org/officeDocument/2006/relationships/hyperlink" Target="http://www.takzdorovo.ru/images/a9/c46/8445c664a2447d6dd041e49e647/img.jpg" TargetMode="External"/><Relationship Id="rId8" Type="http://schemas.openxmlformats.org/officeDocument/2006/relationships/hyperlink" Target="http://img0.liveinternet.ru/images/attach/c/10/110/914/110914514_zzperat1qy.jpg" TargetMode="External"/><Relationship Id="rId9" Type="http://schemas.openxmlformats.org/officeDocument/2006/relationships/hyperlink" Target="http://www.vitaminius.ru/vitaminy/vitaminy-dlja-serdca-i-sosudov.jpg" TargetMode="External"/><Relationship Id="rId10" Type="http://schemas.openxmlformats.org/officeDocument/2006/relationships/hyperlink" Target="http://go4.imgsmail.ru/imgpreview?key=7ec1c34307fc61b9&amp;mb=imgdb_preview_973" TargetMode="Externa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9.pn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1919160" y="5424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55640" y="1773360"/>
            <a:ext cx="813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Дым вокруг от сигарет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не в этом дыме места 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неклассное занят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-конечная звезда 6">
            <a:hlinkClick r:id="rId2" action="ppaction://hlinksldjump"/>
          </p:cNvPr>
          <p:cNvSpPr/>
          <p:nvPr/>
        </p:nvSpPr>
        <p:spPr>
          <a:xfrm>
            <a:off x="8028000" y="5877000"/>
            <a:ext cx="900000" cy="62712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880 h 627120"/>
              <a:gd name="textAreaBottom" fmla="*/ 534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im-01"/>
          <p:cNvPicPr/>
          <p:nvPr/>
        </p:nvPicPr>
        <p:blipFill>
          <a:blip r:embed="rId2"/>
          <a:stretch/>
        </p:blipFill>
        <p:spPr>
          <a:xfrm>
            <a:off x="2195640" y="1628640"/>
            <a:ext cx="4868640" cy="3043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grpSp>
        <p:nvGrpSpPr>
          <p:cNvPr id="107" name="Group 17"/>
          <p:cNvGrpSpPr/>
          <p:nvPr/>
        </p:nvGrpSpPr>
        <p:grpSpPr>
          <a:xfrm>
            <a:off x="1547640" y="1341360"/>
            <a:ext cx="5786640" cy="3614400"/>
            <a:chOff x="1547640" y="1341360"/>
            <a:chExt cx="5786640" cy="3614400"/>
          </a:xfrm>
        </p:grpSpPr>
        <p:pic>
          <p:nvPicPr>
            <p:cNvPr id="108" name="Picture 19" descr="after"/>
            <p:cNvPicPr/>
            <p:nvPr/>
          </p:nvPicPr>
          <p:blipFill>
            <a:blip r:embed="rId3"/>
            <a:stretch/>
          </p:blipFill>
          <p:spPr>
            <a:xfrm>
              <a:off x="4427640" y="1341360"/>
              <a:ext cx="2906640" cy="36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8" descr="before"/>
            <p:cNvPicPr/>
            <p:nvPr/>
          </p:nvPicPr>
          <p:blipFill>
            <a:blip r:embed="rId4"/>
            <a:stretch/>
          </p:blipFill>
          <p:spPr>
            <a:xfrm>
              <a:off x="1547640" y="1341360"/>
              <a:ext cx="2907000" cy="361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Рисунок 15" descr="wz[1].jpg"/>
          <p:cNvPicPr/>
          <p:nvPr/>
        </p:nvPicPr>
        <p:blipFill>
          <a:blip r:embed="rId5"/>
          <a:stretch/>
        </p:blipFill>
        <p:spPr>
          <a:xfrm>
            <a:off x="1619280" y="1557360"/>
            <a:ext cx="5794200" cy="3129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070718001823-large"/>
          <p:cNvPicPr/>
          <p:nvPr/>
        </p:nvPicPr>
        <p:blipFill>
          <a:blip r:embed="rId6"/>
          <a:stretch/>
        </p:blipFill>
        <p:spPr>
          <a:xfrm>
            <a:off x="2916360" y="907920"/>
            <a:ext cx="2873160" cy="4206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53390743"/>
          <p:cNvPicPr/>
          <p:nvPr/>
        </p:nvPicPr>
        <p:blipFill>
          <a:blip r:embed="rId7"/>
          <a:stretch/>
        </p:blipFill>
        <p:spPr>
          <a:xfrm>
            <a:off x="2627280" y="1413000"/>
            <a:ext cx="3638520" cy="3638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krov"/>
          <p:cNvPicPr/>
          <p:nvPr/>
        </p:nvPicPr>
        <p:blipFill>
          <a:blip r:embed="rId8"/>
          <a:stretch/>
        </p:blipFill>
        <p:spPr>
          <a:xfrm>
            <a:off x="2916360" y="333360"/>
            <a:ext cx="2714400" cy="5505480"/>
          </a:xfrm>
          <a:prstGeom prst="rect">
            <a:avLst/>
          </a:prstGeom>
          <a:ln w="0">
            <a:noFill/>
          </a:ln>
        </p:spPr>
      </p:pic>
      <p:pic>
        <p:nvPicPr>
          <p:cNvPr id="114" name="здоровое сердце.mp3" descr=""/>
          <p:cNvPicPr/>
          <p:nvPr/>
        </p:nvPicPr>
        <p:blipFill>
          <a:blip r:embed="rId9"/>
          <a:stretch/>
        </p:blipFill>
        <p:spPr>
          <a:xfrm>
            <a:off x="709308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сердце курящего.mp3" descr=""/>
          <p:cNvPicPr/>
          <p:nvPr/>
        </p:nvPicPr>
        <p:blipFill>
          <a:blip r:embed="rId10"/>
          <a:stretch/>
        </p:blipFill>
        <p:spPr>
          <a:xfrm>
            <a:off x="8101080" y="260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http://www.fotopositiv.ru/images/dim-01.jpg"/>
          <p:cNvPicPr/>
          <p:nvPr/>
        </p:nvPicPr>
        <p:blipFill>
          <a:blip r:embed="rId11"/>
          <a:stretch/>
        </p:blipFill>
        <p:spPr>
          <a:xfrm>
            <a:off x="1692360" y="1484280"/>
            <a:ext cx="5575320" cy="3484440"/>
          </a:xfrm>
          <a:prstGeom prst="rect">
            <a:avLst/>
          </a:prstGeom>
          <a:ln w="0">
            <a:noFill/>
          </a:ln>
        </p:spPr>
      </p:pic>
      <p:sp>
        <p:nvSpPr>
          <p:cNvPr id="117" name="Стрелка вправо 18"/>
          <p:cNvSpPr/>
          <p:nvPr/>
        </p:nvSpPr>
        <p:spPr>
          <a:xfrm>
            <a:off x="5796000" y="508464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4-конечная звезда 19">
            <a:hlinkClick r:id="rId12" action="ppaction://hlinksldjump"/>
          </p:cNvPr>
          <p:cNvSpPr/>
          <p:nvPr/>
        </p:nvSpPr>
        <p:spPr>
          <a:xfrm>
            <a:off x="8028000" y="5877000"/>
            <a:ext cx="900000" cy="62712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880 h 627120"/>
              <a:gd name="textAreaBottom" fmla="*/ 534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592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359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4-конечная звезда 5">
            <a:hlinkClick r:id="rId2" action="ppaction://hlinksldjump"/>
          </p:cNvPr>
          <p:cNvSpPr/>
          <p:nvPr/>
        </p:nvSpPr>
        <p:spPr>
          <a:xfrm>
            <a:off x="8028000" y="6021360"/>
            <a:ext cx="900000" cy="62568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520 h 625680"/>
              <a:gd name="textAreaBottom" fmla="*/ 533160 h 62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видеофрагмент.mp4" descr=""/>
          <p:cNvPicPr/>
          <p:nvPr/>
        </p:nvPicPr>
        <p:blipFill>
          <a:blip r:embed="rId3"/>
          <a:stretch/>
        </p:blipFill>
        <p:spPr>
          <a:xfrm>
            <a:off x="1042920" y="765000"/>
            <a:ext cx="7042320" cy="475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539640" y="1268280"/>
            <a:ext cx="860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России из-за курения преждевременно умирает400000 человек в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996560" y="3429000"/>
            <a:ext cx="483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то 1000 человек в д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4-конечная звезда 7">
            <a:hlinkClick r:id="rId2" action="ppaction://hlinksldjump"/>
          </p:cNvPr>
          <p:cNvSpPr/>
          <p:nvPr/>
        </p:nvSpPr>
        <p:spPr>
          <a:xfrm>
            <a:off x="8028000" y="6021360"/>
            <a:ext cx="900000" cy="62568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520 h 625680"/>
              <a:gd name="textAreaBottom" fmla="*/ 533160 h 62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73721788_57929344_light_texture_by_Insan_Stoc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4"/>
          <p:cNvSpPr/>
          <p:nvPr/>
        </p:nvSpPr>
        <p:spPr>
          <a:xfrm flipH="1">
            <a:off x="2313000" y="620640"/>
            <a:ext cx="5067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539640" y="404640"/>
            <a:ext cx="78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читайте вопросы и постарайтесь каждый для себя на них ответ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онравилось ли тебе сегодняшнее занятие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Чем оно было полезно  для т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 Что нового ты узна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Как оцениваешь свою рабо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4-конечная звезда 6">
            <a:hlinkClick r:id="rId3" action="ppaction://hlinksldjump"/>
          </p:cNvPr>
          <p:cNvSpPr/>
          <p:nvPr/>
        </p:nvSpPr>
        <p:spPr>
          <a:xfrm>
            <a:off x="8028000" y="6021360"/>
            <a:ext cx="900000" cy="62568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520 h 625680"/>
              <a:gd name="textAreaBottom" fmla="*/ 533160 h 62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73721788_57929344_light_texture_by_Insan_Stoc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0" y="2781360"/>
            <a:ext cx="8748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5000" spc="-1" strike="noStrike">
                <a:solidFill>
                  <a:srgbClr val="ff0000"/>
                </a:solidFill>
                <a:latin typeface="Arial"/>
              </a:rPr>
              <a:t>СПАСИБО ЗА РАБОТ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134440" y="54936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емые 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324000" y="1125360"/>
            <a:ext cx="835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офрагмент(по материалам док.фильма «Секреты манипуляции – таба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savefrom.net/#url=http://youtube.com/watch?v=FYXpz-YqzQo&amp;utm_source=youtube.com&amp;utm_medium=short_domains&amp;utm_campaign=www.ss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29.mindmix.ru/16/72/407216/65/7448065/light_texture_by_Insan_Stock.jp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34-rus.ru/uploads/posts/2011-06/1308076473_news_54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hauscalls.net/wp-content/uploads/2013/10/teens-1012x60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sfortuna.com/uploads/posts/2010-09/1284312125_41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edu.znate.ru/tw_files2/urls_44/3/d-2086/img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4.bp.blogspot.com/-s4e3fLXD84M/UzDtTbpHLuI/AAAAAAABS2k/iCI2Rv_DcTw/s1600/native+americans+Funeral_scaffold_of_a_Sioux_chief_0044v_crop+by+Karl+Bodmer+wiki+Sioux+tongva,+indians,+first+nations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50920" y="620640"/>
            <a:ext cx="7921440" cy="10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people.su/image/ivan-iv-vasilevich-groznyj-25-08-1530-18-03-1584_2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7,8,9 (свит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hejumppalace.com/sitebuilder/images/scroll-745x83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okrov-monastir.ru/UserFiles/images/004%2002%20pr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seromanovi.narod.ru/img/IMG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ll-biography.ru/wp-content/uploads/2014/08/Petr-I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topositiv.ru/images/dim-0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akzdorovo.ru/images/a9/c46/8445c664a2447d6dd041e49e647/im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mg0.liveinternet.ru/images/attach/c/10/110/914/110914514_zzperat1qy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vitaminius.ru/vitaminy/vitaminy-dlja-serdca-i-sosudo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go4.imgsmail.ru/imgpreview?key=7ec1c34307fc61b9&amp;mb=imgdb_preview_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250920" y="69228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  «бьющееся сердц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ownload-sounds.ru/wp-content/uploads3/2012/05/4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спецсервис.рф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/IMG_192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otopositiv.ru/images/dim-0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download-sounds.ru/wp-content/uploads3/2012/05/4.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1276852636_512"/>
          <p:cNvPicPr/>
          <p:nvPr/>
        </p:nvPicPr>
        <p:blipFill>
          <a:blip r:embed="rId2"/>
          <a:srcRect l="0" t="0" r="0" b="-33"/>
          <a:stretch/>
        </p:blipFill>
        <p:spPr>
          <a:xfrm>
            <a:off x="1619280" y="333360"/>
            <a:ext cx="5975280" cy="490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-391320" y="5445000"/>
            <a:ext cx="9536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ым вокруг от сигарет – мне в этом дыме места нет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-конечная звезда 4">
            <a:hlinkClick r:id="rId3" action="ppaction://hlinksldjump"/>
          </p:cNvPr>
          <p:cNvSpPr/>
          <p:nvPr/>
        </p:nvSpPr>
        <p:spPr>
          <a:xfrm>
            <a:off x="8028000" y="6021360"/>
            <a:ext cx="900000" cy="62568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520 h 625680"/>
              <a:gd name="textAreaBottom" fmla="*/ 533160 h 62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410200" y="692280"/>
            <a:ext cx="400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УРЕНИЕ  УБИВА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91560" y="2205000"/>
            <a:ext cx="6849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УРЕНИЕ СПОСОБСТВУЕТ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ВИТ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ЕИЗЛЕЧИМЫХ БОЛЕЗН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402200" y="4797360"/>
            <a:ext cx="628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УРЕНИЕ  СОКРАЩАЕТ  ЖИЗ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-конечная звезда 6">
            <a:hlinkClick r:id="rId2" action="ppaction://hlinksldjump"/>
          </p:cNvPr>
          <p:cNvSpPr/>
          <p:nvPr/>
        </p:nvSpPr>
        <p:spPr>
          <a:xfrm>
            <a:off x="8028000" y="5877000"/>
            <a:ext cx="900000" cy="62712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880 h 627120"/>
              <a:gd name="textAreaBottom" fmla="*/ 534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494520" y="404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Т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917800" y="98100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РОССИИ КУР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 Миллиона подро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 flipH="1">
            <a:off x="2916360" y="1773360"/>
            <a:ext cx="720720" cy="100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5148360" y="1773360"/>
            <a:ext cx="792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260360" y="285264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миллиона юнош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565164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222880" y="2852640"/>
            <a:ext cx="27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5 миллиона деву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0" descr="teens-1012x600.jpg"/>
          <p:cNvPicPr/>
          <p:nvPr/>
        </p:nvPicPr>
        <p:blipFill>
          <a:blip r:embed="rId2"/>
          <a:stretch/>
        </p:blipFill>
        <p:spPr>
          <a:xfrm>
            <a:off x="1763640" y="3357720"/>
            <a:ext cx="5435640" cy="322236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65" name="4-конечная звезда 10">
            <a:hlinkClick r:id="rId3" action="ppaction://hlinksldjump"/>
          </p:cNvPr>
          <p:cNvSpPr/>
          <p:nvPr/>
        </p:nvSpPr>
        <p:spPr>
          <a:xfrm>
            <a:off x="8028000" y="5877000"/>
            <a:ext cx="900000" cy="62712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880 h 627120"/>
              <a:gd name="textAreaBottom" fmla="*/ 534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img13"/>
          <p:cNvPicPr/>
          <p:nvPr/>
        </p:nvPicPr>
        <p:blipFill>
          <a:blip r:embed="rId2"/>
          <a:srcRect l="0" t="18898" r="0" b="0"/>
          <a:stretch/>
        </p:blipFill>
        <p:spPr>
          <a:xfrm>
            <a:off x="468360" y="476280"/>
            <a:ext cx="4962600" cy="3017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69" name="Picture 10" descr="article-image"/>
          <p:cNvPicPr/>
          <p:nvPr/>
        </p:nvPicPr>
        <p:blipFill>
          <a:blip r:embed="rId3"/>
          <a:stretch/>
        </p:blipFill>
        <p:spPr>
          <a:xfrm>
            <a:off x="6012000" y="333360"/>
            <a:ext cx="2790720" cy="3357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70" name="Picture 3" descr="D:\Рабочая папка\Курсы Дубна  2011 2 пг\00016e8s.jpeg"/>
          <p:cNvPicPr/>
          <p:nvPr/>
        </p:nvPicPr>
        <p:blipFill>
          <a:blip r:embed="rId4"/>
          <a:stretch/>
        </p:blipFill>
        <p:spPr>
          <a:xfrm>
            <a:off x="108000" y="1052640"/>
            <a:ext cx="5976720" cy="44812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71" name="Text Box 11"/>
          <p:cNvSpPr/>
          <p:nvPr/>
        </p:nvSpPr>
        <p:spPr>
          <a:xfrm>
            <a:off x="5222880" y="3933720"/>
            <a:ext cx="3760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ХРИСТОФОР  КОЛУМ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-конечная звезда 8">
            <a:hlinkClick r:id="rId5" action="ppaction://hlinksldjump"/>
          </p:cNvPr>
          <p:cNvSpPr/>
          <p:nvPr/>
        </p:nvSpPr>
        <p:spPr>
          <a:xfrm>
            <a:off x="8028000" y="5877000"/>
            <a:ext cx="900000" cy="62712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880 h 627120"/>
              <a:gd name="textAreaBottom" fmla="*/ 534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77500283_large_grosni"/>
          <p:cNvPicPr/>
          <p:nvPr/>
        </p:nvPicPr>
        <p:blipFill>
          <a:blip r:embed="rId2"/>
          <a:stretch/>
        </p:blipFill>
        <p:spPr>
          <a:xfrm>
            <a:off x="2700360" y="620640"/>
            <a:ext cx="3236760" cy="36752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77" name="Text Box 7"/>
          <p:cNvSpPr/>
          <p:nvPr/>
        </p:nvSpPr>
        <p:spPr>
          <a:xfrm>
            <a:off x="3208320" y="47242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 ГР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-конечная звезда 6">
            <a:hlinkClick r:id="rId3" action="ppaction://hlinksldjump"/>
          </p:cNvPr>
          <p:cNvSpPr/>
          <p:nvPr/>
        </p:nvSpPr>
        <p:spPr>
          <a:xfrm>
            <a:off x="8028000" y="5877000"/>
            <a:ext cx="900000" cy="62712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880 h 627120"/>
              <a:gd name="textAreaBottom" fmla="*/ 534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mihail_romanov"/>
          <p:cNvPicPr/>
          <p:nvPr/>
        </p:nvPicPr>
        <p:blipFill>
          <a:blip r:embed="rId2"/>
          <a:stretch/>
        </p:blipFill>
        <p:spPr>
          <a:xfrm>
            <a:off x="971640" y="765000"/>
            <a:ext cx="2786040" cy="35499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83" name="Text Box 7"/>
          <p:cNvSpPr/>
          <p:nvPr/>
        </p:nvSpPr>
        <p:spPr>
          <a:xfrm>
            <a:off x="984240" y="4797360"/>
            <a:ext cx="24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АИЛ  РОМ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8" descr="scroll-745x837.png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5540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4321440" y="1197000"/>
            <a:ext cx="44240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КА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РЯЩЕМУ ЧЕЛОВЕ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. ОТРЕЗАЛИ НОС И 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. 60 УДАРОВ ПАЛ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СТУПН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-конечная звезда 8">
            <a:hlinkClick r:id="rId4" action="ppaction://hlinksldjump"/>
          </p:cNvPr>
          <p:cNvSpPr/>
          <p:nvPr/>
        </p:nvSpPr>
        <p:spPr>
          <a:xfrm>
            <a:off x="8028000" y="5877000"/>
            <a:ext cx="900000" cy="62712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880 h 627120"/>
              <a:gd name="textAreaBottom" fmla="*/ 534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MG2"/>
          <p:cNvPicPr/>
          <p:nvPr/>
        </p:nvPicPr>
        <p:blipFill>
          <a:blip r:embed="rId2"/>
          <a:stretch/>
        </p:blipFill>
        <p:spPr>
          <a:xfrm>
            <a:off x="826920" y="476280"/>
            <a:ext cx="2967120" cy="4041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sp>
        <p:nvSpPr>
          <p:cNvPr id="91" name="Text Box 7"/>
          <p:cNvSpPr/>
          <p:nvPr/>
        </p:nvSpPr>
        <p:spPr>
          <a:xfrm>
            <a:off x="758520" y="47973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ЕЙ 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076720" y="155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9" descr="scroll-745x837.png"/>
          <p:cNvPicPr/>
          <p:nvPr/>
        </p:nvPicPr>
        <p:blipFill>
          <a:blip r:embed="rId3"/>
          <a:stretch/>
        </p:blipFill>
        <p:spPr>
          <a:xfrm>
            <a:off x="4211640" y="404640"/>
            <a:ext cx="4932360" cy="5540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4579560" y="1844640"/>
            <a:ext cx="411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ЫВАЛ БИТЬ КНУ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ИЛЬЩИКА  ПОКА ТОТ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АЗЫВАЛ  У КОГО КУПИЛ ТАБ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4-конечная звезда 9">
            <a:hlinkClick r:id="rId4" action="ppaction://hlinksldjump"/>
          </p:cNvPr>
          <p:cNvSpPr/>
          <p:nvPr/>
        </p:nvSpPr>
        <p:spPr>
          <a:xfrm>
            <a:off x="8028000" y="5877000"/>
            <a:ext cx="900000" cy="62712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880 h 627120"/>
              <a:gd name="textAreaBottom" fmla="*/ 534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73721788_57929344_light_texture_by_Insan_Sto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Петр I Великий"/>
          <p:cNvPicPr/>
          <p:nvPr/>
        </p:nvPicPr>
        <p:blipFill>
          <a:blip r:embed="rId2"/>
          <a:stretch/>
        </p:blipFill>
        <p:spPr>
          <a:xfrm>
            <a:off x="755640" y="692280"/>
            <a:ext cx="3546360" cy="4219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9"/>
          <p:cNvSpPr/>
          <p:nvPr/>
        </p:nvSpPr>
        <p:spPr>
          <a:xfrm>
            <a:off x="1909080" y="537372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АР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ЁТР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scroll-745x837.png"/>
          <p:cNvPicPr/>
          <p:nvPr/>
        </p:nvPicPr>
        <p:blipFill>
          <a:blip r:embed="rId3"/>
          <a:stretch/>
        </p:blipFill>
        <p:spPr>
          <a:xfrm>
            <a:off x="4211640" y="0"/>
            <a:ext cx="4932360" cy="5540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5006160" y="191628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НЯЛ  ЗАПРЕТ  НА  КУ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-конечная звезда 7">
            <a:hlinkClick r:id="rId4" action="ppaction://hlinksldjump"/>
          </p:cNvPr>
          <p:cNvSpPr/>
          <p:nvPr/>
        </p:nvSpPr>
        <p:spPr>
          <a:xfrm>
            <a:off x="8028000" y="5877000"/>
            <a:ext cx="900000" cy="627120"/>
          </a:xfrm>
          <a:custGeom>
            <a:avLst/>
            <a:gdLst>
              <a:gd name="textAreaLeft" fmla="*/ 133200 w 900000"/>
              <a:gd name="textAreaRight" fmla="*/ 766800 w 900000"/>
              <a:gd name="textAreaTop" fmla="*/ 92880 h 627120"/>
              <a:gd name="textAreaBottom" fmla="*/ 534240 h 62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c00000">
              <a:alpha val="44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7:11:15Z</dcterms:created>
  <dc:creator>ирина николаевна</dc:creator>
  <dc:description/>
  <dc:language>en-US</dc:language>
  <cp:lastModifiedBy>Lenovo</cp:lastModifiedBy>
  <dcterms:modified xsi:type="dcterms:W3CDTF">2017-06-23T21:02:28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20000000000010243100207f6000400038000</vt:lpwstr>
  </property>
</Properties>
</file>