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9C3-7679-4A9C-AE52-8ACB2E47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81D-CBD6-44E5-9C27-6C59DC0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6A7-C736-4E93-85C5-BFB9CD2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C6F-5F92-41EC-A01E-9D28C34F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0E5-BECF-4D3F-8D47-C07A3D5F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50A-81E5-4877-93B8-41317EE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E3FF-6606-48C5-8817-D22227A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0C4C-E11D-42FE-9B9D-11B7D89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A6A9-A0C5-4791-9BAB-FDD7BC6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F21-4355-4B86-9F8F-9069FC0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B5A-40DD-4917-895C-343B89F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DF0-7367-4BD3-8BCB-D88AFE06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C4A-94EB-4776-8874-4FE8D61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DDE-BF29-424B-97CF-7B70B0BA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318A-D7F6-4254-B117-7BAE03B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449-BDD0-4588-9ED4-43F0F617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493-C75D-442A-88D3-4C4B2C8C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959-942C-4161-8C30-BEFFCEC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8F6-4C9C-43E6-8EAC-257BEAD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A3C-0672-4D36-A97B-E54F483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509-D6C9-4CEA-AC8F-B466808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2F1-D949-4A7E-BB3E-CD3AF87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EE5-50BD-407B-9A32-DC4C1CF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7D3-7F3B-4F49-A4A0-09B6656D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840-9DF0-478F-A41F-4297CEDD80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383-51B8-464E-832C-E9BA693E865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2349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иды тригонометрических уравнений и способы их решения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6204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равнения, квадратные относительно тригонометрической функци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ригонометрических квадратных уравнений – введение новой переменной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решение квадратного уравнения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t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62040" y="141264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днородные уравнения 1-го порядк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деление обеих частей уравнения на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x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сведение данного уравнения к уравнению вид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днородные уравнения 2-го порядк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деление обеих частей уравнения на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сведение уравнения к уравнению вид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g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tgx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ти однородное уравнение 1-го порядка: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изменить углы у тригонометрических функци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.Почти однородное уравнение 2-го порядка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замени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решать как однородно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6204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7. Уравнения, решаемые по алгебраическим и тригонометрическим формул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Тригонометрическое уравнение</a:t>
            </a:r>
            <a:r>
              <a:rPr b="0" i="1" lang="ru-RU" sz="4400" spc="-1" strike="noStrike">
                <a:solidFill>
                  <a:srgbClr val="ffffcc"/>
                </a:solidFill>
                <a:latin typeface="Times New Roman"/>
              </a:rPr>
              <a:t> -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это уравнение, содержащее неизвестные под знаком тригонометрической функции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9"/>
          <p:cNvSpPr/>
          <p:nvPr/>
        </p:nvSpPr>
        <p:spPr>
          <a:xfrm>
            <a:off x="1258920" y="476280"/>
            <a:ext cx="78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Говорят, что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тригонометрическом уравнении одинаковые углы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если все тригонометрические функции, входящие в него, имеют равные аргументы, например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3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68436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Говорят, что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тригонометрическом уравнении одинаковые функции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если оно содержит только одну из тригонометрических функций, например, 3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g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g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– 1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61680" y="1052640"/>
            <a:ext cx="83026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тепенью одночлена, содержащего тригонометрическую функцию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зывается сумма показателей степеней тригонометрических функций, входящих в него,  например,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– 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61680" y="907560"/>
            <a:ext cx="81579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Уравнение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днородным,</a:t>
            </a: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сли все одночлены имеют одну и ту же степень (она называется порядком уравнения), а сами тригонометрические функции имеют равные углы и число одночленов на 1 больше порядка уравнения, например,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6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– 4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6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62040" y="1267920"/>
            <a:ext cx="823104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Уравнение называетс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чти однородным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если один из одночленов - число, а степени остальных – равны, например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4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1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129800" cy="49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Виды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тригонометрических уравн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62040" y="12679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стейшее тригонометрическое уравнение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(простейшее тригонометрическое уравнение со сложным аргументом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k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(x-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стейших тригонометрических уравнений – по формула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17:51Z</dcterms:created>
  <dc:creator>KOSMOS</dc:creator>
  <dc:description/>
  <dc:language>en-US</dc:language>
  <cp:lastModifiedBy>ЗАМУВР</cp:lastModifiedBy>
  <dcterms:modified xsi:type="dcterms:W3CDTF">2023-02-17T02:42:37Z</dcterms:modified>
  <cp:revision>12</cp:revision>
  <dc:subject/>
  <dc:title>Открытый урок в10 «В» классе</dc:title>
</cp:coreProperties>
</file>