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ED5A-8E59-4346-BF51-72DFC14E3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D740-64F0-4CEA-A4BF-33341148A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2E3-7909-4717-A30D-CFBB5B45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991-791B-4F5B-9193-229E3760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60D-67C1-40BE-BA9B-0AD773DB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888-A792-45A8-8073-275BEEBB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46B-C68C-4834-962D-F6FE05E8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9D9-A7D9-4E51-80A7-377906C3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C21-1C81-4ED8-8ABD-220071A5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918-6F24-43E4-B51F-06392A8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B1B-1233-42CE-ABFC-E8EB7A10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C1C-12C8-4870-9A47-0A181B4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645-8F99-449F-898B-36E025E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E4E-A7C2-43F6-AB60-8717834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FDD-DC6B-4119-9127-29805DEF4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317520" y="-6480"/>
            <a:ext cx="8461440" cy="3225960"/>
            <a:chOff x="317520" y="-6480"/>
            <a:chExt cx="8461440" cy="3225960"/>
          </a:xfrm>
        </p:grpSpPr>
        <p:pic>
          <p:nvPicPr>
            <p:cNvPr id="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17520" y="-6480"/>
              <a:ext cx="8461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24000" y="0"/>
              <a:ext cx="8445240" cy="32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400"/>
              </a:br>
              <a:r>
                <a:rPr b="1" lang="ru-RU" sz="6000" spc="-1" strike="noStrike">
                  <a:solidFill>
                    <a:srgbClr val="262673"/>
                  </a:solidFill>
                  <a:latin typeface="Monotype Corsiva"/>
                </a:rPr>
                <a:t> </a:t>
              </a:r>
              <a:r>
                <a:rPr b="1" lang="ru-RU" sz="6000" spc="-1" strike="noStrike">
                  <a:solidFill>
                    <a:srgbClr val="262673"/>
                  </a:solidFill>
                  <a:latin typeface="Monotype Corsiva"/>
                </a:rPr>
                <a:t>« </a:t>
              </a:r>
              <a:r>
                <a:rPr b="1" lang="ru-RU" sz="4400" spc="-1" strike="noStrike">
                  <a:solidFill>
                    <a:srgbClr val="262673"/>
                  </a:solidFill>
                  <a:latin typeface="Monotype Corsiva"/>
                </a:rPr>
                <a:t>Торопитесь любить</a:t>
              </a: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…</a:t>
              </a:r>
              <a:br>
                <a:rPr sz="4400"/>
              </a:br>
              <a:r>
                <a:rPr b="1" lang="ru-RU" sz="4400" spc="-1" strike="noStrike">
                  <a:solidFill>
                    <a:srgbClr val="262673"/>
                  </a:solidFill>
                  <a:latin typeface="Monotype Corsiva"/>
                </a:rPr>
                <a:t> Торопитесь друг друга беречь …»</a:t>
              </a:r>
              <a:br>
                <a:rPr sz="4400"/>
              </a:b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ru-RU" sz="44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по рассказу  Б. П. Екимова</a:t>
              </a:r>
              <a:br>
                <a:rPr sz="4400"/>
              </a:br>
              <a:r>
                <a:rPr b="1" lang="ru-RU" sz="4400" spc="-1" strike="noStrike">
                  <a:solidFill>
                    <a:srgbClr val="000000"/>
                  </a:solidFill>
                  <a:latin typeface="Monotype Corsiva"/>
                  <a:ea typeface="Times New Roman"/>
                </a:rPr>
                <a:t> «Родня»)</a:t>
              </a:r>
              <a:br>
                <a:rPr sz="3600"/>
              </a:br>
              <a:br>
                <a:rPr sz="24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Екимов 2"/>
          <p:cNvPicPr/>
          <p:nvPr/>
        </p:nvPicPr>
        <p:blipFill>
          <a:blip r:embed="rId2"/>
          <a:stretch/>
        </p:blipFill>
        <p:spPr>
          <a:xfrm>
            <a:off x="5867280" y="3429000"/>
            <a:ext cx="2881440" cy="2478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7"/>
          <p:cNvSpPr txBox="1"/>
          <p:nvPr/>
        </p:nvSpPr>
        <p:spPr>
          <a:xfrm>
            <a:off x="826920" y="0"/>
            <a:ext cx="662472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262673"/>
                </a:solidFill>
                <a:latin typeface="Times New Roman"/>
              </a:rPr>
              <a:t>Борис Екимов – </a:t>
            </a:r>
            <a:endParaRPr b="1" i="1" lang="en-US" sz="1800" spc="1" strike="noStrike">
              <a:ln w="0">
                <a:noFill/>
              </a:ln>
              <a:solidFill>
                <a:srgbClr val="26267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262673"/>
                </a:solidFill>
                <a:latin typeface="Times New Roman"/>
              </a:rPr>
              <a:t>писатель нашей   современности</a:t>
            </a:r>
            <a:endParaRPr b="1" i="1" lang="en-US" sz="1800" spc="1" strike="noStrike">
              <a:ln w="0">
                <a:noFill/>
              </a:ln>
              <a:solidFill>
                <a:srgbClr val="262673"/>
              </a:solidFill>
              <a:latin typeface="Times New Roman"/>
              <a:ea typeface="Times New Roman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0" y="1557360"/>
            <a:ext cx="558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Петрович Екимов родился 19 ноября 1938 года в г. Игарка, вскоре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переехала в Казахстан, а с 1945 г. писатель поселился в г. Калач-на-Д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оградской области. О своем жизненном и творческом пути он говорит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якую хорошую литературу ведет тоска по хорошему челове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iteach.vspu.ru/files/2020/12/72.jpg"/>
          <p:cNvPicPr/>
          <p:nvPr/>
        </p:nvPicPr>
        <p:blipFill>
          <a:blip r:embed="rId1"/>
          <a:stretch/>
        </p:blipFill>
        <p:spPr>
          <a:xfrm>
            <a:off x="5430960" y="1841400"/>
            <a:ext cx="371952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0" y="0"/>
            <a:ext cx="4248000" cy="2087640"/>
          </a:xfrm>
          <a:prstGeom prst="cloudCallout">
            <a:avLst>
              <a:gd name="adj1" fmla="val -53810"/>
              <a:gd name="adj2" fmla="val 64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0" y="3913200"/>
            <a:ext cx="4427640" cy="2968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Роди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/>
          <p:cNvSpPr/>
          <p:nvPr/>
        </p:nvSpPr>
        <p:spPr>
          <a:xfrm>
            <a:off x="4859280" y="3357720"/>
            <a:ext cx="4033800" cy="2705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ро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5110200" y="0"/>
            <a:ext cx="4033800" cy="2705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одств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/>
          <p:cNvSpPr/>
          <p:nvPr/>
        </p:nvSpPr>
        <p:spPr>
          <a:xfrm>
            <a:off x="2411280" y="1700280"/>
            <a:ext cx="3961080" cy="2655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РО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s://avatars.mds.yandex.net/i?id=bfd05bc4644c63a8987789d2ddef8606f40cb349-6887327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3887640" cy="260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s://avatars.mds.yandex.net/i?id=f607f3bd15a97d7f353ed73204c7f0c33e74afda-7855968-images-thumbs&amp;n=13"/>
          <p:cNvPicPr/>
          <p:nvPr/>
        </p:nvPicPr>
        <p:blipFill>
          <a:blip r:embed="rId2"/>
          <a:stretch/>
        </p:blipFill>
        <p:spPr>
          <a:xfrm>
            <a:off x="5276880" y="0"/>
            <a:ext cx="386712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s://avatars.mds.yandex.net/i?id=5e80e15324950eb7332950811f0819837dae3f35-8497411-images-thumbs&amp;n=13"/>
          <p:cNvPicPr/>
          <p:nvPr/>
        </p:nvPicPr>
        <p:blipFill>
          <a:blip r:embed="rId3"/>
          <a:stretch/>
        </p:blipFill>
        <p:spPr>
          <a:xfrm>
            <a:off x="5292720" y="33577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s://avatars.mds.yandex.net/i?id=ab0274ab60334c4a73a6178f2dc3b546fcc7b1c3-7754910-images-thumbs&amp;n=13"/>
          <p:cNvPicPr/>
          <p:nvPr/>
        </p:nvPicPr>
        <p:blipFill>
          <a:blip r:embed="rId4"/>
          <a:stretch/>
        </p:blipFill>
        <p:spPr>
          <a:xfrm>
            <a:off x="0" y="3809880"/>
            <a:ext cx="409572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0" y="2356200"/>
            <a:ext cx="64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же сделать так, чтобы близкий 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одно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крови человек не ста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езродным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4716360" y="1700280"/>
            <a:ext cx="4427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ак что же такое ДОЛГ и СОВ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Как эти понятия соотносятся с поступками героев рассказ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О чем заставляет задуматься авт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Какие проблемы поднимает автор в своем рассказ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s://avatars.mds.yandex.net/i?id=16f9d675b3bf7ef0b82e2b57a281637f-5269428-images-thumbs&amp;n=13"/>
          <p:cNvPicPr/>
          <p:nvPr/>
        </p:nvPicPr>
        <p:blipFill>
          <a:blip r:embed="rId1"/>
          <a:stretch/>
        </p:blipFill>
        <p:spPr>
          <a:xfrm>
            <a:off x="0" y="227664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79280" y="277200"/>
            <a:ext cx="7023240" cy="32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V. ДОМАШНЕЕ 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1. Составить «Пирамиду критик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Пирамида кр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 чём произведение? (Одно слово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Какой у произведения характер? (Два слова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Место и время действия. (Три слова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Главные события. (Четыре слова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Главные герои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кие они? (Пять слов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то вы чувствовали, когда читали начало, сере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у и конец произведения? (Шесть слов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О чём произведение? (Семь слов, дополняющ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ую строку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Ваша реклам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2. Ответить на вопрос: «Какой след в моём сердце оставил рассказ “Родня”?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s://sun9-86.userapi.com/impf/c830408/v830408088/1cdcd3/OaEQ6w99s9g.jpg?size=320x320&amp;quality=96&amp;sign=cc947c97be5a302e42b6b94354417566&amp;c_uniq_tag=bubPGFt6ObyLK9hWPTaU2ns5aybh8OkhN5DrK3kU6YM&amp;type=album"/>
          <p:cNvPicPr/>
          <p:nvPr/>
        </p:nvPicPr>
        <p:blipFill>
          <a:blip r:embed="rId1"/>
          <a:stretch/>
        </p:blipFill>
        <p:spPr>
          <a:xfrm>
            <a:off x="2030400" y="3408480"/>
            <a:ext cx="357192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2:17:29Z</dcterms:created>
  <dc:creator>Admin</dc:creator>
  <dc:description/>
  <dc:language>en-US</dc:language>
  <cp:lastModifiedBy>Мария</cp:lastModifiedBy>
  <dcterms:modified xsi:type="dcterms:W3CDTF">2023-02-25T15:04:51Z</dcterms:modified>
  <cp:revision>92</cp:revision>
  <dc:subject/>
  <dc:title>Слайд 1</dc:title>
</cp:coreProperties>
</file>