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8C6-0CAD-4216-B421-833C0666E2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893C-3232-4194-85D1-776107525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AE1-4BFE-447D-BEA4-7927CECD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8D4-0E48-4730-9226-62F09A1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94C-503C-4005-8C18-8F6F3FFA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07F-8D4E-4AE6-96E9-68BC0E34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7F9-A3B7-4FF4-8F14-11567A1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FBD-6DB1-409C-9FF8-1DB8C355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DE0-348D-4F8D-A0A6-239043DE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023-34FA-44FA-96AE-4B8A0A61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A8C-5365-484E-8741-EAC9322C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2EE-98D3-48F5-B487-3799B667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74C-CDCC-4B5D-B048-FCD81F5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F69-4D25-49BB-8E99-59CB788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B8FE-7FC6-4663-A2BA-8760A572F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6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льский реброплод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4" descr=""/>
          <p:cNvPicPr/>
          <p:nvPr/>
        </p:nvPicPr>
        <p:blipFill>
          <a:blip r:embed="rId1"/>
          <a:srcRect l="-192" t="0" r="0" b="9574"/>
          <a:stretch/>
        </p:blipFill>
        <p:spPr>
          <a:xfrm>
            <a:off x="900000" y="1197000"/>
            <a:ext cx="734400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4" descr=""/>
          <p:cNvPicPr/>
          <p:nvPr/>
        </p:nvPicPr>
        <p:blipFill>
          <a:blip r:embed="rId1"/>
          <a:srcRect l="-431" t="27759" r="762" b="1795"/>
          <a:stretch/>
        </p:blipFill>
        <p:spPr>
          <a:xfrm>
            <a:off x="0" y="1052640"/>
            <a:ext cx="896472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33829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ура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8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Картинки по запросу скачать картинку инструмента курая с 4 отверстиями на тыльной стороне"/>
          <p:cNvPicPr/>
          <p:nvPr/>
        </p:nvPicPr>
        <p:blipFill>
          <a:blip r:embed="rId2"/>
          <a:stretch/>
        </p:blipFill>
        <p:spPr>
          <a:xfrm>
            <a:off x="0" y="911160"/>
            <a:ext cx="9144000" cy="59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Буранбай Кутд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871640" y="1268280"/>
            <a:ext cx="540072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ифтахетдин Акму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2195640" y="1442880"/>
            <a:ext cx="462096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"/>
          <p:cNvPicPr/>
          <p:nvPr/>
        </p:nvPicPr>
        <p:blipFill>
          <a:blip r:embed="rId1"/>
          <a:stretch/>
        </p:blipFill>
        <p:spPr>
          <a:xfrm>
            <a:off x="4660920" y="31680"/>
            <a:ext cx="4483080" cy="3613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"/>
          <p:cNvPicPr/>
          <p:nvPr/>
        </p:nvPicPr>
        <p:blipFill>
          <a:blip r:embed="rId2"/>
          <a:stretch/>
        </p:blipFill>
        <p:spPr>
          <a:xfrm>
            <a:off x="17640" y="3645000"/>
            <a:ext cx="9126360" cy="321300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4" descr=""/>
          <p:cNvPicPr/>
          <p:nvPr/>
        </p:nvPicPr>
        <p:blipFill>
          <a:blip r:embed="rId3"/>
          <a:stretch/>
        </p:blipFill>
        <p:spPr>
          <a:xfrm>
            <a:off x="0" y="36360"/>
            <a:ext cx="46609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1413000"/>
            <a:ext cx="807552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Arial Black"/>
              </a:rPr>
              <a:t>4 016 841 челов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00ff00"/>
                </a:solidFill>
                <a:latin typeface="Arial"/>
              </a:rPr>
              <a:t>Спасибо за внимание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60" y="188640"/>
            <a:ext cx="8148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Башкортост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rcRect l="4968" t="3922" r="3843" b="4537"/>
          <a:stretch/>
        </p:blipFill>
        <p:spPr>
          <a:xfrm>
            <a:off x="2195640" y="974880"/>
            <a:ext cx="4680000" cy="58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Илишевский рай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5545080" cy="57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Курай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символ Башкортост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6" descr=""/>
          <p:cNvPicPr/>
          <p:nvPr/>
        </p:nvPicPr>
        <p:blipFill>
          <a:blip r:embed="rId1"/>
          <a:srcRect l="4339" t="22016" r="6012" b="7984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5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016600" cy="53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4" descr=""/>
          <p:cNvPicPr/>
          <p:nvPr/>
        </p:nvPicPr>
        <p:blipFill>
          <a:blip r:embed="rId1"/>
          <a:stretch/>
        </p:blipFill>
        <p:spPr>
          <a:xfrm>
            <a:off x="-19080" y="1036800"/>
            <a:ext cx="9182160" cy="55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6" descr=""/>
          <p:cNvPicPr/>
          <p:nvPr/>
        </p:nvPicPr>
        <p:blipFill>
          <a:blip r:embed="rId1"/>
          <a:srcRect l="4339" t="22016" r="6012" b="7984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4:28:50Z</dcterms:created>
  <dc:creator>Уметбаево</dc:creator>
  <dc:description/>
  <dc:language>en-US</dc:language>
  <cp:lastModifiedBy>HOME</cp:lastModifiedBy>
  <dcterms:modified xsi:type="dcterms:W3CDTF">2021-02-07T18:52:34Z</dcterms:modified>
  <cp:revision>139</cp:revision>
  <dc:subject/>
  <dc:title>Слайд 1</dc:title>
</cp:coreProperties>
</file>