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jpeg" ContentType="image/jpeg"/>
  <Override PartName="/ppt/media/image6.png" ContentType="image/png"/>
  <Override PartName="/ppt/media/image7.jpeg" ContentType="image/jpeg"/>
  <Override PartName="/ppt/media/image8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E5AFD-FC95-4912-A84E-471CD8382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45BFF-C7F0-4546-B9A1-9395E7343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4BA18-73FF-44AE-8139-2322992DD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D2A63-A35C-4728-9B97-5038E2AB6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4605D-562A-4776-BCAF-68D134040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B1784-FCE1-4391-9EA1-75719D83B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DD0BB-870A-49FD-88EB-49B23AA26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9E992-19A7-4180-8B67-F60956756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42CA6-D9EF-436E-B6E4-EAEE90A36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F4CA7-5C80-49F6-9E3E-377406933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477DE-6B2C-47A5-9706-414015FAD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A494A-9D2C-4571-9126-F9D9E03EF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A999F-4232-4394-80D3-880298AA9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ED4BE-D655-41CC-BE33-92171820E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E84EE-1F77-4D3A-BA8E-F8B7A73A1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B4BA5-2F8F-4580-B459-6B960D0F9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2F47F-B78D-41C9-8501-2495D40CB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FC5744-ECCE-4025-B571-F6306DC01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0F82C1-BA8B-47CF-AA73-C0A38452F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15D294-C128-495F-98D1-23F794CAB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C69B5C-499A-49ED-8555-7E3FC87C2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020D48-123E-4C8D-BF94-D9B3193B8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029FA-4ABA-4A86-B69F-7FF87FFF4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73C634-D650-496C-B64A-B571D3A37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C6F9D7-C174-4386-992F-49A31CF09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4D7396-F005-43C9-9783-6CC925745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47BD89-75A7-46F5-880A-77FA243D9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998622-3AFF-41B3-8CE0-081CD72C3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4CD698-EDC3-43DE-B285-E55F5331F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B5799C-766E-4774-83C0-665FA4198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6C28F-1F8A-4958-8112-F715E92E8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014E6-9084-402B-9E6D-2F94A6933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4F9B1-D691-4566-8B31-61AF2FB59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2525F-2AF2-4945-A9A2-0B39A07C6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0AA93-E806-49C9-A814-F9A7F75BD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E66AE-BE14-410C-BD64-7F486827C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73551-D106-4545-8F39-14DCF2C581CB}" type="slidenum"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42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9EA01-23B0-437C-B1B3-F25965B09757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99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6351F-448E-4C28-B8C1-56F770EB916A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Клип 4" descr=""/>
          <p:cNvPicPr/>
          <p:nvPr/>
        </p:nvPicPr>
        <p:blipFill>
          <a:blip r:embed="rId1"/>
          <a:stretch/>
        </p:blipFill>
        <p:spPr>
          <a:xfrm>
            <a:off x="1258920" y="1844640"/>
            <a:ext cx="6553080" cy="501336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 txBox="1"/>
          <p:nvPr/>
        </p:nvSpPr>
        <p:spPr>
          <a:xfrm>
            <a:off x="1476360" y="404640"/>
            <a:ext cx="611676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ХАНОЙСКАЯ БАШНЯ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57200" y="1523880"/>
            <a:ext cx="300816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0" y="115560"/>
            <a:ext cx="5508720" cy="64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1" lang="ru-RU" sz="2800" spc="-1" strike="noStrike">
                <a:solidFill>
                  <a:srgbClr val="ff0066"/>
                </a:solidFill>
                <a:latin typeface="Brush Script MT"/>
              </a:rPr>
              <a:t>В Великом храме города Бенарас, под собором, отмечающим середину мира, находится бронзовый диск, на котором укреплены 3 алмазных стержня, высотой в один локоть и толщиной с пчелу. При создании мира Бог Брахма поместил на один из стержней 64 диска из чистого золота, причем так, что каждый меньший диск лежит на большем.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Brush Script MT"/>
              </a:rPr>
              <a:t> </a:t>
            </a:r>
            <a:r>
              <a:rPr b="1" lang="ru-RU" sz="2800" spc="-1" strike="noStrike">
                <a:solidFill>
                  <a:srgbClr val="ff0066"/>
                </a:solidFill>
                <a:latin typeface="Brush Script MT"/>
              </a:rPr>
              <a:t>	</a:t>
            </a:r>
            <a:r>
              <a:rPr b="1" lang="ru-RU" sz="2800" spc="-1" strike="noStrike">
                <a:solidFill>
                  <a:srgbClr val="ff0066"/>
                </a:solidFill>
                <a:latin typeface="Brush Script MT"/>
              </a:rPr>
              <a:t>Это и есть башня Брахмы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58" name="Picture 4" descr="balitemple3"/>
          <p:cNvPicPr/>
          <p:nvPr/>
        </p:nvPicPr>
        <p:blipFill>
          <a:blip r:embed="rId1"/>
          <a:stretch/>
        </p:blipFill>
        <p:spPr>
          <a:xfrm>
            <a:off x="5364000" y="620640"/>
            <a:ext cx="3529080" cy="439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57200" y="1523880"/>
            <a:ext cx="300816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779640" y="692280"/>
            <a:ext cx="5111640" cy="58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ff0066"/>
                </a:solidFill>
                <a:latin typeface="Verdana"/>
              </a:rPr>
              <a:t>День и ночь монахи в храме занимаются тем, что перекладывают диски в соответствии с наставлением Брахмы так, чтобы меньший диск никогда не оказывался под большим. Как только все 64 диска будут переложены, башня вместе с храмом обратятся в пыль и под громовые раскаты погибнет мир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61" name="Рисунок 5" descr=""/>
          <p:cNvPicPr/>
          <p:nvPr/>
        </p:nvPicPr>
        <p:blipFill>
          <a:blip r:embed="rId1"/>
          <a:stretch/>
        </p:blipFill>
        <p:spPr>
          <a:xfrm>
            <a:off x="142920" y="1500120"/>
            <a:ext cx="3786120" cy="4000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40932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5aae7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300816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574800" y="27252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eaeaea"/>
              </a:solidFill>
              <a:latin typeface="Verdana"/>
            </a:endParaRPr>
          </a:p>
          <a:p>
            <a:pPr marL="325800" indent="-32580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0066"/>
                </a:solidFill>
                <a:latin typeface="Verdana"/>
              </a:rPr>
              <a:t>Это будет через 580 млрд лет</a:t>
            </a:r>
            <a:endParaRPr b="0" lang="en-US" sz="8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65" name="Рисунок 4" descr=""/>
          <p:cNvPicPr/>
          <p:nvPr/>
        </p:nvPicPr>
        <p:blipFill>
          <a:blip r:embed="rId1"/>
          <a:stretch/>
        </p:blipFill>
        <p:spPr>
          <a:xfrm>
            <a:off x="324000" y="1628640"/>
            <a:ext cx="304776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Заголовок 1" descr=""/>
          <p:cNvPicPr/>
          <p:nvPr/>
        </p:nvPicPr>
        <p:blipFill>
          <a:blip r:embed="rId1"/>
          <a:stretch/>
        </p:blipFill>
        <p:spPr>
          <a:xfrm>
            <a:off x="324000" y="60480"/>
            <a:ext cx="8686800" cy="1536480"/>
          </a:xfrm>
          <a:prstGeom prst="rect">
            <a:avLst/>
          </a:prstGeom>
          <a:ln w="0">
            <a:noFill/>
          </a:ln>
        </p:spPr>
      </p:pic>
      <p:pic>
        <p:nvPicPr>
          <p:cNvPr id="167" name="Содержимое 3" descr=""/>
          <p:cNvPicPr/>
          <p:nvPr/>
        </p:nvPicPr>
        <p:blipFill>
          <a:blip r:embed="rId2"/>
          <a:stretch/>
        </p:blipFill>
        <p:spPr>
          <a:xfrm>
            <a:off x="1500120" y="2000160"/>
            <a:ext cx="6096240" cy="437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4642920" y="691920"/>
            <a:ext cx="403884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0d"/>
                </a:solidFill>
                <a:latin typeface="Verdana"/>
              </a:rPr>
              <a:t>Все кольца разной величины;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15360" indent="-31536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0d"/>
                </a:solidFill>
                <a:latin typeface="Verdana"/>
              </a:rPr>
              <a:t>За один раз разрешается переносить только одно кольцо;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15360" indent="-31536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0d"/>
                </a:solidFill>
                <a:latin typeface="Verdana"/>
              </a:rPr>
              <a:t>Нельзя класть большее кольцо на меньшее;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15360" indent="-31536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0d"/>
                </a:solidFill>
                <a:latin typeface="Verdana"/>
              </a:rPr>
              <a:t>Снятое кольцо необходимо надеть на какой-либо шпиль перед тем, как будет снято другое кольцо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69" name="Клип 7" descr=""/>
          <p:cNvPicPr/>
          <p:nvPr/>
        </p:nvPicPr>
        <p:blipFill>
          <a:blip r:embed="rId1"/>
          <a:stretch/>
        </p:blipFill>
        <p:spPr>
          <a:xfrm>
            <a:off x="395280" y="1052640"/>
            <a:ext cx="3929040" cy="3573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5T16:50:20Z</dcterms:created>
  <dc:creator>len</dc:creator>
  <dc:description/>
  <dc:language>en-US</dc:language>
  <cp:lastModifiedBy>Teacher-001</cp:lastModifiedBy>
  <dcterms:modified xsi:type="dcterms:W3CDTF">2017-04-27T10:40:10Z</dcterms:modified>
  <cp:revision>75</cp:revision>
  <dc:subject/>
  <dc:title>Слайд 1</dc:title>
</cp:coreProperties>
</file>