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E37-FF5A-4BF2-AE1F-F692892F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FFC-0131-4B29-802D-08CE4455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FA7-352A-4700-A234-4FBBF621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210-8EFD-4A5E-9C8E-39507C38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EB6-73AA-43EF-BF65-DDE778CE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F5F-2C6A-4CAF-BE2D-40A60A94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5FB-94CA-4FF3-948B-D1FD2C95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493-366F-426B-A33D-EBFFF112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209-4ED6-4858-8D18-AE6CAFC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557-92F3-40A6-8732-272B842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AEE-FB29-4949-BE72-AAC64C9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083-88E9-404C-9C88-70B71073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3B61-987D-4794-AD43-CAB06463AB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Учитель: Некрасова Олеся Аркадьевна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ОУ СОШ №21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Г. Альметьевс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[1]"/>
          <p:cNvPicPr/>
          <p:nvPr/>
        </p:nvPicPr>
        <p:blipFill>
          <a:blip r:embed="rId1"/>
          <a:stretch/>
        </p:blipFill>
        <p:spPr>
          <a:xfrm>
            <a:off x="457200" y="152280"/>
            <a:ext cx="8381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3" descr="kazarmy-dlya-rabochih[1]"/>
          <p:cNvPicPr/>
          <p:nvPr/>
        </p:nvPicPr>
        <p:blipFill>
          <a:blip r:embed="rId1"/>
          <a:stretch/>
        </p:blipFill>
        <p:spPr>
          <a:xfrm>
            <a:off x="152280" y="228600"/>
            <a:ext cx="4343400" cy="5410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df0fa05e3c2[1]"/>
          <p:cNvPicPr/>
          <p:nvPr/>
        </p:nvPicPr>
        <p:blipFill>
          <a:blip r:embed="rId2"/>
          <a:stretch/>
        </p:blipFill>
        <p:spPr>
          <a:xfrm>
            <a:off x="4648320" y="1752480"/>
            <a:ext cx="4343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12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коллеги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12 коллегий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2880" y="22860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етровские воро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3" descr="451px-Петровские_ворота_2[1]"/>
          <p:cNvPicPr/>
          <p:nvPr/>
        </p:nvPicPr>
        <p:blipFill>
          <a:blip r:embed="rId1"/>
          <a:stretch/>
        </p:blipFill>
        <p:spPr>
          <a:xfrm>
            <a:off x="4724280" y="838080"/>
            <a:ext cx="4114800" cy="5639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6840" y="61722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ралтей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723920" y="54860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6" descr="admiralty1[1]"/>
          <p:cNvPicPr/>
          <p:nvPr/>
        </p:nvPicPr>
        <p:blipFill>
          <a:blip r:embed="rId2"/>
          <a:stretch/>
        </p:blipFill>
        <p:spPr>
          <a:xfrm>
            <a:off x="228600" y="380880"/>
            <a:ext cx="4038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анкт - Петербург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766px-Петропавловка_с_другого_берега[1]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505320"/>
            <a:ext cx="32767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… 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По мнению Петра , европеизация страны должна была проявится и во внешнем виде русских людей. Предписывалось обязательное бритье бороды. Лица, носящие бороду (кроме духовенства), должны были платить пошлину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3" descr="pp_vv-00[1]"/>
          <p:cNvPicPr/>
          <p:nvPr/>
        </p:nvPicPr>
        <p:blipFill>
          <a:blip r:embed="rId1"/>
          <a:stretch/>
        </p:blipFill>
        <p:spPr>
          <a:xfrm>
            <a:off x="3808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46240795_P1010632[1]"/>
          <p:cNvPicPr/>
          <p:nvPr/>
        </p:nvPicPr>
        <p:blipFill>
          <a:blip r:embed="rId2"/>
          <a:stretch/>
        </p:blipFill>
        <p:spPr>
          <a:xfrm>
            <a:off x="3657600" y="19051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7960" y="45684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образования Петр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пособствовали преодолению отсталости России, превращению ее в великую европейскую и морскую держа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образовательная деятельность Петр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нарушила естественный ход развития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7" descr="piter1[1]"/>
          <p:cNvPicPr/>
          <p:nvPr/>
        </p:nvPicPr>
        <p:blipFill>
          <a:blip r:embed="rId1"/>
          <a:stretch/>
        </p:blipFill>
        <p:spPr>
          <a:xfrm>
            <a:off x="304920" y="609480"/>
            <a:ext cx="4419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12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образования Петр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пособствовали преодолению отсталости России, превращению ее в великую европейскую и морскую держа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образовательная деятельность Петр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нарушила естественный ход развития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8" descr="image[1]"/>
          <p:cNvPicPr/>
          <p:nvPr/>
        </p:nvPicPr>
        <p:blipFill>
          <a:blip r:embed="rId1"/>
          <a:stretch/>
        </p:blipFill>
        <p:spPr>
          <a:xfrm>
            <a:off x="4495680" y="1219320"/>
            <a:ext cx="4267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19360" y="380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етр допрашивает царевича Алексея Петровича в Петергофе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(Н. Н. Ге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ексей – сын Пе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7" descr="alex_petr[1]"/>
          <p:cNvPicPr/>
          <p:nvPr/>
        </p:nvPicPr>
        <p:blipFill>
          <a:blip r:embed="rId1"/>
          <a:stretch/>
        </p:blipFill>
        <p:spPr>
          <a:xfrm>
            <a:off x="228600" y="22860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n068_aleksej_peter_i_son-02[1]"/>
          <p:cNvPicPr/>
          <p:nvPr/>
        </p:nvPicPr>
        <p:blipFill>
          <a:blip r:embed="rId2"/>
          <a:stretch/>
        </p:blipFill>
        <p:spPr>
          <a:xfrm>
            <a:off x="4114800" y="182880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«Утро стрелецкой казни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7" descr="surikov[1]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010-2-35-12m[1]"/>
          <p:cNvPicPr/>
          <p:nvPr/>
        </p:nvPicPr>
        <p:blipFill>
          <a:blip r:embed="rId1"/>
          <a:stretch/>
        </p:blipFill>
        <p:spPr>
          <a:xfrm>
            <a:off x="1066680" y="685800"/>
            <a:ext cx="6716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837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Себя он не щадил, трудил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благо Родины сво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ваивал науки, царский образ вжил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знанье русских всех людей.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image3517[1]"/>
          <p:cNvPicPr/>
          <p:nvPr/>
        </p:nvPicPr>
        <p:blipFill>
          <a:blip r:embed="rId1"/>
          <a:stretch/>
        </p:blipFill>
        <p:spPr>
          <a:xfrm>
            <a:off x="4648320" y="1219320"/>
            <a:ext cx="4244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еверная война 1700-1721г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7fd03953e8417d475fc02883dfa49[1]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печество вело торговлю смел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вигали крепости от шведов в трех шага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ру-царю мы благодарны м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край Воронежский, прославлен им он ста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был он здесь совсем недолг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флот Российский на Дону встав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гордость русскую, столичный новый гор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виг народ на берегах Нев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ходят годы, он красив и молод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уемся классической архитектурой мы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 Бондаренк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3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3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3" descr="0073tc51[1]"/>
          <p:cNvPicPr/>
          <p:nvPr/>
        </p:nvPicPr>
        <p:blipFill>
          <a:blip r:embed="rId1"/>
          <a:stretch/>
        </p:blipFill>
        <p:spPr>
          <a:xfrm>
            <a:off x="380880" y="304920"/>
            <a:ext cx="701064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854753395167[1]"/>
          <p:cNvPicPr/>
          <p:nvPr/>
        </p:nvPicPr>
        <p:blipFill>
          <a:blip r:embed="rId2"/>
          <a:stretch/>
        </p:blipFill>
        <p:spPr>
          <a:xfrm>
            <a:off x="4800600" y="396252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2:47:25Z</dcterms:created>
  <dc:creator>Admin</dc:creator>
  <dc:description/>
  <dc:language>en-US</dc:language>
  <cp:lastModifiedBy>NNI_NGV</cp:lastModifiedBy>
  <dcterms:modified xsi:type="dcterms:W3CDTF">2020-03-10T04:17:3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