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31.png" ContentType="image/png"/>
  <Override PartName="/ppt/media/image37.png" ContentType="image/pn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182-14E7-41E7-BA02-112ABC36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04E-121D-4BC6-98D6-F21FE4E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65E-457B-4D6B-88CE-200B0D6C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B42-4788-44E0-BF05-4CF825D0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23A7-D644-454A-BAC7-B5B4A85F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63D2-EA14-47BE-97F7-38095259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A3B9-F0A6-4132-92E3-1140791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B30-D7E0-494C-B659-E5ED0FC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D651-E893-460C-892A-7AE5CDB9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89C-E106-4323-B65C-2C22E6A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96AB-18A4-46CE-9106-FAE573A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0DD-481B-4665-A291-490EACC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A1F5-60A6-4379-B882-AC37416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DE46-1571-448C-8BD5-093DED0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E73-0418-40CC-87AB-070B66EC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5376-D000-4ED6-BC46-AE3885C7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469-3AD9-40CE-8EEB-C3790392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E8B0-A856-481D-98C4-094BE351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C263-B244-4673-8F1E-84734CE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A4E6-C4F6-4EB9-A1F1-9A2B395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4FCC-C6F6-4C81-B033-2EA0ADF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8795-3832-4EEC-B128-D4928D1F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C9F-0E65-4DF9-A994-FBC588F1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BDCD-DAD7-41D8-B96F-6C28D8B5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1703-AC05-42FF-95E5-8A3A3C6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51BB-7A35-4E1C-9399-4228578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1947-95BA-4647-8ED6-B55CD11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7334-C5A2-4168-AFFE-ECD0B0D5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38CB-86B4-4A81-BE1A-E82F6D06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A7B1-2DB8-40AA-86C3-4411ECEF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D68E-BEC5-4702-80C9-E437999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2AD1-7DC1-42B8-A2D8-F9012D4D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4FA9-3F6E-4DE6-A952-7DEA25E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8AD-2893-4689-BCA9-54B3F7D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2FEA-06C0-4314-9668-3E06DFD2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FE30-EF54-4CC4-8D7B-16B45EF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4754-C33F-4DA5-975A-AD596C49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3EF2-5205-481A-9BC9-1E0D636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AF31-3513-4899-BC57-165F0EE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9679-A40A-41EF-986F-DE370DD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3C7C-DA05-4389-BA4D-B290F9F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DF75-BC53-4639-8AC2-C9901C69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325C-CA7D-4D0C-B30C-002F323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439FD-3DC1-4E0B-AC77-4AA42C01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4EC-C60E-4701-A94A-97A5B229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9467-1552-4589-8868-44EB0C7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0BBE-FD86-432C-9D65-4695134F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5C2A-F8DA-4F13-903B-F8B9CC19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62E9-F827-4D9B-B9A9-5895CA0D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B9D28-D8FD-4967-9131-C31FF03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A52F-D090-47B2-85C9-5490CC0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8E5D-FEB7-45B0-991A-AA1C4EA2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ECD9-1A07-43AA-8626-3DB411A4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B37C-48C0-47B3-AD65-93114EAC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C2C2-1C4A-424A-B815-501D3893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55F-4E89-4F4D-A24A-1E03865B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56DD-5CC9-442B-BCE1-21770A63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8A944-11A7-4B30-85A9-BAEE213B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B94E-D405-4F07-A402-3734A0B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A833-CC64-4B19-97EE-D3A3990F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D7E4-4471-421A-B37D-974B3EDD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C89F-A1BD-4991-84FD-AED6DE35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CF35-822D-4406-8AAF-2D97E73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AEA77-882E-489B-B10F-3F0DA24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8AFF-A519-4BEC-88A0-D7ADA88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4A5C-1357-4A58-9E5A-50397A1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A22-3C87-43B0-8D57-AAB2B9DD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1D7A-1B7D-48A6-B9FB-9198090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BD7D-6401-41BB-AC33-C19D7FF3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FF9E-D5C2-4EDD-8776-0C2A9F84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588-5DB1-4313-A7CD-F32CDB6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C76-89DC-465C-B634-F911C71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2B3-AFDB-4CD5-BCAA-8F4DE905762B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3A2-2401-4C8E-AD35-D90B62A50B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ая соединительная линия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2C29-F89F-464D-BF54-A94A20B0660F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рямая соединительная линия 7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0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Прямая соединительная линия 8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33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CEE-E8C2-4E02-9F61-CD6A212BFC99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77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39B-FE35-4A92-943F-0307C9BF5371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21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32C9-61DC-4D3A-B43C-FB950DC806D4}" type="slidenum">
              <a:rPr b="0" lang="ru-RU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image" Target="../media/image18.png"/><Relationship Id="rId7" Type="http://schemas.openxmlformats.org/officeDocument/2006/relationships/slide" Target="slide8.xml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s40.radikal.ru/i087/0909/72/04271fc19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4" descr=""/>
          <p:cNvPicPr/>
          <p:nvPr/>
        </p:nvPicPr>
        <p:blipFill>
          <a:blip r:embed="rId2"/>
          <a:stretch/>
        </p:blipFill>
        <p:spPr>
          <a:xfrm>
            <a:off x="1620720" y="762120"/>
            <a:ext cx="5730840" cy="834840"/>
          </a:xfrm>
          <a:prstGeom prst="rect">
            <a:avLst/>
          </a:prstGeom>
          <a:ln w="0">
            <a:noFill/>
          </a:ln>
        </p:spPr>
      </p:pic>
      <p:grpSp>
        <p:nvGrpSpPr>
          <p:cNvPr id="266" name="Группа 11"/>
          <p:cNvGrpSpPr/>
          <p:nvPr/>
        </p:nvGrpSpPr>
        <p:grpSpPr>
          <a:xfrm>
            <a:off x="428760" y="2365200"/>
            <a:ext cx="8286480" cy="2706840"/>
            <a:chOff x="428760" y="2365200"/>
            <a:chExt cx="8286480" cy="2706840"/>
          </a:xfrm>
        </p:grpSpPr>
        <p:pic>
          <p:nvPicPr>
            <p:cNvPr id="267" name="Рисунок 5" descr="film-clipart.png"/>
            <p:cNvPicPr/>
            <p:nvPr/>
          </p:nvPicPr>
          <p:blipFill>
            <a:blip r:embed="rId3"/>
            <a:stretch/>
          </p:blipFill>
          <p:spPr>
            <a:xfrm>
              <a:off x="428760" y="2365200"/>
              <a:ext cx="8286480" cy="270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Рисунок 6" descr="HU00-4074.jpg"/>
            <p:cNvPicPr/>
            <p:nvPr/>
          </p:nvPicPr>
          <p:blipFill>
            <a:blip r:embed="rId4"/>
            <a:stretch/>
          </p:blipFill>
          <p:spPr>
            <a:xfrm>
              <a:off x="2557440" y="2903760"/>
              <a:ext cx="1944720" cy="15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" descr="C:\Documents and Settings\Хозяин\Мои документы\5 класс программы и разработки\kuropyatnik_zadanie_3\.picasaoriginals\nin5sl3.jpg"/>
            <p:cNvPicPr/>
            <p:nvPr/>
          </p:nvPicPr>
          <p:blipFill>
            <a:blip r:embed="rId5"/>
            <a:stretch/>
          </p:blipFill>
          <p:spPr>
            <a:xfrm>
              <a:off x="542880" y="2903760"/>
              <a:ext cx="1944720" cy="15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Рисунок 8" descr="untitled.bmp"/>
            <p:cNvPicPr/>
            <p:nvPr/>
          </p:nvPicPr>
          <p:blipFill>
            <a:blip r:embed="rId6"/>
            <a:stretch/>
          </p:blipFill>
          <p:spPr>
            <a:xfrm>
              <a:off x="4572000" y="2903760"/>
              <a:ext cx="1944720" cy="15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Рисунок 10" descr="pisec.jpg"/>
            <p:cNvPicPr/>
            <p:nvPr/>
          </p:nvPicPr>
          <p:blipFill>
            <a:blip r:embed="rId7"/>
            <a:stretch/>
          </p:blipFill>
          <p:spPr>
            <a:xfrm>
              <a:off x="6586560" y="2903760"/>
              <a:ext cx="1944720" cy="1578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2" descr="1334257538_flot-finikiici.jpg"/>
          <p:cNvPicPr/>
          <p:nvPr/>
        </p:nvPicPr>
        <p:blipFill>
          <a:blip r:embed="rId1"/>
          <a:stretch/>
        </p:blipFill>
        <p:spPr>
          <a:xfrm>
            <a:off x="1835280" y="981000"/>
            <a:ext cx="5473440" cy="43149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i_054.jpg"/>
          <p:cNvPicPr/>
          <p:nvPr/>
        </p:nvPicPr>
        <p:blipFill>
          <a:blip r:embed="rId2"/>
          <a:stretch/>
        </p:blipFill>
        <p:spPr>
          <a:xfrm>
            <a:off x="1763640" y="981000"/>
            <a:ext cx="5715000" cy="43196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4" descr="057.jpg"/>
          <p:cNvPicPr/>
          <p:nvPr/>
        </p:nvPicPr>
        <p:blipFill>
          <a:blip r:embed="rId3"/>
          <a:stretch/>
        </p:blipFill>
        <p:spPr>
          <a:xfrm>
            <a:off x="1871640" y="981000"/>
            <a:ext cx="5616720" cy="431964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1547640" y="551664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Arial"/>
              </a:rPr>
              <a:t>финикийцы создали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…… пи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5" descr="свар.jpg"/>
          <p:cNvPicPr/>
          <p:nvPr/>
        </p:nvPicPr>
        <p:blipFill>
          <a:blip r:embed="rId4"/>
          <a:stretch/>
        </p:blipFill>
        <p:spPr>
          <a:xfrm rot="739200">
            <a:off x="5229360" y="1722600"/>
            <a:ext cx="331128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211640" y="1019160"/>
            <a:ext cx="478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Создатели первого алфавита – финикийцы. Они созда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"/>
                <a:ea typeface="Tahoma"/>
              </a:rPr>
              <a:t>Финикийский 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  <a:ea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  <a:ea typeface="Tahoma"/>
              </a:rPr>
              <a:t>арамейский   гре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0" name="Прямая со стрелкой 5"/>
          <p:cNvCxnSpPr/>
          <p:nvPr/>
        </p:nvCxnSpPr>
        <p:spPr>
          <a:xfrm flipH="1">
            <a:off x="5363640" y="3933720"/>
            <a:ext cx="1008720" cy="42624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1" name="Прямая со стрелкой 7"/>
          <p:cNvCxnSpPr/>
          <p:nvPr/>
        </p:nvCxnSpPr>
        <p:spPr>
          <a:xfrm>
            <a:off x="7019640" y="3933720"/>
            <a:ext cx="1081800" cy="4327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22" name="TextBox 8" descr=""/>
          <p:cNvPicPr/>
          <p:nvPr/>
        </p:nvPicPr>
        <p:blipFill>
          <a:blip r:embed="rId1"/>
          <a:stretch/>
        </p:blipFill>
        <p:spPr>
          <a:xfrm>
            <a:off x="1457280" y="30240"/>
            <a:ext cx="6222960" cy="1377720"/>
          </a:xfrm>
          <a:prstGeom prst="rect">
            <a:avLst/>
          </a:prstGeom>
          <a:ln w="0">
            <a:noFill/>
          </a:ln>
        </p:spPr>
      </p:pic>
      <p:cxnSp>
        <p:nvCxnSpPr>
          <p:cNvPr id="323" name="Прямая со стрелкой 10"/>
          <p:cNvCxnSpPr/>
          <p:nvPr/>
        </p:nvCxnSpPr>
        <p:spPr>
          <a:xfrm flipH="1">
            <a:off x="7622280" y="4726080"/>
            <a:ext cx="864360" cy="50544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4" name="Rectangle 7"/>
          <p:cNvSpPr/>
          <p:nvPr/>
        </p:nvSpPr>
        <p:spPr>
          <a:xfrm>
            <a:off x="3892680" y="46598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"/>
                <a:ea typeface="Tahoma"/>
              </a:rPr>
              <a:t>латинское письмо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  <a:ea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"/>
                <a:ea typeface="Tahoma"/>
              </a:rPr>
              <a:t>славянское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12"/>
          <p:cNvCxnSpPr/>
          <p:nvPr/>
        </p:nvCxnSpPr>
        <p:spPr>
          <a:xfrm flipH="1">
            <a:off x="7778520" y="4725720"/>
            <a:ext cx="724320" cy="112140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6" name="Прямоугольник 9"/>
          <p:cNvSpPr/>
          <p:nvPr/>
        </p:nvSpPr>
        <p:spPr>
          <a:xfrm>
            <a:off x="108000" y="1341360"/>
            <a:ext cx="3744720" cy="47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140000" y="1600200"/>
            <a:ext cx="48956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comic"/>
              </a:rPr>
              <a:t>Болгарский священник Кирилл  со своими учениками  -  Мефодием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mic"/>
              </a:rPr>
              <a:t>и другим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mic"/>
              </a:rPr>
              <a:t>– </a:t>
            </a:r>
            <a:r>
              <a:rPr b="1" lang="ru-RU" sz="3400" spc="-1" strike="noStrike">
                <a:solidFill>
                  <a:srgbClr val="000000"/>
                </a:solidFill>
                <a:latin typeface="comic"/>
              </a:rPr>
              <a:t>создал азбуку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mic"/>
              </a:rPr>
              <a:t>……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1" lang="ru-RU" sz="3400" spc="-1" strike="noStrike">
                <a:solidFill>
                  <a:srgbClr val="c00000"/>
                </a:solidFill>
                <a:latin typeface="comic"/>
              </a:rPr>
              <a:t>…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8" name="Прямая со стрелкой 5"/>
          <p:cNvCxnSpPr/>
          <p:nvPr/>
        </p:nvCxnSpPr>
        <p:spPr>
          <a:xfrm flipH="1">
            <a:off x="5219280" y="4292280"/>
            <a:ext cx="505440" cy="64836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9" name="Прямая со стрелкой 7"/>
          <p:cNvCxnSpPr/>
          <p:nvPr/>
        </p:nvCxnSpPr>
        <p:spPr>
          <a:xfrm>
            <a:off x="7164360" y="4284360"/>
            <a:ext cx="504000" cy="64836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0" name="Прямоугольник 6"/>
          <p:cNvSpPr/>
          <p:nvPr/>
        </p:nvSpPr>
        <p:spPr>
          <a:xfrm>
            <a:off x="395280" y="836640"/>
            <a:ext cx="3889440" cy="47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http://s40.radikal.ru/i087/0909/72/04271fc19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"/>
          <p:cNvSpPr/>
          <p:nvPr/>
        </p:nvSpPr>
        <p:spPr>
          <a:xfrm>
            <a:off x="900000" y="907920"/>
            <a:ext cx="655164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олчат гробницы, мумии и кости, -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шь слову жизнь дана: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з древней тьмы, на мировом погосте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вучат лишь Письмена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 нет у нас иного достоянья!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мейте же береч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Хоть в меру сил, в дни злобы и страданья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ш дар бессмертный - речь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А. Б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0_68ccb_3bd4b644_XL.png"/>
          <p:cNvPicPr/>
          <p:nvPr/>
        </p:nvPicPr>
        <p:blipFill>
          <a:blip r:embed="rId1"/>
          <a:stretch/>
        </p:blipFill>
        <p:spPr>
          <a:xfrm>
            <a:off x="3714840" y="2571840"/>
            <a:ext cx="1299960" cy="13507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0_675c3_ccd54f33_L.png"/>
          <p:cNvPicPr/>
          <p:nvPr/>
        </p:nvPicPr>
        <p:blipFill>
          <a:blip r:embed="rId2"/>
          <a:stretch/>
        </p:blipFill>
        <p:spPr>
          <a:xfrm>
            <a:off x="7429680" y="4702320"/>
            <a:ext cx="1714320" cy="1495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1332139346_bukva-u.png"/>
          <p:cNvPicPr/>
          <p:nvPr/>
        </p:nvPicPr>
        <p:blipFill>
          <a:blip r:embed="rId3"/>
          <a:stretch/>
        </p:blipFill>
        <p:spPr>
          <a:xfrm>
            <a:off x="3500280" y="178596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0_67008_f449add9_XL.png"/>
          <p:cNvPicPr/>
          <p:nvPr/>
        </p:nvPicPr>
        <p:blipFill>
          <a:blip r:embed="rId4"/>
          <a:stretch/>
        </p:blipFill>
        <p:spPr>
          <a:xfrm>
            <a:off x="0" y="2500200"/>
            <a:ext cx="1714680" cy="12938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1332420081_bukva-ae.png"/>
          <p:cNvPicPr/>
          <p:nvPr/>
        </p:nvPicPr>
        <p:blipFill>
          <a:blip r:embed="rId5"/>
          <a:stretch/>
        </p:blipFill>
        <p:spPr>
          <a:xfrm>
            <a:off x="7500960" y="142920"/>
            <a:ext cx="1643040" cy="17571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0_6700b_c7884aa2_XL.png"/>
          <p:cNvPicPr/>
          <p:nvPr/>
        </p:nvPicPr>
        <p:blipFill>
          <a:blip r:embed="rId6"/>
          <a:stretch/>
        </p:blipFill>
        <p:spPr>
          <a:xfrm>
            <a:off x="2071800" y="1643040"/>
            <a:ext cx="2000160" cy="15033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35.png"/>
          <p:cNvPicPr/>
          <p:nvPr/>
        </p:nvPicPr>
        <p:blipFill>
          <a:blip r:embed="rId7"/>
          <a:stretch/>
        </p:blipFill>
        <p:spPr>
          <a:xfrm>
            <a:off x="4786200" y="2428920"/>
            <a:ext cx="1757520" cy="17859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0_66ff2_efe76798_XL.png"/>
          <p:cNvPicPr/>
          <p:nvPr/>
        </p:nvPicPr>
        <p:blipFill>
          <a:blip r:embed="rId8"/>
          <a:stretch/>
        </p:blipFill>
        <p:spPr>
          <a:xfrm>
            <a:off x="142920" y="5072040"/>
            <a:ext cx="1644480" cy="16527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0_66ff5_7938d1ad_XL.png"/>
          <p:cNvPicPr/>
          <p:nvPr/>
        </p:nvPicPr>
        <p:blipFill>
          <a:blip r:embed="rId9"/>
          <a:stretch/>
        </p:blipFill>
        <p:spPr>
          <a:xfrm>
            <a:off x="6977160" y="4929120"/>
            <a:ext cx="2166840" cy="1879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0" descr="0_675b4_ad86859a_L.png"/>
          <p:cNvPicPr/>
          <p:nvPr/>
        </p:nvPicPr>
        <p:blipFill>
          <a:blip r:embed="rId10"/>
          <a:stretch/>
        </p:blipFill>
        <p:spPr>
          <a:xfrm>
            <a:off x="357120" y="48578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343" name="дружат_муз_и_дети.mp3" descr=""/>
          <p:cNvPicPr/>
          <p:nvPr/>
        </p:nvPicPr>
        <p:blipFill>
          <a:blip r:embed="rId11"/>
          <a:stretch/>
        </p:blipFill>
        <p:spPr>
          <a:xfrm>
            <a:off x="9144000" y="33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0.32986 -0.00486 E">
                                      <p:cBhvr>
                                        <p:cTn id="4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986 -0.00486 L -0.00087 -0.00486 E">
                                      <p:cBhvr>
                                        <p:cTn id="49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486 L -0.37188 -0.00972 E">
                                      <p:cBhvr>
                                        <p:cTn id="5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80972 0.01944 E">
                                      <p:cBhvr>
                                        <p:cTn id="7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972 0.01944 L -0.80972 -0.65255 E">
                                      <p:cBhvr>
                                        <p:cTn id="7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972 -0.65255 L -0.06163 -0.66296 E">
                                      <p:cBhvr>
                                        <p:cTn id="77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63 -0.66296 L -0.06163 -0.00162 E">
                                      <p:cBhvr>
                                        <p:cTn id="80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63 -0.00162 C 0.01441 -0.00162 0.07691 -0.12917 0.07691 -0.28542 C 0.07691 -0.44144 0.01441 -0.56852 -0.06163 -0.56852 C -0.13767 -0.56852 -0.19931 -0.44144 -0.19931 -0.28542 C -0.19931 -0.12917 -0.13767 -0.00162 -0.06163 -0.00162 Z">
                                      <p:cBhvr>
                                        <p:cTn id="83" dur="3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71528 -0.00162 E">
                                      <p:cBhvr>
                                        <p:cTn id="8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528 -0.00162 C -0.64045 -0.00162 -0.57952 -0.12894 -0.57952 -0.28519 C -0.57952 -0.44144 -0.64045 -0.56852 -0.71528 -0.56852 C -0.79011 -0.56852 -0.8507 -0.44144 -0.8507 -0.28519 C -0.8507 -0.12894 -0.79011 -0.00162 -0.71528 -0.00162 Z">
                                      <p:cBhvr>
                                        <p:cTn id="8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9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1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7037 C 0.00764 -0.15602 0.05503 -0.22569 0.11319 -0.22569 L 0.35746 -0.22569 C 0.4158 -0.22569 0.46354 -0.15602 0.46354 -0.07037 L 0.46354 0.28333 C 0.46354 0.36968 0.4158 0.44213 0.35746 0.44213 L 0.11319 0.44213 C 0.05503 0.44213 0.00764 0.36968 0.00764 0.28333 Z">
                                      <p:cBhvr>
                                        <p:cTn id="102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4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0.07176 C 0.01545 -0.15671 -0.02986 -0.22569 -0.08542 -0.22569 L -0.31736 -0.22569 C -0.37309 -0.22569 -0.41771 -0.15671 -0.41771 -0.07176 L -0.41771 0.27847 C -0.41771 0.36366 -0.37309 0.43565 -0.31736 0.43565 L -0.08542 0.43565 C -0.02986 0.43565 0.01545 0.36366 0.01545 0.27847 Z">
                                      <p:cBhvr>
                                        <p:cTn id="105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7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0.00486 C 0.01163 -0.0963 0.09253 -0.17338 0.19114 -0.17338 C 0.29305 -0.17338 0.37413 -0.0963 0.37413 0.00486 C 0.37413 0.10625 0.45521 0.18426 0.55712 0.18426 C 0.65573 0.18426 0.73698 0.10625 0.73698 0.00486 E">
                                      <p:cBhvr>
                                        <p:cTn id="118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698 0.00972 C 0.73698 -0.1301 0.65556 -0.23681 0.5566 -0.23681 C 0.45538 -0.23681 0.37465 -0.1301 0.37465 0.00972 C 0.37465 0.1493 0.2934 0.25671 0.19184 0.25671 C 0.0934 0.25671 0.01267 0.1493 0.01267 0.00972 E">
                                      <p:cBhvr>
                                        <p:cTn id="121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1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0.00486 L 0.7408 0.00416 E">
                                      <p:cBhvr>
                                        <p:cTn id="128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1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100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134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144" nodeType="afterEffect" fill="hold" presetClass="pat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45 -0.01713 C -0.07777 -0.03056 -0.0967 -0.03681 -0.11215 -0.03681 C -0.13454 -0.03681 -0.15607 -0.02686 -0.16875 -0.01019 C -0.22204 0.05601 -0.26302 0.20162 -0.26302 0.375 C -0.26302 0.37546 -0.26302 0.37731 -0.26302 0.37824 C -0.26302 0.37731 -0.26302 0.38055 -0.26302 0.38125 C -0.26302 0.5537 -0.22204 0.70324 -0.16875 0.76875 C -0.15607 0.78171 -0.13454 0.79189 -0.11215 0.79189 C -0.0967 0.79189 -0.07777 0.78564 -0.06545 0.77152 C -0.0526 0.75902 -0.04583 0.74189 -0.04583 0.72222 C -0.04583 0.69953 -0.05607 0.67986 -0.07204 0.66643 C -0.13454 0.60625 -0.27187 0.56342 -0.43506 0.56342 C -0.43506 0.56365 -0.43767 0.56342 -0.43767 0.56365 C -0.43767 0.56342 -0.44079 0.56342 -0.44079 0.56365 C -0.60434 0.56342 -0.74513 0.60625 -0.80763 0.66643 C -0.81979 0.67986 -0.82881 0.69953 -0.82881 0.72222 C -0.82881 0.74189 -0.82326 0.75902 -0.81076 0.77152 C -0.79861 0.78564 -0.78246 0.79189 -0.76336 0.79189 C -0.74201 0.79189 -0.72326 0.78171 -0.71093 0.76875 C -0.65451 0.70324 -0.61371 0.5537 -0.61371 0.38055 C -0.61371 0.38125 -0.61371 0.37731 -0.61371 0.37824 C -0.61371 0.37731 -0.61371 0.375 -0.61371 0.37546 C -0.61371 0.20162 -0.65451 0.05601 -0.71093 -0.01389 C -0.72326 -0.02686 -0.74201 -0.03681 -0.76336 -0.03681 C -0.78246 -0.03681 -0.79861 -0.03056 -0.81076 -0.01713 C -0.82326 -0.00394 -0.82881 0.0162 -0.82881 0.0324 C -0.82881 0.05601 -0.81979 0.07569 -0.80763 0.09189 C -0.74513 0.14861 -0.60434 0.19166 -0.44079 0.19166 C -0.44079 0.19236 -0.44079 0.19166 -0.43767 0.19166 C -0.43767 0.19236 -0.43506 0.19166 -0.43506 0.19236 C -0.27187 0.19166 -0.13454 0.14861 -0.07204 0.09189 C -0.05607 0.07569 -0.04583 0.05601 -0.04583 0.0324 C -0.04583 0.0162 -0.0526 -0.00394 -0.06545 -0.01713 Z">
                                      <p:cBhvr>
                                        <p:cTn id="145" dur="10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147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-0.00579 C -0.06336 0.12291 -0.11163 0.25509 -0.19948 0.29259 C -0.28975 0.33125 -0.38611 0.26111 -0.41701 0.13171 C -0.44861 0.00115000000000001 -0.54461 -0.06667 -0.63507 -0.02824 C -0.72274 0.00972 -0.77048 0.13912 -0.73906 0.2699 E">
                                      <p:cBhvr>
                                        <p:cTn id="148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8000"/>
                            </p:stCondLst>
                            <p:childTnLst>
                              <p:par>
                                <p:cTn id="15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0"/>
                            </p:stCondLst>
                            <p:childTnLst>
                              <p:par>
                                <p:cTn id="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2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4000"/>
                            </p:stCondLst>
                            <p:childTnLst>
                              <p:par>
                                <p:cTn id="16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1713 C 0.06666 -0.01713 0.12274 0.10857 0.12274 0.26297 C 0.12274 0.41737 0.06666 0.54329 -0.00226 0.54329 C -0.07118 0.54329 -0.12726 0.41737 -0.12726 0.26297 C -0.12726 0.10857 -0.07118 -0.01713 -0.00226 -0.01713 Z">
                                      <p:cBhvr>
                                        <p:cTn id="17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6000"/>
                            </p:stCondLst>
                            <p:childTnLst>
                              <p:par>
                                <p:cTn id="17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C 0.06893 7.40741E-007 0.125 -0.10023 0.125 -0.22315 C 0.125 -0.3463 0.06893 -0.4463 -4.44444E-006 -0.4463 C -0.06892 -0.4463 -0.125 -0.3463 -0.125 -0.22315 C -0.125 -0.10023 -0.06892 7.40741E-007 -4.44444E-006 7.40741E-007 Z">
                                      <p:cBhvr>
                                        <p:cTn id="17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8000"/>
                            </p:stCondLst>
                            <p:childTnLst>
                              <p:par>
                                <p:cTn id="17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91000"/>
                            </p:stCondLst>
                            <p:childTnLst>
                              <p:par>
                                <p:cTn id="19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4583 C 0.09375 0.12546 0.29618 0.13773 0.4434 -0.01898 C 0.59028 -0.17546 0.62552 -0.4412 0.52292 -0.6125 C 0.42049 -0.78357 0.2184 -0.79607 0.07153 -0.63958 C -0.07569 -0.48287 -0.11146 -0.2169 -0.00903 -0.04583 Z">
                                      <p:cBhvr>
                                        <p:cTn id="194" dur="5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96000"/>
                            </p:stCondLst>
                            <p:childTnLst>
                              <p:par>
                                <p:cTn id="1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8 -0.06274 C 0.09809 -0.1882 0.13507 -0.42963 0.04601 -0.6 C -0.0434 -0.77107 -0.22569 -0.80741 -0.36059 -0.68218 C -0.49548 -0.55672 -0.53281 -0.31644 -0.44323 -0.14537 C -0.35434 0.025 -0.1717 0.0625 -0.0368 -0.06274 Z">
                                      <p:cBhvr>
                                        <p:cTn id="197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1000"/>
                            </p:stCondLst>
                            <p:childTnLst>
                              <p:par>
                                <p:cTn id="19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3611 L 0.11562 -0.39676 C 0.13628 -0.47615 0.18645 -0.53564 0.24496 -0.56064 C 0.31076 -0.58588 0.3743 -0.57176 0.425 -0.52083 L 0.66961 -0.30486 E">
                                      <p:cBhvr>
                                        <p:cTn id="20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3000"/>
                            </p:stCondLst>
                            <p:childTnLst>
                              <p:par>
                                <p:cTn id="20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47 L -0.12291 -0.35301 C -0.14774 -0.4338 -0.19722 -0.49051 -0.25746 -0.51412 C -0.32639 -0.54121 -0.38889 -0.52732 -0.44184 -0.47848 L -0.68784 -0.26829 E">
                                      <p:cBhvr>
                                        <p:cTn id="203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20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2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700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8000"/>
                            </p:stCondLst>
                            <p:childTnLst>
                              <p:par>
                                <p:cTn id="21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787 L 0.20382 -0.36504 C 0.24653 -0.44606 0.31042 -0.49074 0.37709 -0.49074 C 0.45313 -0.49074 0.51389 -0.44606 0.5566 -0.36504 L 0.76077 -0.00787 E">
                                      <p:cBhvr>
                                        <p:cTn id="220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1000"/>
                            </p:stCondLst>
                            <p:childTnLst>
                              <p:par>
                                <p:cTn id="22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076 -0.00788 L 0.56406 -0.36528 C 0.52291 -0.44584 0.46093 -0.49075 0.39687 -0.49075 C 0.32413 -0.49075 0.2651 -0.44584 0.22395 -0.36528 L 0.02847 -0.00788 E">
                                      <p:cBhvr>
                                        <p:cTn id="225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14000"/>
                            </p:stCondLst>
                            <p:childTnLst>
                              <p:par>
                                <p:cTn id="229" nodeType="afterEffect" fill="hold" presetClass="pat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0.01319 0.0125 0.03333 0.01899 0.04948 0.01899 C 0.07326 0.01899 0.09635 0.00903 0.10955 -0.00601 C 0.16632 -0.06713 0.20955 -0.20023 0.20955 -0.3581 C 0.20955 -0.35902 0.20955 -0.36088 0.20955 -0.36157 C 0.20955 -0.36088 0.20955 -0.36388 0.20955 -0.36458 C 0.20955 -0.52245 0.16632 -0.65879 0.10955 -0.71944 C 0.09635 -0.73148 0.07326 -0.74004 0.04948 -0.74004 C 0.03333 -0.74004 0.01319 -0.73449 2.77778E-006 -0.72245 C -0.01337 -0.71041 -0.02014 -0.69513 -0.02014 -0.67662 C -0.02014 -0.65555 -0.01007 -0.63773 0.00677 -0.62546 C 0.07326 -0.57083 0.21927 -0.53148 0.39253 -0.53148 C 0.39253 -0.53171 0.39548 -0.53148 0.39548 -0.53171 C 0.39548 -0.53148 0.39896 -0.53148 0.39896 -0.53171 C 0.57205 -0.53148 0.7217 -0.57083 0.78819 -0.62546 C 0.80139 -0.63773 0.81128 -0.65555 0.81128 -0.67662 C 0.81128 -0.69513 0.80486 -0.71041 0.79166 -0.72245 C 0.7783 -0.73449 0.76146 -0.74004 0.74132 -0.74004 C 0.7184 -0.74004 0.69861 -0.73148 0.68524 -0.71944 C 0.62534 -0.65879 0.58212 -0.52245 0.58212 -0.36388 C 0.58212 -0.36458 0.58212 -0.36088 0.58212 -0.36157 C 0.58212 -0.36088 0.58212 -0.3581 0.58212 -0.35902 C 0.58212 -0.20023 0.62534 -0.06713 0.68524 -0.003 C 0.69861 0.00903 0.7184 0.01899 0.74132 0.01899 C 0.76146 0.01899 0.7783 0.0125 0.79166 -4.44444E-006 C 0.80486 -0.01203 0.81128 -0.03032 0.81128 -0.04513 C 0.81128 -0.06713 0.80139 -0.08472 0.78819 -0.1 C 0.7217 -0.15162 0.57205 -0.19097 0.39896 -0.19097 C 0.39896 -0.19189 0.39896 -0.19097 0.39548 -0.19097 C 0.39548 -0.19189 0.39253 -0.19097 0.39253 -0.19189 C 0.21927 -0.19097 0.07326 -0.15162 0.00677 -0.1 C -0.01007 -0.08472 -0.02014 -0.06713 -0.02014 -0.04513 C -0.02014 -0.03032 -0.01337 -0.01203 2.77778E-006 -4.44444E-006 Z">
                                      <p:cBhvr>
                                        <p:cTn id="230" dur="8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22000"/>
                            </p:stCondLst>
                            <p:childTnLst>
                              <p:par>
                                <p:cTn id="2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65347 -0.58796 E">
                                      <p:cBhvr>
                                        <p:cTn id="23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4000"/>
                            </p:stCondLst>
                            <p:childTnLst>
                              <p:par>
                                <p:cTn id="23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611280" y="362160"/>
            <a:ext cx="820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Monotype Corsiva"/>
              </a:rPr>
              <a:t>Пи́сьм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я система, предназначенная для фиксации и передачи тех или иных данных на расстояние и придания этим данным вневременного характера, одна из форм существования человеческого язы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Группа 8"/>
          <p:cNvGrpSpPr/>
          <p:nvPr/>
        </p:nvGrpSpPr>
        <p:grpSpPr>
          <a:xfrm>
            <a:off x="468360" y="1268280"/>
            <a:ext cx="8391600" cy="3529080"/>
            <a:chOff x="468360" y="1268280"/>
            <a:chExt cx="8391600" cy="3529080"/>
          </a:xfrm>
        </p:grpSpPr>
        <p:pic>
          <p:nvPicPr>
            <p:cNvPr id="274" name="Рисунок 3" descr="tr04_14.jpg"/>
            <p:cNvPicPr/>
            <p:nvPr/>
          </p:nvPicPr>
          <p:blipFill>
            <a:blip r:embed="rId1"/>
            <a:stretch/>
          </p:blipFill>
          <p:spPr>
            <a:xfrm>
              <a:off x="468360" y="1268280"/>
              <a:ext cx="3978360" cy="35290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pic>
          <p:nvPicPr>
            <p:cNvPr id="275" name="Рисунок 4" descr="tamtam.JPG"/>
            <p:cNvPicPr/>
            <p:nvPr/>
          </p:nvPicPr>
          <p:blipFill>
            <a:blip r:embed="rId2"/>
            <a:stretch/>
          </p:blipFill>
          <p:spPr>
            <a:xfrm>
              <a:off x="4710240" y="1268280"/>
              <a:ext cx="4149720" cy="35290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</p:grpSp>
      <p:grpSp>
        <p:nvGrpSpPr>
          <p:cNvPr id="276" name="Группа 9"/>
          <p:cNvGrpSpPr/>
          <p:nvPr/>
        </p:nvGrpSpPr>
        <p:grpSpPr>
          <a:xfrm>
            <a:off x="468360" y="1341360"/>
            <a:ext cx="8353440" cy="3538440"/>
            <a:chOff x="468360" y="1341360"/>
            <a:chExt cx="8353440" cy="3538440"/>
          </a:xfrm>
        </p:grpSpPr>
        <p:pic>
          <p:nvPicPr>
            <p:cNvPr id="277" name="Рисунок 5" descr="HU00-4074.jpg"/>
            <p:cNvPicPr/>
            <p:nvPr/>
          </p:nvPicPr>
          <p:blipFill>
            <a:blip r:embed="rId3"/>
            <a:stretch/>
          </p:blipFill>
          <p:spPr>
            <a:xfrm>
              <a:off x="4645080" y="1351800"/>
              <a:ext cx="4176720" cy="35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Рисунок 6" descr="1Eanger Irving Couse (1866-1936)_ The Signal Light_ Oli on canvas_ 76_8 x 99_7 cm_ Painted in 1927.JPG"/>
            <p:cNvPicPr/>
            <p:nvPr/>
          </p:nvPicPr>
          <p:blipFill>
            <a:blip r:embed="rId4"/>
            <a:stretch/>
          </p:blipFill>
          <p:spPr>
            <a:xfrm>
              <a:off x="468360" y="1341360"/>
              <a:ext cx="3960720" cy="35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TextBox 10" descr=""/>
          <p:cNvPicPr/>
          <p:nvPr/>
        </p:nvPicPr>
        <p:blipFill>
          <a:blip r:embed="rId5"/>
          <a:stretch/>
        </p:blipFill>
        <p:spPr>
          <a:xfrm>
            <a:off x="5962680" y="30240"/>
            <a:ext cx="2816280" cy="13777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9"/>
          <p:cNvSpPr/>
          <p:nvPr/>
        </p:nvSpPr>
        <p:spPr>
          <a:xfrm>
            <a:off x="468360" y="47973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 очень далекие времена, когда люди еще не умели читать и писать, они передавали ее от одного к другому, используя </a:t>
            </a: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2"/>
          <p:cNvSpPr/>
          <p:nvPr/>
        </p:nvSpPr>
        <p:spPr>
          <a:xfrm>
            <a:off x="468360" y="3789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Чуть позже с сигналами люди стали использовать предметное письм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TextBox 4" descr=""/>
          <p:cNvPicPr/>
          <p:nvPr/>
        </p:nvPicPr>
        <p:blipFill>
          <a:blip r:embed="rId1"/>
          <a:stretch/>
        </p:blipFill>
        <p:spPr>
          <a:xfrm>
            <a:off x="3371760" y="96840"/>
            <a:ext cx="5570640" cy="1384200"/>
          </a:xfrm>
          <a:prstGeom prst="rect">
            <a:avLst/>
          </a:prstGeom>
          <a:ln w="0">
            <a:noFill/>
          </a:ln>
        </p:spPr>
      </p:pic>
      <p:grpSp>
        <p:nvGrpSpPr>
          <p:cNvPr id="283" name="Группа 14"/>
          <p:cNvGrpSpPr/>
          <p:nvPr/>
        </p:nvGrpSpPr>
        <p:grpSpPr>
          <a:xfrm>
            <a:off x="6156360" y="1268280"/>
            <a:ext cx="2428920" cy="2251440"/>
            <a:chOff x="6156360" y="1268280"/>
            <a:chExt cx="2428920" cy="2251440"/>
          </a:xfrm>
        </p:grpSpPr>
        <p:grpSp>
          <p:nvGrpSpPr>
            <p:cNvPr id="284" name="Скругленный прямоугольник 9"/>
            <p:cNvGrpSpPr/>
            <p:nvPr/>
          </p:nvGrpSpPr>
          <p:grpSpPr>
            <a:xfrm>
              <a:off x="6156360" y="1268280"/>
              <a:ext cx="2428920" cy="1733760"/>
              <a:chOff x="6156360" y="1268280"/>
              <a:chExt cx="2428920" cy="1733760"/>
            </a:xfrm>
          </p:grpSpPr>
          <p:pic>
            <p:nvPicPr>
              <p:cNvPr id="285" name="Скругленный прямоугольник 9" descr="">
                <a:hlinkClick r:id="rId2" action="ppaction://hlinksldjump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156360" y="1268280"/>
                <a:ext cx="2428920" cy="17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6256080" y="1364040"/>
                <a:ext cx="2230560" cy="15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Box 13">
              <a:hlinkClick r:id="rId4" action="ppaction://hlinksldjump"/>
            </p:cNvPr>
            <p:cNvSpPr/>
            <p:nvPr/>
          </p:nvSpPr>
          <p:spPr>
            <a:xfrm>
              <a:off x="6811200" y="2999160"/>
              <a:ext cx="11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……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6"/>
          <p:cNvGrpSpPr/>
          <p:nvPr/>
        </p:nvGrpSpPr>
        <p:grpSpPr>
          <a:xfrm>
            <a:off x="3348000" y="1268280"/>
            <a:ext cx="2428920" cy="2237040"/>
            <a:chOff x="3348000" y="1268280"/>
            <a:chExt cx="2428920" cy="2237040"/>
          </a:xfrm>
        </p:grpSpPr>
        <p:grpSp>
          <p:nvGrpSpPr>
            <p:cNvPr id="289" name="Скругленный прямоугольник 10"/>
            <p:cNvGrpSpPr/>
            <p:nvPr/>
          </p:nvGrpSpPr>
          <p:grpSpPr>
            <a:xfrm>
              <a:off x="3348000" y="1268280"/>
              <a:ext cx="2428920" cy="1734120"/>
              <a:chOff x="3348000" y="1268280"/>
              <a:chExt cx="2428920" cy="1734120"/>
            </a:xfrm>
          </p:grpSpPr>
          <p:pic>
            <p:nvPicPr>
              <p:cNvPr id="290" name="Скругленный прямоугольник 10" descr="">
                <a:hlinkClick r:id="rId5" action="ppaction://hlinksldjump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348000" y="1268280"/>
                <a:ext cx="2428920" cy="17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444120" y="1364040"/>
                <a:ext cx="2235960" cy="15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Box 15">
              <a:hlinkClick r:id="rId7" action="ppaction://hlinksldjump"/>
            </p:cNvPr>
            <p:cNvSpPr/>
            <p:nvPr/>
          </p:nvSpPr>
          <p:spPr>
            <a:xfrm>
              <a:off x="4062960" y="29847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……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Группа 18"/>
          <p:cNvGrpSpPr/>
          <p:nvPr/>
        </p:nvGrpSpPr>
        <p:grpSpPr>
          <a:xfrm>
            <a:off x="539640" y="1266840"/>
            <a:ext cx="2428920" cy="2250000"/>
            <a:chOff x="539640" y="1266840"/>
            <a:chExt cx="2428920" cy="2250000"/>
          </a:xfrm>
        </p:grpSpPr>
        <p:grpSp>
          <p:nvGrpSpPr>
            <p:cNvPr id="294" name="Группа 12"/>
            <p:cNvGrpSpPr/>
            <p:nvPr/>
          </p:nvGrpSpPr>
          <p:grpSpPr>
            <a:xfrm>
              <a:off x="539640" y="1266840"/>
              <a:ext cx="2428920" cy="1714320"/>
              <a:chOff x="539640" y="1266840"/>
              <a:chExt cx="2428920" cy="1714320"/>
            </a:xfrm>
          </p:grpSpPr>
          <p:grpSp>
            <p:nvGrpSpPr>
              <p:cNvPr id="295" name="Скругленный прямоугольник 7"/>
              <p:cNvGrpSpPr/>
              <p:nvPr/>
            </p:nvGrpSpPr>
            <p:grpSpPr>
              <a:xfrm>
                <a:off x="539640" y="1266840"/>
                <a:ext cx="2428920" cy="1714320"/>
                <a:chOff x="539640" y="1266840"/>
                <a:chExt cx="2428920" cy="1714320"/>
              </a:xfrm>
            </p:grpSpPr>
            <p:pic>
              <p:nvPicPr>
                <p:cNvPr id="296" name="Скругленный прямоугольник 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9640" y="1266840"/>
                  <a:ext cx="2428920" cy="17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637560" y="1365480"/>
                  <a:ext cx="2235960" cy="151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8" name="Рисунок 3" descr="lyaga.jpg"/>
              <p:cNvPicPr/>
              <p:nvPr/>
            </p:nvPicPr>
            <p:blipFill>
              <a:blip r:embed="rId9"/>
              <a:stretch/>
            </p:blipFill>
            <p:spPr>
              <a:xfrm>
                <a:off x="626040" y="1567440"/>
                <a:ext cx="2278440" cy="98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TextBox 17"/>
            <p:cNvSpPr/>
            <p:nvPr/>
          </p:nvSpPr>
          <p:spPr>
            <a:xfrm>
              <a:off x="1166400" y="2996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……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Box 1" descr=""/>
          <p:cNvPicPr/>
          <p:nvPr/>
        </p:nvPicPr>
        <p:blipFill>
          <a:blip r:embed="rId1"/>
          <a:stretch/>
        </p:blipFill>
        <p:spPr>
          <a:xfrm>
            <a:off x="5973840" y="30240"/>
            <a:ext cx="3133800" cy="13777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2" descr="Lithograph_Native_American_Showing_Wampum_To_Friend_Beads_Camp_Lithograph_Native_Am_Teepee_b.jpg"/>
          <p:cNvPicPr/>
          <p:nvPr/>
        </p:nvPicPr>
        <p:blipFill>
          <a:blip r:embed="rId2"/>
          <a:stretch/>
        </p:blipFill>
        <p:spPr>
          <a:xfrm>
            <a:off x="4211640" y="1052640"/>
            <a:ext cx="4681440" cy="3571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3" descr="wampum_historyiselemantal.jpg"/>
          <p:cNvPicPr/>
          <p:nvPr/>
        </p:nvPicPr>
        <p:blipFill>
          <a:blip r:embed="rId3"/>
          <a:stretch/>
        </p:blipFill>
        <p:spPr>
          <a:xfrm>
            <a:off x="324000" y="1052640"/>
            <a:ext cx="37144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extBox 1" descr=""/>
          <p:cNvPicPr/>
          <p:nvPr/>
        </p:nvPicPr>
        <p:blipFill>
          <a:blip r:embed="rId1"/>
          <a:stretch/>
        </p:blipFill>
        <p:spPr>
          <a:xfrm>
            <a:off x="6838920" y="-158760"/>
            <a:ext cx="2055960" cy="137808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5" descr="20070717klphisuni_162_Ies_SCO.jpg"/>
          <p:cNvPicPr/>
          <p:nvPr/>
        </p:nvPicPr>
        <p:blipFill>
          <a:blip r:embed="rId2"/>
          <a:stretch/>
        </p:blipFill>
        <p:spPr>
          <a:xfrm>
            <a:off x="4500720" y="620640"/>
            <a:ext cx="3143160" cy="33577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6" descr="2WQRQCAT3RYEBCAS1Z7D3CA0PCBMZCA6SGU2UCANL7WR3CAMV3TLECAB3HISTCATRPZZ8CAY50A6YCABOC5SHCA7383UHCANDXJRQCAJ9MKAKCAIBRJ1YCAIN0PQDCAP3TIFWCA8TCI2XCA6EKY8WCALLIKIS.jpg"/>
          <p:cNvPicPr/>
          <p:nvPr/>
        </p:nvPicPr>
        <p:blipFill>
          <a:blip r:embed="rId3"/>
          <a:stretch/>
        </p:blipFill>
        <p:spPr>
          <a:xfrm>
            <a:off x="611280" y="692280"/>
            <a:ext cx="33573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51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исунчатое письм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4140360" y="765000"/>
            <a:ext cx="500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Позже люди придумали рисунчатое «письмо» – …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К ним относятся и наскальные рису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324000" y="1235160"/>
            <a:ext cx="3743280" cy="46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427280" y="1116000"/>
            <a:ext cx="4321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В Древнем Египте придумали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…..</a:t>
            </a: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 – фигурные письменные знак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324000" y="260280"/>
            <a:ext cx="62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Иероглифическое письм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324000" y="1116000"/>
            <a:ext cx="3671640" cy="47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140000" y="476280"/>
            <a:ext cx="48481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2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"/>
              </a:rPr>
              <a:t>В Древнем Вавилоне письменные знаки выдавливались палочкой на глине, они были похожие на клинья, поэтому такое письмо называли </a:t>
            </a: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266760" y="765000"/>
            <a:ext cx="3743280" cy="47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6:51Z</dcterms:created>
  <dc:creator>учитель</dc:creator>
  <dc:description/>
  <dc:language>en-US</dc:language>
  <cp:lastModifiedBy>user</cp:lastModifiedBy>
  <dcterms:modified xsi:type="dcterms:W3CDTF">2016-02-20T05:20:07Z</dcterms:modified>
  <cp:revision>62</cp:revision>
  <dc:subject/>
  <dc:title>ИСТОРИЯ    ПИСЬМЕННОСТИ</dc:title>
</cp:coreProperties>
</file>