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CB41-B6A5-4948-BD7D-9E821D9E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3985-F6C1-41BA-99DF-76150736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12CB-9CAD-460C-BC0E-8E60299E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DA9C-D83A-448B-8925-A5316AF0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F778-A53F-4F21-B2EE-75BD7304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E81D-6B79-4C01-B4D3-5272A34A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E8D6-F72C-4E4F-AF82-210248EB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7267-8841-49EE-8BDB-13D025AD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6E2-120C-40D6-84C9-957616F1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A3D4-9351-4E93-9305-69DAAB19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7C9A-028B-468A-A0F4-F5E925C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C96C-42E5-494F-BDA0-630A30BF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069E-5492-4D1B-AE37-088D6AFA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DE17-A46A-4924-A037-5D00C906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4406-C397-416F-9BB1-8A8917E1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54D-B33D-4977-87A7-1B7FCE89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9170-E82B-41F9-BD79-7117D7BD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98CE-87B0-4835-A810-4EBD3AA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BC7D-8F3F-4B36-AD84-E7A762E2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1B95-79B3-43A6-A7C7-1C6B1521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6F34-B3FC-4899-AF44-624F37B6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0E8D-DF64-42D3-AB01-1A73315E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CFEA-4027-42C5-9F34-19F7F84A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E4B4-9B9D-4D31-844E-A52B085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8E0C-E263-4F2B-943C-8DB396EB63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9BC9-8600-43D1-BD6D-54961CE7A9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eorgia"/>
              </a:rPr>
              <a:t>Слово о писателе Н.С.Лескове. Понятие о сказе.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5e5ff"/>
                </a:solidFill>
                <a:latin typeface="Georgia"/>
              </a:rPr>
              <a:t>«Сказ о тульском  косом  левше и о стальной блохе»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Подумайте и ответьт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Какие элементы фольклорных произведений вы заметили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Как вы считаете, кем мог быть рассказчик, повествовател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Когда и где происходит действие сказ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Кукрыниксы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общий псевдоним (вымышленное имя или фамилия, под которыми часто выступают писатели, художники и др.) сразу трех художников: Куприянова Михаила Васильевича (1903—1991), Крылова Порфирия Никитича (1902—1990) и Соколова Николая Александровича (1903—2000), который составлен по начальным слогам их фамилий (в псевдоним входит и часть имени художника Николая Соколова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360" y="189000"/>
            <a:ext cx="540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eorgia"/>
              </a:rPr>
              <a:t>Всмотритесь в иллюстрацию. Почему художники поместили на главной иллюстрации к произведению портрет левши?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eorgia"/>
              </a:rPr>
              <a:t>За каким делом изображен левша на главной иллюстрации к произведению? Какие инструменты изображены на рабочем столе мастера? Почему мастер держит молоточек в левой руке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Rectangle 15" descr=""/>
          <p:cNvPicPr/>
          <p:nvPr/>
        </p:nvPicPr>
        <p:blipFill>
          <a:blip r:embed="rId1"/>
          <a:stretch/>
        </p:blipFill>
        <p:spPr>
          <a:xfrm>
            <a:off x="0" y="1844640"/>
            <a:ext cx="3276720" cy="452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Georgia"/>
              </a:rPr>
              <a:t>Как государь Александр Павлович и Платов изображены на иллюстрациях?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295272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2643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Georgia"/>
              </a:rPr>
              <a:t>Итоги урок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каким литературным жанром мы познакомились на сегодняшнем уроке? А кто может дать определение сказ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автор сказа о левш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какими историческими личностями мы встретились, прочитав 1 главу произвед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4856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 происхождению Лесков принадлежал к дворянскому роду. Родился он 4 февраля 1831 года Орловского уезда в селе Горохове, где жила его бабушка. В деревне он жил на полной свободе, которой пользовался как хотел. Сверстниками Николая были крестьянские дети, с которыми он жил и сживался душа в душ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10000000"/>
          <p:cNvPicPr/>
          <p:nvPr/>
        </p:nvPicPr>
        <p:blipFill>
          <a:blip r:embed="rId1"/>
          <a:stretch/>
        </p:blipFill>
        <p:spPr>
          <a:xfrm>
            <a:off x="6227640" y="3357720"/>
            <a:ext cx="266544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40360" y="764640"/>
            <a:ext cx="4319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 всеми благоприятностями своего воспитания Лесков рано почувствовал уколы самолюбия и гордости, в которых у него выразилось большое сходство с отцом. Николай был одарён большими способностями в учении. Обучался в Орловской гимназии. «…учился я хорошо, хотя гимназия… велась из рук вон плохо, дурно…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Н.С. Лесков. Фото 1860"/>
          <p:cNvPicPr/>
          <p:nvPr/>
        </p:nvPicPr>
        <p:blipFill>
          <a:blip r:embed="rId1"/>
          <a:stretch/>
        </p:blipFill>
        <p:spPr>
          <a:xfrm>
            <a:off x="0" y="0"/>
            <a:ext cx="3457440" cy="571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050560" y="549360"/>
            <a:ext cx="5257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 впечатлениям детства у Лескова добавляется опыт гимназических лет в Орле, а также  незабываемые киевские годы. Но самым важным шагом к его истинному призванию явилась частная служба: в течение трёх лет будущий писатель ездит по России, сопровождая партии крестьян-переселенцев. Поэтому Лесков хорошо знал народ. Впечатления этих лет и составили уникальную кладовую его памя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40000000"/>
          <p:cNvPicPr/>
          <p:nvPr/>
        </p:nvPicPr>
        <p:blipFill>
          <a:blip r:embed="rId1"/>
          <a:stretch/>
        </p:blipFill>
        <p:spPr>
          <a:xfrm>
            <a:off x="7236000" y="1413000"/>
            <a:ext cx="1657080" cy="231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Н.С. Лесков. Фото 1885–1886"/>
          <p:cNvPicPr/>
          <p:nvPr/>
        </p:nvPicPr>
        <p:blipFill>
          <a:blip r:embed="rId2"/>
          <a:stretch/>
        </p:blipFill>
        <p:spPr>
          <a:xfrm>
            <a:off x="250920" y="3500280"/>
            <a:ext cx="2133360" cy="2800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8000" y="691920"/>
            <a:ext cx="662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1861 году Н.С.Лесков уезжает в Москву, а затем перебирается в Петербург, где и прошла вся его 35- летняя служба на литературном поприще. Вся предыдущая жизнь подготовила его к литературному труду и выполнению той задачи, которая исторически выпала ему как художни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70000000"/>
          <p:cNvPicPr/>
          <p:nvPr/>
        </p:nvPicPr>
        <p:blipFill>
          <a:blip r:embed="rId1"/>
          <a:stretch/>
        </p:blipFill>
        <p:spPr>
          <a:xfrm>
            <a:off x="6372360" y="4365720"/>
            <a:ext cx="1657080" cy="2158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иле таланта Н.С.Лескова можно поставить в один ряд с И.С.Тургеневым, Ф.М.Достоевским, Л.Н.Толстым, М.Е.Салтыковым-Щедриным, А.П.Чеховы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20000000"/>
          <p:cNvPicPr/>
          <p:nvPr/>
        </p:nvPicPr>
        <p:blipFill>
          <a:blip r:embed="rId1"/>
          <a:stretch/>
        </p:blipFill>
        <p:spPr>
          <a:xfrm>
            <a:off x="755640" y="836640"/>
            <a:ext cx="1523880" cy="1803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ogo0000"/>
          <p:cNvPicPr/>
          <p:nvPr/>
        </p:nvPicPr>
        <p:blipFill>
          <a:blip r:embed="rId2"/>
          <a:stretch/>
        </p:blipFill>
        <p:spPr>
          <a:xfrm>
            <a:off x="3276720" y="1484280"/>
            <a:ext cx="2419200" cy="781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50000000"/>
          <p:cNvPicPr/>
          <p:nvPr/>
        </p:nvPicPr>
        <p:blipFill>
          <a:blip r:embed="rId3"/>
          <a:stretch/>
        </p:blipFill>
        <p:spPr>
          <a:xfrm>
            <a:off x="6588000" y="907920"/>
            <a:ext cx="1524240" cy="18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Н.С. Лесков. Художник В. Серов"/>
          <p:cNvPicPr/>
          <p:nvPr/>
        </p:nvPicPr>
        <p:blipFill>
          <a:blip r:embed="rId1"/>
          <a:stretch/>
        </p:blipFill>
        <p:spPr>
          <a:xfrm>
            <a:off x="2340000" y="620640"/>
            <a:ext cx="4087800" cy="563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Georgia"/>
              </a:rPr>
              <a:t>Сказ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– жанр эпоса, опирающийся на народные предания и легенды. Повествование ведется от лица рассказчика, человека с особым характером и складом реч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eorgia"/>
              </a:rPr>
              <a:t>«Сказ о тульском  косом  левше и о стальной блохе»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384360" cy="44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6:29:50Z</dcterms:created>
  <dc:creator>учитель</dc:creator>
  <dc:description/>
  <dc:language>en-US</dc:language>
  <cp:lastModifiedBy>Zver</cp:lastModifiedBy>
  <dcterms:modified xsi:type="dcterms:W3CDTF">2009-01-22T13:27:14Z</dcterms:modified>
  <cp:revision>5</cp:revision>
  <dc:subject/>
  <dc:title>Слайд 1</dc:title>
</cp:coreProperties>
</file>