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81E-01CD-4760-9E25-F6BA600D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80C-A069-4D0A-AE6E-F8754869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D27-4C44-4BA4-8ACF-73BB881F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D3F-2B5F-49E9-A3E1-A059F4B6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4E4-F58B-4E69-9E43-448E9FFF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DF3-05CB-4796-BA28-D3770974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428-0CFE-4930-AC4E-45375D75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21C-1D5C-4E74-A2B7-24C49B61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828-7322-4ED3-A02B-8119D6E0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BC6-ECBF-4A19-91D9-E3B55DD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4BF-84D6-4E65-815E-CD721C83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A9F-4400-439A-96B7-8E3E0A68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B9A1-4FD3-412B-A0D2-9DB73898F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8520" y="380880"/>
            <a:ext cx="8534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Cambria"/>
              </a:rPr>
              <a:t>Неповторимость каждого мгнове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Cambria"/>
              </a:rPr>
              <a:t>Лишь только школа в памяти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Cambria"/>
              </a:rPr>
              <a:t>И вот сегодня – день её торжествен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Cambria"/>
              </a:rPr>
              <a:t>Что взрослых и детей объеди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C:\Users\HP\Desktop\2023-05-10\Сканировать10002.JPG"/>
          <p:cNvPicPr/>
          <p:nvPr/>
        </p:nvPicPr>
        <p:blipFill>
          <a:blip r:embed="rId1"/>
          <a:srcRect l="41792" t="6606" r="29438" b="72152"/>
          <a:stretch/>
        </p:blipFill>
        <p:spPr>
          <a:xfrm>
            <a:off x="23760" y="457200"/>
            <a:ext cx="5691240" cy="5486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867280" y="76212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Cambria"/>
              </a:rPr>
              <a:t>Аким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Cambria"/>
              </a:rPr>
              <a:t>Ол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Cambria"/>
              </a:rPr>
              <a:t>Викто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105520" y="304920"/>
            <a:ext cx="380988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Красав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Иван Никола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C:\Users\HP\Desktop\2023-05-10\Сканировать1.JPG"/>
          <p:cNvPicPr/>
          <p:nvPr/>
        </p:nvPicPr>
        <p:blipFill>
          <a:blip r:embed="rId1"/>
          <a:srcRect l="34457" t="6606" r="21922" b="63863"/>
          <a:stretch/>
        </p:blipFill>
        <p:spPr>
          <a:xfrm>
            <a:off x="133200" y="990720"/>
            <a:ext cx="4972320" cy="5029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638680" y="167652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Cambria"/>
              </a:rPr>
              <a:t>Зыря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Cambria"/>
              </a:rPr>
              <a:t>Дмитр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Cambria"/>
              </a:rPr>
              <a:t>Гурам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495680" y="152280"/>
            <a:ext cx="4343400" cy="48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Суворо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Геннадий и Серг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5181840" cy="6172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3760" y="2133360"/>
            <a:ext cx="38098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Cambria"/>
              </a:rPr>
              <a:t>Яраскин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Cambria"/>
              </a:rPr>
              <a:t>Алексе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mbria"/>
                <a:ea typeface="Cambria"/>
              </a:rPr>
              <a:t>Владими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C:\Users\HP\Desktop\2023-05-10\Сканировать10001.JPG"/>
          <p:cNvPicPr/>
          <p:nvPr/>
        </p:nvPicPr>
        <p:blipFill>
          <a:blip r:embed="rId1"/>
          <a:srcRect l="38310" t="3757" r="9820" b="63473"/>
          <a:stretch/>
        </p:blipFill>
        <p:spPr>
          <a:xfrm>
            <a:off x="19080" y="685800"/>
            <a:ext cx="531504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562720" y="1981080"/>
            <a:ext cx="335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Cambria"/>
              </a:rPr>
              <a:t>Лес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Cambria"/>
              </a:rPr>
              <a:t>Георг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Cambria"/>
              </a:rPr>
              <a:t>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cf3.ppt-online.org/files3/slide/x/xoLAIaSnU3HMO1eV7Fytu4DbNlfkRcJCj5Eg9T/slide-7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s://cdn.culture.ru/images/c039d672-a52b-5d21-8be1-ae22c50c49d5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CBD7C39"/>
          <p:cNvPicPr/>
          <p:nvPr/>
        </p:nvPicPr>
        <p:blipFill>
          <a:blip r:embed="rId1"/>
          <a:stretch/>
        </p:blipFill>
        <p:spPr>
          <a:xfrm>
            <a:off x="0" y="0"/>
            <a:ext cx="4494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800600" y="380880"/>
            <a:ext cx="3962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озыя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28600" y="1143000"/>
            <a:ext cx="8686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Афганистан, Чечн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и боль, и совесть наша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Назвали метко ва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«горячей точкой»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Но те, кто были там, расскажут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Cambria"/>
              </a:rPr>
              <a:t>О том, как то название неточ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theslide.ru/img/thumbs/a053b311f5e0df23ff11967dd802097c-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убботин Роман и Янинов Алек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80640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37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105520" y="34128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mbria"/>
                <a:ea typeface="Cambria"/>
              </a:rPr>
              <a:t>Янино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mbria"/>
                <a:ea typeface="Cambria"/>
              </a:rPr>
              <a:t>Астам  и Ай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715000" y="304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0" y="1255680"/>
            <a:ext cx="9144000" cy="5602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914400" y="2286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айбородов Александ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23-05-10T09:09:0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