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1B32-44A3-4F98-8C76-10AA76E4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C514-04DA-45AA-AA48-CCD34072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6ADF-0318-4381-A7DF-ECD35C1F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1795-84D0-4B3B-8569-AD3890F9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636C-BB1D-4B82-BF4B-07440B0C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75A0-E783-47D9-92F9-2368C73E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73EC-0E74-43DC-9162-360C0A5E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25BC-F57F-44CC-A19C-A60BE986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4BB0-D1BE-4926-B226-D700D2E7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3F62-B091-4750-B332-26956D21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D4AD-888A-4BD1-A8D8-5839D65D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6714-BC5C-4BEF-9E57-96B43B66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51AE-F3F9-4229-98D1-303134C98C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4764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тресс и стрессоустойчивость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ыполнила: педагог – психолог</a:t>
            </a:r>
            <a:br>
              <a:rPr sz="2400"/>
            </a:b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             Мацытина И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5105160"/>
            <a:ext cx="46483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9"/>
          <p:cNvSpPr/>
          <p:nvPr/>
        </p:nvSpPr>
        <p:spPr>
          <a:xfrm>
            <a:off x="2743200" y="3049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2"/>
          <a:stretch/>
        </p:blipFill>
        <p:spPr>
          <a:xfrm>
            <a:off x="152280" y="274680"/>
            <a:ext cx="876312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ес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нглийское слово, которое произошло от французского estresse, что означает давление, угнетенность, подавленность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онятие было введено канадским ученым Гансом Селье в 1936 г., он определил стресс как реакцию организма, возникающую в чрезвычайных обстоятельствах и призванную мобилизовать защитные силы организм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трес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д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устресс    Дистре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трелка вниз 1"/>
          <p:cNvSpPr/>
          <p:nvPr/>
        </p:nvSpPr>
        <p:spPr>
          <a:xfrm rot="2433000">
            <a:off x="3580920" y="1752480"/>
            <a:ext cx="484200" cy="1447920"/>
          </a:xfrm>
          <a:prstGeom prst="downArrow">
            <a:avLst>
              <a:gd name="adj1" fmla="val 50000"/>
              <a:gd name="adj2" fmla="val 5004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елка вниз 2"/>
          <p:cNvSpPr/>
          <p:nvPr/>
        </p:nvSpPr>
        <p:spPr>
          <a:xfrm rot="19158000">
            <a:off x="4755960" y="1749240"/>
            <a:ext cx="483840" cy="1444320"/>
          </a:xfrm>
          <a:prstGeom prst="downArrow">
            <a:avLst>
              <a:gd name="adj1" fmla="val 50000"/>
              <a:gd name="adj2" fmla="val 500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о характеру происхождения существует следующая классификация стресс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Объект 6" descr=""/>
          <p:cNvPicPr/>
          <p:nvPr/>
        </p:nvPicPr>
        <p:blipFill>
          <a:blip r:embed="rId2"/>
          <a:stretch/>
        </p:blipFill>
        <p:spPr>
          <a:xfrm>
            <a:off x="457200" y="1590840"/>
            <a:ext cx="822960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5181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КОУ «Кореневская средняя общеобразовательная школа №1 им. В Крохин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</cp:lastModifiedBy>
  <dcterms:modified xsi:type="dcterms:W3CDTF">2023-11-28T11:08:52Z</dcterms:modified>
  <cp:revision>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