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7F8-84F9-4DF2-ACC8-01E65C20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4EF-852C-40CD-832B-D7B5A16C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347-CBBA-4745-BE42-4C938557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AA1-8B7C-423D-86D9-07E9FEAE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90C5-A3FC-4B33-BB4F-8BC6C693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CC9C-4567-47D4-ACE4-541B2104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52B9-FA18-43CA-8071-69679A79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EDBB-3825-40A6-A015-7B50B455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E4E3-EA62-4491-8FA2-8FFA9242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DE03-BD55-4B22-BD60-3AE32FB4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5985-245C-448D-BEC9-6B02E897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91E-E3CB-4351-947F-32361F66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E331-BF7A-40D0-A617-5B9FFA13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1F0F-C00A-4125-8D6F-FEC4E045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76AD-7721-4670-A7B3-77FE7D2E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8731-2CBE-46D1-BEE5-00AC995B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4F22-02E3-475D-8AE1-B092B2A0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0F48-C8EF-40D3-9F28-0AD4E347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389-433B-4611-9050-0C231C01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3585-9EE8-437B-B0A1-ED2ACB9B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B21-D2E4-44D3-8455-D9B32866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B0C4-4997-4390-B03F-85F53FAC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F2D-CE41-4881-8942-04E66A6B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9D17-C34E-4364-8C07-3DDC0646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5A4F-103D-48AA-BAB7-66A668750A8A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A975-0033-451A-83B2-8E270C08E9B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8E03-E547-4E41-8DF3-8BE3DCCBE221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1C30-F62C-4006-B947-5034ECD8C26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13880" y="2697120"/>
            <a:ext cx="78901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ная работа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: «?»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 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6054480"/>
            <a:ext cx="669636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52" name="Picture 5" descr="H:\Documents and Settings\Aida\Рабочий стол\текстуры и фоны, клипарты\idpencil.jpg"/>
          <p:cNvPicPr/>
          <p:nvPr/>
        </p:nvPicPr>
        <p:blipFill>
          <a:blip r:embed="rId1"/>
          <a:stretch/>
        </p:blipFill>
        <p:spPr>
          <a:xfrm rot="20406600">
            <a:off x="3452400" y="1793520"/>
            <a:ext cx="2598840" cy="176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2"/>
          <a:stretch/>
        </p:blipFill>
        <p:spPr>
          <a:xfrm>
            <a:off x="4000680" y="2143080"/>
            <a:ext cx="269712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Задача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ригада маляров должна покрасить забор длиной 240 метров, ежедневно увеличивая норму покраски на одно и то же число метр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звестно, что в первый и последний день  в сумме было покрашено 60 метр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пределите, сколько дней потребуется рабочим на выполнение всей работы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Задача 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991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вободно падающее тело проходит в первую секунду 4,9 м, а в каждую следующую секунду на 9,8 м больше, чем в предыдущую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йдите глубину шахты, если свободно падающее тело достигло дна шахты через 5 секунд после начала падени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-3877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Творческое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йти задачи, связанные с арифметической прогрессией из различных областей: физики, медицины и т.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Учебник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П. 24-2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№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90(в),695(б), 699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 себя на урок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2090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     Что вы ожидали от работы на данном уроке? Сравните свои предварительные цели и реально достигнутые результат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      Что вам более всего удалось, какие моменты были выполнены наиболее успешн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      Что у вас вызвало затруднения и что интерес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428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« Математика – это то,                             посредством     чего     человек управляет  природой  и  собой»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А.Н. Колмогоров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3880" y="2697120"/>
            <a:ext cx="78901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урока :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Практическое применение арифметической прогрессии»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 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547280" y="6054480"/>
            <a:ext cx="669636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56" name="Picture 5" descr="H:\Documents and Settings\Aida\Рабочий стол\текстуры и фоны, клипарты\idpencil.jpg"/>
          <p:cNvPicPr/>
          <p:nvPr/>
        </p:nvPicPr>
        <p:blipFill>
          <a:blip r:embed="rId1"/>
          <a:stretch/>
        </p:blipFill>
        <p:spPr>
          <a:xfrm rot="20406600">
            <a:off x="6156000" y="1196640"/>
            <a:ext cx="2598840" cy="176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2"/>
          <a:stretch/>
        </p:blipFill>
        <p:spPr>
          <a:xfrm>
            <a:off x="6588000" y="1628640"/>
            <a:ext cx="269712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214200" y="164304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ифметическая прогрессия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это числовая последовательность, каждый член которой, начиная со второго равен предыдущему сложенному с одним и тем же числом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3059280" y="3573360"/>
                <a:ext cx="467964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" name="Группа 8"/>
          <p:cNvGrpSpPr/>
          <p:nvPr/>
        </p:nvGrpSpPr>
        <p:grpSpPr>
          <a:xfrm>
            <a:off x="785880" y="4653000"/>
            <a:ext cx="8358120" cy="1425960"/>
            <a:chOff x="785880" y="4653000"/>
            <a:chExt cx="8358120" cy="1425960"/>
          </a:xfrm>
        </p:grpSpPr>
        <mc:AlternateContent>
          <mc:Choice xmlns:a14="http://schemas.microsoft.com/office/drawing/2010/main" Requires="a14">
            <p:sp>
              <p:nvSpPr>
                <p:cNvPr id="161" name="Object 4"/>
                <p:cNvSpPr txBox="1"/>
                <p:nvPr/>
              </p:nvSpPr>
              <p:spPr>
                <a:xfrm>
                  <a:off x="785880" y="4653000"/>
                  <a:ext cx="857160" cy="109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Прямоугольник 6"/>
            <p:cNvSpPr/>
            <p:nvPr/>
          </p:nvSpPr>
          <p:spPr>
            <a:xfrm>
              <a:off x="1357200" y="5010120"/>
              <a:ext cx="7786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разность арифметической прогрессии (число)</a:t>
              </a:r>
              <a:endParaRPr b="1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Box 7"/>
          <p:cNvSpPr/>
          <p:nvPr/>
        </p:nvSpPr>
        <p:spPr>
          <a:xfrm>
            <a:off x="428760" y="214200"/>
            <a:ext cx="807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пределение арифметической прогрессии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285840" y="285840"/>
            <a:ext cx="85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азность арифметической прогрессии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3"/>
              <p:cNvSpPr txBox="1"/>
              <p:nvPr/>
            </p:nvSpPr>
            <p:spPr>
              <a:xfrm>
                <a:off x="2071800" y="1857240"/>
                <a:ext cx="460512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700200" y="3929040"/>
                <a:ext cx="18158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TextBox 4"/>
          <p:cNvSpPr/>
          <p:nvPr/>
        </p:nvSpPr>
        <p:spPr>
          <a:xfrm>
            <a:off x="2571840" y="407196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огрессия возрастающая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681120" y="5051520"/>
                <a:ext cx="18158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TextBox 6"/>
          <p:cNvSpPr/>
          <p:nvPr/>
        </p:nvSpPr>
        <p:spPr>
          <a:xfrm>
            <a:off x="2714760" y="521496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огрессия убывающая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285840" y="21420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азвать первый член и разность арифметической прогрессии: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571680" y="1928880"/>
            <a:ext cx="3786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 8, 10, 12, …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 10, 13, 16, …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, 21, 17, 13, …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2, -9, -6, -3, …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4344840" y="1868400"/>
                <a:ext cx="13575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"/>
              <p:cNvSpPr txBox="1"/>
              <p:nvPr/>
            </p:nvSpPr>
            <p:spPr>
              <a:xfrm>
                <a:off x="4349880" y="2835360"/>
                <a:ext cx="13572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4330800" y="3800520"/>
                <a:ext cx="16207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4343400" y="4815000"/>
                <a:ext cx="19270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6386400" y="1922400"/>
                <a:ext cx="1270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6357960" y="2873520"/>
                <a:ext cx="12254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6334200" y="3821040"/>
                <a:ext cx="15764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6599160" y="4838760"/>
                <a:ext cx="1225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285840" y="2142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Являются ли арифметическими прогрессиями данные последовательности чисел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1547640" y="2133720"/>
            <a:ext cx="5500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; 12; 17; 22; 27 …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-2; -4; -6; -8; -10 …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 -23; -13; -3; 13; 23 …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179280" y="260280"/>
            <a:ext cx="82868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пособы задания арифметической прогрессии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3252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екуррентная формула: 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3252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Times New Roman"/>
                <a:ea typeface="Arial"/>
              </a:rPr>
              <a:t>Формула </a:t>
            </a:r>
            <a:r>
              <a:rPr b="1" i="1" lang="en-US" sz="1800" spc="-1" strike="noStrike">
                <a:solidFill>
                  <a:srgbClr val="632523"/>
                </a:solidFill>
                <a:latin typeface="Times New Roman"/>
                <a:ea typeface="Arial"/>
              </a:rPr>
              <a:t>n – </a:t>
            </a:r>
            <a:r>
              <a:rPr b="1" i="1" lang="ru-RU" sz="1800" spc="-1" strike="noStrike">
                <a:solidFill>
                  <a:srgbClr val="632523"/>
                </a:solidFill>
                <a:latin typeface="Times New Roman"/>
                <a:ea typeface="Arial"/>
              </a:rPr>
              <a:t>ого члена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Группа 15"/>
          <p:cNvGrpSpPr/>
          <p:nvPr/>
        </p:nvGrpSpPr>
        <p:grpSpPr>
          <a:xfrm>
            <a:off x="3564000" y="3645000"/>
            <a:ext cx="4997520" cy="792000"/>
            <a:chOff x="3564000" y="3645000"/>
            <a:chExt cx="4997520" cy="792000"/>
          </a:xfrm>
        </p:grpSpPr>
        <p:sp>
          <p:nvSpPr>
            <p:cNvPr id="184" name="Прямоугольник 14"/>
            <p:cNvSpPr/>
            <p:nvPr/>
          </p:nvSpPr>
          <p:spPr>
            <a:xfrm>
              <a:off x="3564000" y="3645000"/>
              <a:ext cx="4997520" cy="792000"/>
            </a:xfrm>
            <a:prstGeom prst="rect">
              <a:avLst/>
            </a:prstGeom>
            <a:solidFill>
              <a:srgbClr val="632523">
                <a:alpha val="25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Object 9"/>
                <p:cNvSpPr txBox="1"/>
                <p:nvPr/>
              </p:nvSpPr>
              <p:spPr>
                <a:xfrm>
                  <a:off x="3894840" y="3691440"/>
                  <a:ext cx="443520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4211640" y="2133720"/>
                <a:ext cx="4464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Задача 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ля  подготовки к экзамену Ивану нужно выполнить 434 задан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первый день работы Иван справился только с 5 заданиями, но планирует ежедневно увеличивать это число на одно и то же количество задан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ределите, сколько заданий Ивану надо выполнить в последний день, если на всю подготовку отведено 14 дн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280" y="-532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Задача 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ладелец частного дома решил выкопать колодец на приусадебном участке. Он  договорился с рабочими на следующих условиях: за первый метр будет заплачено 4200 руб, а за каждый следующий метр – на 1300 рублей больше, чем за предыдущ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олько рублей будет стоить вся работа, если планируется выкопать колодец глубиной 11 метров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9T12:03:39Z</dcterms:created>
  <dc:creator>Наталия</dc:creator>
  <dc:description>http://aida.ucoz.ru</dc:description>
  <dc:language>en-US</dc:language>
  <cp:lastModifiedBy>Kirill</cp:lastModifiedBy>
  <dcterms:modified xsi:type="dcterms:W3CDTF">2023-10-23T09:06:43Z</dcterms:modified>
  <cp:revision>98</cp:revision>
  <dc:subject/>
  <dc:title>Урок по математике Площадь.</dc:title>
</cp:coreProperties>
</file>