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s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4-03-03T16:09:28.123000000" idx="1">
    <p:pos x="5760" y="-60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360" y="-11833560"/>
            <a:ext cx="360" cy="250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0" y="-11833200"/>
            <a:ext cx="1440" cy="250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0" y="-11833200"/>
            <a:ext cx="1440" cy="250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07F7-872B-4E4E-A3A2-CF5B5497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88088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8674-DB65-47D0-AB7B-D2182E922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236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931B-DA67-4122-BD2A-A24CC80E5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160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932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160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932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CAA3-B113-4C73-9367-B0AD342E1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845D-31BF-435B-9BB0-C45340F5B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3C97-EAB8-4AB5-8926-FCECA287A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A79E-3F6C-4A82-9619-B90BFB4EE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6D87-98EB-4EAF-A977-27498160DF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9DAA-43DF-4CB0-AC83-1FBABC130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-52560"/>
            <a:ext cx="700272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8DB0-4393-4D5C-8316-A8BB6E2940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D9A9-EA95-4646-9367-C33E12532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F542-1148-4AA5-BAE7-2C4CA028A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236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5EA7-FB45-422F-BECF-15792119B5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1993-8699-4D59-9308-D48E0FDC3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88088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50A9-6E27-4639-A252-8A402EB44F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236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B31F-E927-45BA-BB9B-89EF77918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160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9320" y="190512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160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9320" y="4880880"/>
            <a:ext cx="225468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2075-3AD7-4566-880C-7875EF791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42CE-EB39-4071-B3C9-2B19CDE3D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42B5-58DD-4B69-AF1A-C1206A98E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635D-A886-466E-BE3D-3A811E790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-52560"/>
            <a:ext cx="700272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2E73-D297-4906-9D23-1A8BF90F8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3087-25B8-477B-975E-4E49D22DD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360" y="488088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EFA7-C1EE-4AC0-8919-46F76268B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360" y="1905120"/>
            <a:ext cx="34171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880880"/>
            <a:ext cx="7002720" cy="27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1A87-70A9-40BC-8349-95A7BBBBF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6294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276720" y="624852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523520" y="6248520"/>
            <a:ext cx="12877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328EBD-2E98-464B-A4AF-5D53BBD024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 flipV="1">
            <a:off x="1371600" y="297000"/>
            <a:ext cx="144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8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56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9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2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56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086600" y="6248520"/>
            <a:ext cx="1523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9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209320" y="6248520"/>
            <a:ext cx="1211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D3BF57-50E4-42FF-B891-FDADA17DDD37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33720" y="3186000"/>
            <a:ext cx="64767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64d4d"/>
                </a:solidFill>
                <a:latin typeface="Times New Roman"/>
              </a:rPr>
              <a:t>Поэты – земляки о родном кра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00000" y="4986360"/>
            <a:ext cx="3959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240" y="0"/>
            <a:ext cx="9037440" cy="400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7240" y="84240"/>
            <a:ext cx="908676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процкая Г. А. родилась в 1966 г.  Работает корреспондентом газеты «Даниловские вести». В стихах выражает любовь к родному краю. Большая дружная семь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file:///C:/Documents and Settings/Владимир/Рабочий стол/к проекту/SAM_3273.JPG"/>
          <p:cNvPicPr/>
          <p:nvPr/>
        </p:nvPicPr>
        <p:blipFill>
          <a:blip r:embed=""/>
          <a:stretch/>
        </p:blipFill>
        <p:spPr>
          <a:xfrm>
            <a:off x="484200" y="1619280"/>
            <a:ext cx="826452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 говоришь, что летом  - благод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ой сама я это понимаю,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только с рук усталость не снима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времени мне летом отдыхать..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806480" y="2828880"/>
            <a:ext cx="5572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64d4d"/>
                </a:solidFill>
                <a:latin typeface="Times New Roman"/>
              </a:rPr>
              <a:t>Чурилина И. Е. Всю жизнь посвятила детям — воспитатель в детском саду. Добрая , отзывчивая, любит родную прир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ile:///C:/Documents and Settings/Владимир/Рабочий стол/к проекту/SAM_3189.JPG"/>
          <p:cNvPicPr/>
          <p:nvPr/>
        </p:nvPicPr>
        <p:blipFill>
          <a:blip r:embed=""/>
          <a:stretch/>
        </p:blipFill>
        <p:spPr>
          <a:xfrm>
            <a:off x="179280" y="2160720"/>
            <a:ext cx="918072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68360" y="2852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55640" y="6381720"/>
            <a:ext cx="33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54360"/>
            <a:ext cx="7007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Гордость нашего района :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лотников А. Л., Андрющенко Н. П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23520" y="2038320"/>
            <a:ext cx="700740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le:///C:/Documents and Settings/Владимир/Рабочий стол/к проекту/SAM_3264.JPG"/>
          <p:cNvPicPr/>
          <p:nvPr/>
        </p:nvPicPr>
        <p:blipFill>
          <a:blip r:embed=""/>
          <a:stretch/>
        </p:blipFill>
        <p:spPr>
          <a:xfrm>
            <a:off x="720720" y="1979640"/>
            <a:ext cx="80805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-54360"/>
            <a:ext cx="7007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ечатные издания наших поэтов - земляко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23520" y="2038320"/>
            <a:ext cx="700740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file:///C:/Documents and Settings/Владимир/Рабочий стол/к проекту/SAM_3283.JPG"/>
          <p:cNvPicPr/>
          <p:nvPr/>
        </p:nvPicPr>
        <p:blipFill>
          <a:blip r:embed=""/>
          <a:stretch/>
        </p:blipFill>
        <p:spPr>
          <a:xfrm>
            <a:off x="108000" y="2952720"/>
            <a:ext cx="5886360" cy="380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ile:///C:/Documents and Settings/Владимир/Рабочий стол/к проекту/SAM_3284.JPG"/>
          <p:cNvPicPr/>
          <p:nvPr/>
        </p:nvPicPr>
        <p:blipFill>
          <a:blip r:embed=""/>
          <a:stretch/>
        </p:blipFill>
        <p:spPr>
          <a:xfrm>
            <a:off x="5400720" y="3498840"/>
            <a:ext cx="5056200" cy="326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file:///C:/Documents and Settings/Владимир/Рабочий стол/к проекту/SAM_3286.JPG"/>
          <p:cNvPicPr/>
          <p:nvPr/>
        </p:nvPicPr>
        <p:blipFill>
          <a:blip r:embed=""/>
          <a:stretch/>
        </p:blipFill>
        <p:spPr>
          <a:xfrm>
            <a:off x="5040360" y="1440000"/>
            <a:ext cx="37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file:///C:/Documents and Settings/Владимир/Рабочий стол/к проекту/SAM_3289.JPG"/>
          <p:cNvPicPr/>
          <p:nvPr/>
        </p:nvPicPr>
        <p:blipFill>
          <a:blip r:embed=""/>
          <a:stretch/>
        </p:blipFill>
        <p:spPr>
          <a:xfrm>
            <a:off x="360360" y="1800360"/>
            <a:ext cx="43196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403280" y="387360"/>
            <a:ext cx="7010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кации в районной газете «Даниловские вест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file:///C:/Documents and Settings/Владимир/Рабочий стол/к проекту/SAM_3267.JPG"/>
          <p:cNvPicPr/>
          <p:nvPr/>
        </p:nvPicPr>
        <p:blipFill>
          <a:blip r:embed=""/>
          <a:stretch/>
        </p:blipFill>
        <p:spPr>
          <a:xfrm>
            <a:off x="31680" y="3060720"/>
            <a:ext cx="5727600" cy="380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ile:///C:/Documents and Settings/Владимир/Рабочий стол/к проекту/SAM_3268.JPG"/>
          <p:cNvPicPr/>
          <p:nvPr/>
        </p:nvPicPr>
        <p:blipFill>
          <a:blip r:embed=""/>
          <a:stretch/>
        </p:blipFill>
        <p:spPr>
          <a:xfrm>
            <a:off x="4680000" y="3959280"/>
            <a:ext cx="4319640" cy="2909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ile:///C:/Documents and Settings/Владимир/Рабочий стол/к проекту/SAM_3270.JPG"/>
          <p:cNvPicPr/>
          <p:nvPr/>
        </p:nvPicPr>
        <p:blipFill>
          <a:blip r:embed=""/>
          <a:stretch/>
        </p:blipFill>
        <p:spPr>
          <a:xfrm>
            <a:off x="3963960" y="1260360"/>
            <a:ext cx="4856040" cy="288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ile:///C:/Documents and Settings/Владимир/Рабочий стол/к проекту/SAM_3271.JPG"/>
          <p:cNvPicPr/>
          <p:nvPr/>
        </p:nvPicPr>
        <p:blipFill>
          <a:blip r:embed=""/>
          <a:stretch/>
        </p:blipFill>
        <p:spPr>
          <a:xfrm>
            <a:off x="0" y="1619280"/>
            <a:ext cx="5219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ель книги о поэтах — земляках «Земли моей живые родники» Носаева Г.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file:///C:/Documents and Settings/Владимир/Рабочий стол/к проекту/SAM_3292.JPG"/>
          <p:cNvPicPr/>
          <p:nvPr/>
        </p:nvPicPr>
        <p:blipFill>
          <a:blip r:embed=""/>
          <a:stretch/>
        </p:blipFill>
        <p:spPr>
          <a:xfrm>
            <a:off x="71280" y="1440000"/>
            <a:ext cx="89964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-38520"/>
            <a:ext cx="70070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Молодые поэты — наша гордость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64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сленко 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муренко 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городнева 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сминский 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хомова 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3440" y="1905120"/>
            <a:ext cx="3419280" cy="58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file:///C:/Documents and Settings/Владимир/Рабочий стол/к проекту/медведица.jpeg"/>
          <p:cNvPicPr/>
          <p:nvPr/>
        </p:nvPicPr>
        <p:blipFill>
          <a:blip r:embed=""/>
          <a:stretch/>
        </p:blipFill>
        <p:spPr>
          <a:xfrm>
            <a:off x="4680000" y="1619280"/>
            <a:ext cx="44956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523880" y="639720"/>
            <a:ext cx="701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ущая тема — Родина, родная при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520" y="-103680"/>
            <a:ext cx="70074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64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ня родина туманами встрет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ождями скупыми всплакн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я тихо приду на рассете, сердце будто сожмется , замрет.( Тисленко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3440" y="1905120"/>
            <a:ext cx="3419280" cy="58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4859280" y="1800360"/>
            <a:ext cx="414036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523880" y="620640"/>
            <a:ext cx="701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-100080"/>
            <a:ext cx="7007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Результаты работы над проектом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комились с поэтами родного кр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ли собирать бесценный поэтический материал поэтов- земля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общились к культуре родной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обрели навыки исследовательской проектн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547640" y="8366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Font typeface="Wingdings" charset="2"/>
              <a:buChar char="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ополагающая идея рабо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ЕМ ЛИ МЫ ТВОРЧЕСТВО ПОЭТОВ РОДНОГО КР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file:///C:/Documents and Settings/Владимир/Рабочий стол/к проекту/SAM_1499.JPG"/>
          <p:cNvPicPr/>
          <p:nvPr/>
        </p:nvPicPr>
        <p:blipFill>
          <a:blip r:embed=""/>
          <a:stretch/>
        </p:blipFill>
        <p:spPr>
          <a:xfrm>
            <a:off x="1979640" y="2879640"/>
            <a:ext cx="665964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-100080"/>
            <a:ext cx="7007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ерспективный план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робно познакомиться и изучить творчество талантливых поэтов Даниловского кр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ить  в следующем учебном году  творческий отчет о проделанной работе по сбору матери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ой проект считать долгосроч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-54360"/>
            <a:ext cx="70041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ша творческая групп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0416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емушкина Дар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умчева Анаста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вченко Ма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хирова Ю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лодкова Людми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нисова Ал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шкова Александ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шкина Д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spcBef>
                <a:spcPts val="751"/>
              </a:spcBef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spcBef>
                <a:spcPts val="751"/>
              </a:spcBef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040" indent="-552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ководители проекта: Гордиенко А. Н., Романова И. В., учителя русского языка и литера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70027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Руководители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027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диенко А.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манова И.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укова Н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476360" y="333360"/>
            <a:ext cx="7010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комление с  творчеством поэтов родного края,развитие интереса к поэзии о  родной земле Даниловской, воспитание любви к малой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ть изучать творческое наследие поэтов - земляков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рать поэтический материал о поэтах Данилов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ить ведущую тему поэтов родного к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зать богатство нашего района тала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чувства гордости за свою малую род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ление и изучение печатных материалов поэтов - земля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тизация исследуемого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Wingdings" charset="2"/>
              <a:buChar char="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на основании полученной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74640" y="2135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ы Даниловского райо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file:///C:/Documents and Settings/Владимир/Рабочий стол/к проекту/SAM_3181.JPG"/>
          <p:cNvPicPr/>
          <p:nvPr/>
        </p:nvPicPr>
        <p:blipFill>
          <a:blip r:embed=""/>
          <a:stretch/>
        </p:blipFill>
        <p:spPr>
          <a:xfrm>
            <a:off x="5219640" y="4500720"/>
            <a:ext cx="3944880" cy="23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ile:///C:/Documents and Settings/Владимир/Рабочий стол/к проекту/SAM_3265.JPG"/>
          <p:cNvPicPr/>
          <p:nvPr/>
        </p:nvPicPr>
        <p:blipFill>
          <a:blip r:embed=""/>
          <a:stretch/>
        </p:blipFill>
        <p:spPr>
          <a:xfrm>
            <a:off x="0" y="0"/>
            <a:ext cx="3959280" cy="251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ile:///C:/Documents and Settings/Владимир/Рабочий стол/к проекту/DSCN0682.JPG"/>
          <p:cNvPicPr/>
          <p:nvPr/>
        </p:nvPicPr>
        <p:blipFill>
          <a:blip r:embed=""/>
          <a:stretch/>
        </p:blipFill>
        <p:spPr>
          <a:xfrm>
            <a:off x="5759280" y="19080"/>
            <a:ext cx="3403800" cy="268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file:///C:/Documents and Settings/Владимир/Рабочий стол/к проекту/SAM_3264.JPG"/>
          <p:cNvPicPr/>
          <p:nvPr/>
        </p:nvPicPr>
        <p:blipFill>
          <a:blip r:embed=""/>
          <a:stretch/>
        </p:blipFill>
        <p:spPr>
          <a:xfrm>
            <a:off x="20520" y="4680000"/>
            <a:ext cx="465948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523880" y="-52560"/>
            <a:ext cx="7008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ический клуб       «Медведиц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1905120"/>
            <a:ext cx="342756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ашева А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ханова В. 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нковая В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тников А. 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селева Л. 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юшкин Н. 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роцкая Г. 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ровская Л.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шкин А.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103720" y="1905120"/>
            <a:ext cx="34290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ноградов В.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обоева В. 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ченкина В. 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натовская Т.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ных Л. 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умакова Л. 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городнева 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сленко 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иков А. 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ile:///C:/Documents and Settings/Владимир/Рабочий стол/к проекту/DSCN0677.JPG"/>
          <p:cNvPicPr/>
          <p:nvPr/>
        </p:nvPicPr>
        <p:blipFill>
          <a:blip r:embed=""/>
          <a:stretch/>
        </p:blipFill>
        <p:spPr>
          <a:xfrm>
            <a:off x="20520" y="347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ile:///C:/Documents and Settings/Владимир/Рабочий стол/к проекту/DSCN0676.JPG"/>
          <p:cNvPicPr/>
          <p:nvPr/>
        </p:nvPicPr>
        <p:blipFill>
          <a:blip r:embed=""/>
          <a:stretch/>
        </p:blipFill>
        <p:spPr>
          <a:xfrm>
            <a:off x="-142920" y="-17640"/>
            <a:ext cx="9286920" cy="703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file:///C:/Documents and Settings/Владимир/Рабочий стол/к проекту/DSCN0678.JPG"/>
          <p:cNvPicPr/>
          <p:nvPr/>
        </p:nvPicPr>
        <p:blipFill>
          <a:blip r:embed=""/>
          <a:stretch/>
        </p:blipFill>
        <p:spPr>
          <a:xfrm>
            <a:off x="20520" y="347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Черных Людмила Борисовна родилась  13.04.1955 г. в р. п. Даниловка. Любовь к поэзии привила любимая учительница Терновая Е. В. Две дочери, двое внуков. Любит поэзию, природу, жизн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24400" cy="47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file:///C:/Documents and Settings/Владимир/Рабочий стол/к проекту/DSCN0682.JPG"/>
          <p:cNvPicPr/>
          <p:nvPr/>
        </p:nvPicPr>
        <p:blipFill>
          <a:blip r:embed=""/>
          <a:stretch/>
        </p:blipFill>
        <p:spPr>
          <a:xfrm>
            <a:off x="828720" y="1619280"/>
            <a:ext cx="8083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547640" y="404640"/>
            <a:ext cx="734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ашева А. П. Родилась в ноябре 1946 года. Работает учителем иностранного  языка в Даниловской СОШ им. А. С. Макаренко.Творческая, инициативная, надежный и мудрый наставник, ценитель  ввсего прекрас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3419640" cy="34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ile:///C:/Documents and Settings/Владимир/Рабочий стол/к проекту/SAM_3265.JPG"/>
          <p:cNvPicPr/>
          <p:nvPr/>
        </p:nvPicPr>
        <p:blipFill>
          <a:blip r:embed=""/>
          <a:stretch/>
        </p:blipFill>
        <p:spPr>
          <a:xfrm>
            <a:off x="863640" y="2519280"/>
            <a:ext cx="7559640" cy="41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6:17:07Z</dcterms:created>
  <dc:creator>XXL</dc:creator>
  <dc:description/>
  <dc:language>en-US</dc:language>
  <cp:lastModifiedBy>user132858</cp:lastModifiedBy>
  <dcterms:modified xsi:type="dcterms:W3CDTF">2018-11-19T08:42:50Z</dcterms:modified>
  <cp:revision>81</cp:revision>
  <dc:subject/>
  <dc:title>Поэт – земляк, Евгений Витальевич Фейерабенд.</dc:title>
</cp:coreProperties>
</file>