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866-94A8-4A47-AEA5-40530BA4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1CE-B16F-4E35-99EF-B2BB8F6F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F9D-CCFE-4F12-BC8C-DB59AD11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67E-0FF2-4273-BB17-6E669D56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637-96EC-474A-8781-0FBA1EC5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8E2-DE0B-44A3-8B9C-811258CD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3C6-9E26-477E-8403-AC2DC30A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E1E-2B42-4B49-8415-664A9B36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772-C751-4E85-BA64-B2F1160D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D24-3CAF-4381-AD26-FFB09D2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C2B-1771-48C1-A4EA-7A813DFC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3F7-085D-46AC-BB21-53D0EAF5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FD0A-8EE4-4905-B9D0-83A2F9021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прогре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537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рифмет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рифметической прогрессией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называется последовательность, каждый член которой, начиная со второго, получается прибавление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 предыдущему одного и того же числа. (называемого разностью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i="1" lang="en-US" sz="4000" spc="-1" strike="noStrike" baseline="-25000">
                <a:solidFill>
                  <a:srgbClr val="000099"/>
                </a:solidFill>
                <a:latin typeface="Arial"/>
              </a:rPr>
              <a:t>n</a:t>
            </a:r>
            <a:r>
              <a:rPr b="1" i="1" lang="ru-RU" sz="4000" spc="-1" strike="noStrike" baseline="-25000">
                <a:solidFill>
                  <a:srgbClr val="000099"/>
                </a:solidFill>
                <a:latin typeface="Arial"/>
              </a:rPr>
              <a:t>+1</a:t>
            </a:r>
            <a:r>
              <a:rPr b="1" i="1" lang="en-US" sz="4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i="1" lang="en-US" sz="4000" spc="-1" strike="noStrike" baseline="-25000">
                <a:solidFill>
                  <a:srgbClr val="000099"/>
                </a:solidFill>
                <a:latin typeface="Arial"/>
              </a:rPr>
              <a:t>n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+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i="1" lang="en-US" sz="4000" spc="-1" strike="noStrike" baseline="-25000">
                <a:solidFill>
                  <a:srgbClr val="000099"/>
                </a:solidFill>
                <a:latin typeface="Arial"/>
              </a:rPr>
              <a:t>n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i="1" lang="ru-RU" sz="40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d(n –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1640" y="1052280"/>
            <a:ext cx="4429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Геометр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Геометрической прогрессией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 называется последовательность, каждый член которой, начиная со второго, равен предыдущему члену, умноженному на одно и то же не равное нулю число. (называемого знаменателе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2.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Arial"/>
              </a:rPr>
              <a:t>n</a:t>
            </a:r>
            <a:r>
              <a:rPr b="1" i="1" lang="ru-RU" sz="4000" spc="-1" strike="noStrike" baseline="-25000">
                <a:solidFill>
                  <a:srgbClr val="ff0066"/>
                </a:solidFill>
                <a:latin typeface="Arial"/>
              </a:rPr>
              <a:t>+1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b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Arial"/>
              </a:rPr>
              <a:t>n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∙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.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Arial"/>
              </a:rPr>
              <a:t>n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= b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∙ q</a:t>
            </a:r>
            <a:r>
              <a:rPr b="1" i="1" lang="en-US" sz="40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n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07920"/>
            <a:ext cx="0" cy="595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ЯМБ</a:t>
            </a:r>
            <a:br>
              <a:rPr sz="36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«Мой дядя самых честных правил»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; 4; 6; 8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ХОРЕЙ</a:t>
            </a:r>
            <a:br>
              <a:rPr sz="36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« Буря мглою небо кроет»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; 3; 5; 7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7:54:08Z</dcterms:created>
  <dc:creator>информатика</dc:creator>
  <dc:description/>
  <dc:language>en-US</dc:language>
  <cp:lastModifiedBy>информатика</cp:lastModifiedBy>
  <dcterms:modified xsi:type="dcterms:W3CDTF">2009-02-22T11:52:20Z</dcterms:modified>
  <cp:revision>4</cp:revision>
  <dc:subject/>
  <dc:title>прогрессии</dc:title>
</cp:coreProperties>
</file>