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24.png" ContentType="image/png"/>
  <Override PartName="/ppt/media/image21.gif" ContentType="image/gif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437B-F3E2-406F-BBE1-91E83E50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ADB4-6444-46EB-B574-A5A3A766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1B23-0100-4617-B2E5-39F63B35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00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032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00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032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F261-D0AE-4B4C-8554-E537531B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6914-1BC5-4939-9295-7DFB2CBE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D680-820C-4279-8BBB-D23E9BB4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4F60-CE32-47B0-BE9E-CAF1A161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7739-1EAE-4223-8EF0-D7B849CF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0599-BDA2-4CCE-9362-12A9131D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69F2-5F2A-4E25-B9EA-2C8F8123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1349-0E78-486A-B647-230CBE2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CBBA-C31E-475A-8DF4-21EADA5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5FC1-A067-4DFE-BE2D-B796F70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5813-42DD-4306-B0F3-CB3151F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D188-3C38-4127-B784-33E638C7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47D8-07CA-4EB4-9AD3-AA2B157B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800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5032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9800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5032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CA9F-E007-4DC7-8FA7-BE3A5D98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A24D-0DBA-46E3-AEE8-D91D91BE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09EA-67EC-41DA-A8DE-F58EB14C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3980-FB38-4BE5-A379-237A9C4C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81C9-E226-4F41-8EFE-000C76A0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8AF3-A6A0-47BF-9453-55C93E7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A975-5585-4583-8ED5-1B6AB124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1F65-47AC-4FEB-8799-2A79CAA3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51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3960" y="0"/>
            <a:ext cx="9147960" cy="1676520"/>
            <a:chOff x="-3960" y="0"/>
            <a:chExt cx="9147960" cy="16765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 rot="930000">
              <a:off x="76320" y="130680"/>
              <a:ext cx="86184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0D4-9220-4DED-BFC8-74D03B8B6B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rcRect l="0" t="0" r="-15" b="77"/>
          <a:stretch/>
        </p:blipFill>
        <p:spPr>
          <a:xfrm>
            <a:off x="6781680" y="5543640"/>
            <a:ext cx="221004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68360"/>
            <a:ext cx="8245440" cy="54896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0"/>
            <a:ext cx="9144000" cy="2971800"/>
            <a:chOff x="0" y="0"/>
            <a:chExt cx="9144000" cy="29718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5334120" y="0"/>
              <a:ext cx="1361880" cy="108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3C4B-49CE-4A99-A27E-D5B2A20DB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8bf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if-kartinki.ru/27/love_147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llforchildren.ru/pictures/showimg/house/house121gif.htm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allforchildren.ru/pictures/showimg/house/house127gif.htm" TargetMode="External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207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Кузембае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82436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Рахимо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189080"/>
            <a:ext cx="820908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844640"/>
            <a:ext cx="2989440" cy="424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3744720" cy="249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14591" t="0" r="13625" b="63081"/>
          <a:stretch/>
        </p:blipFill>
        <p:spPr>
          <a:xfrm>
            <a:off x="250920" y="1197000"/>
            <a:ext cx="4608360" cy="2133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5376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нинг «Брачное объявление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13616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узыкальная пауз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48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гда без страсти и без дела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цветно дни мои текли, 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на как буря налетела  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унесла меня с земли. 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на меня лишила веры 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вдохновение зажгла, 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ла мне счастие без меры      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слезы, слезы без числа..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ухими, жесткими словам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рзала сердце мне пор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хохотала над слезами,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издевалась над тоской;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 иногда горячим словом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взором ласковых очей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нала печаль, – и в блеск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ово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душе светилася моей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все забыл, дышу лишь ею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сю жизнь я отдал ей в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лас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лагословить ее не смею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не могу ее проклясть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А.Апухтин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496872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й дом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700280"/>
            <a:ext cx="150048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413000"/>
            <a:ext cx="1495440" cy="201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826920" y="4149720"/>
            <a:ext cx="36007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156360" y="1557360"/>
            <a:ext cx="2232000" cy="194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003640" y="3789360"/>
            <a:ext cx="1962360" cy="2160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1875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10920" y="3284640"/>
            <a:ext cx="70102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важного, полезного вы для себя возьмёте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сегодня стало для вас открытием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дем ли мы продолжать такую работу в дальнейш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гадайте пословицы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42920" y="3357720"/>
            <a:ext cx="7849800" cy="688680"/>
            <a:chOff x="1042920" y="3357720"/>
            <a:chExt cx="7849800" cy="688680"/>
          </a:xfrm>
        </p:grpSpPr>
        <p:sp>
          <p:nvSpPr>
            <p:cNvPr id="99" name=""/>
            <p:cNvSpPr/>
            <p:nvPr/>
          </p:nvSpPr>
          <p:spPr>
            <a:xfrm>
              <a:off x="1042920" y="3357720"/>
              <a:ext cx="7849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8a0b3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062000" y="3378960"/>
              <a:ext cx="7820640" cy="636840"/>
              <a:chOff x="1062000" y="3378960"/>
              <a:chExt cx="7820640" cy="636840"/>
            </a:xfrm>
          </p:grpSpPr>
          <p:sp>
            <p:nvSpPr>
              <p:cNvPr id="101" name=""/>
              <p:cNvSpPr/>
              <p:nvPr/>
            </p:nvSpPr>
            <p:spPr>
              <a:xfrm>
                <a:off x="1062000" y="3850920"/>
                <a:ext cx="7820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2000" y="3378960"/>
                <a:ext cx="7820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042920" y="2421000"/>
            <a:ext cx="7921440" cy="689040"/>
            <a:chOff x="1042920" y="2421000"/>
            <a:chExt cx="7921440" cy="689040"/>
          </a:xfrm>
        </p:grpSpPr>
        <p:sp>
          <p:nvSpPr>
            <p:cNvPr id="104" name=""/>
            <p:cNvSpPr/>
            <p:nvPr/>
          </p:nvSpPr>
          <p:spPr>
            <a:xfrm>
              <a:off x="1042920" y="2421000"/>
              <a:ext cx="792144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b61cb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062360" y="2442240"/>
              <a:ext cx="7891920" cy="636840"/>
              <a:chOff x="1062360" y="2442240"/>
              <a:chExt cx="7891920" cy="636840"/>
            </a:xfrm>
          </p:grpSpPr>
          <p:sp>
            <p:nvSpPr>
              <p:cNvPr id="106" name=""/>
              <p:cNvSpPr/>
              <p:nvPr/>
            </p:nvSpPr>
            <p:spPr>
              <a:xfrm>
                <a:off x="1062360" y="2914200"/>
                <a:ext cx="7891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62360" y="2442240"/>
                <a:ext cx="7891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611280" y="249228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СТЮАРИБОС ЙЕН К ЕСВ, ОДНОЛОХ КАК: АКЧЕП – ЯЬМ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72" b="-250"/>
          <a:stretch/>
        </p:blipFill>
        <p:spPr>
          <a:xfrm>
            <a:off x="324000" y="32846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172" b="-250"/>
          <a:stretch/>
        </p:blipFill>
        <p:spPr>
          <a:xfrm>
            <a:off x="324000" y="2349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242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357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5280" y="3500280"/>
            <a:ext cx="65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 ЫДЖУН И КАТ, ТЕВОС АД ЬВОБЮЛ ЕЬМЕС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79640" y="2564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ья – печка: как холодно, все к ней собирают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72480" y="349920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мье любовь да совет, так и нужды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609640"/>
            <a:ext cx="51148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емья – это великий дар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– это великий дар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- это то, что мы делим на всех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понемножку: и слёзы и смех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злёт и падение, радость, печаль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ружбу и ссоры, молчанья печать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– это то, что с тобою всегда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усть мчатся секунды, недели, года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 стены родные, отчий твой дом 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рдце навеки останется в нём!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мья Перейма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72948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Уренбасаро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5656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Тарасо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9764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Шамардин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Мельни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6945480" cy="520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59:33Z</dcterms:created>
  <dc:creator>Марина</dc:creator>
  <dc:description>http://propowerpoint.ru - Áåñïëàòíûå øàáëîíû äëÿ ïðåçåíòàöèé. Ïîëåçíûå ñîâåòû è óðîêè  
PowerPoint .</dc:description>
  <dc:language>en-US</dc:language>
  <cp:lastModifiedBy>Марина</cp:lastModifiedBy>
  <dcterms:modified xsi:type="dcterms:W3CDTF">2018-03-15T15:24:17Z</dcterms:modified>
  <cp:revision>11</cp:revision>
  <dc:subject/>
  <dc:title>ThemeGallery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1c0000000000010243100207f6000400038000</vt:lpwstr>
  </property>
</Properties>
</file>