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24.png" ContentType="image/png"/>
  <Override PartName="/ppt/media/image21.gif" ContentType="image/gif"/>
  <Override PartName="/ppt/media/image1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51751-D742-4CC7-A619-DE54F92C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701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628080"/>
            <a:ext cx="701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973A2-780D-4963-81C9-E5203B7F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0192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62808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01920" y="362808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A30D3-C268-4C2A-B93E-76C12B3E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980080" y="342900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50320" y="342900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62808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980080" y="362808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350320" y="362808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6B498-6B58-419D-AD71-949C1444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604E-434E-4B65-8421-5504FF7A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480" y="3429000"/>
            <a:ext cx="7010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EEED-31C0-42CF-807D-166C2CC6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7010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7912-3602-4FA0-AE34-673AFEC6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3421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01920" y="3429000"/>
            <a:ext cx="3421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F79C-0915-48D7-953E-C9C53359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5DB1-9368-4994-B88A-D1866A78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480" y="26665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179D-B2AE-4D8B-BEE8-EC985CFE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01920" y="3429000"/>
            <a:ext cx="3421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62808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D763-C812-4922-BFD4-4FF4FEAA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3429000"/>
            <a:ext cx="7010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18477-1294-44B4-8EA3-FF76443E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3421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0192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201920" y="362808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AD73-BFB1-4D8A-9FCE-4931ACE1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0192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3628080"/>
            <a:ext cx="701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1D32-3444-48FB-8F12-3DD465CE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701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9480" y="3628080"/>
            <a:ext cx="701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A99D-291A-4DDD-A4B0-8A47FF0D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0192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62808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201920" y="362808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F7CC-190D-48A3-B9BA-4F2D7B6E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80080" y="342900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50320" y="342900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09480" y="362808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2980080" y="362808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350320" y="362808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7B78-F153-4ACD-A652-7915CE9F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7010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6D042-FAB3-4799-80D5-42CCA401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3421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01920" y="3429000"/>
            <a:ext cx="3421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DE956-9A0F-4A32-B7B1-D744FF12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E8C68-3DA0-4A27-B587-640916C4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09480" y="26665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8DDDC-2BF4-4FF2-965D-BC4177A2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01920" y="3429000"/>
            <a:ext cx="3421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62808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DF028-B361-417D-A3A4-F005E2C7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3421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0192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01920" y="362808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C5151-A647-40EE-96B0-B1F4B655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0192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28080"/>
            <a:ext cx="701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D1300-7470-46DD-AF98-B5EDADFB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718320"/>
            <a:ext cx="9144000" cy="139680"/>
          </a:xfrm>
          <a:prstGeom prst="rect">
            <a:avLst/>
          </a:prstGeom>
          <a:solidFill>
            <a:srgbClr val="519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3960" y="0"/>
            <a:ext cx="9147960" cy="1676520"/>
            <a:chOff x="-3960" y="0"/>
            <a:chExt cx="9147960" cy="1676520"/>
          </a:xfrm>
        </p:grpSpPr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8086680" y="0"/>
              <a:ext cx="1057320" cy="11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4"/>
            <a:stretch/>
          </p:blipFill>
          <p:spPr>
            <a:xfrm rot="930000">
              <a:off x="76320" y="130680"/>
              <a:ext cx="861840" cy="71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C12D-385B-42DB-BD84-959D092408E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5"/>
          <a:srcRect l="0" t="0" r="-15" b="77"/>
          <a:stretch/>
        </p:blipFill>
        <p:spPr>
          <a:xfrm>
            <a:off x="6781680" y="5543640"/>
            <a:ext cx="2210040" cy="13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368360"/>
            <a:ext cx="8245440" cy="548964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0" y="0"/>
            <a:ext cx="9144000" cy="2971800"/>
            <a:chOff x="0" y="0"/>
            <a:chExt cx="9144000" cy="297180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4"/>
            <a:stretch/>
          </p:blipFill>
          <p:spPr>
            <a:xfrm>
              <a:off x="5334120" y="0"/>
              <a:ext cx="1361880" cy="108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762120" y="914400"/>
            <a:ext cx="866520" cy="533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ftr" idx="4"/>
          </p:nvPr>
        </p:nvSpPr>
        <p:spPr>
          <a:xfrm>
            <a:off x="759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5"/>
          </p:nvPr>
        </p:nvSpPr>
        <p:spPr>
          <a:xfrm>
            <a:off x="48769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8534520" y="655272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8E86-F2A7-412E-B66D-369A23823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67480" y="152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8bf1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gif-kartinki.ru/27/love_147.jpg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llforchildren.ru/pictures/showimg/house/house121gif.htm" TargetMode="External"/><Relationship Id="rId2" Type="http://schemas.openxmlformats.org/officeDocument/2006/relationships/image" Target="../media/image22.png"/><Relationship Id="rId3" Type="http://schemas.openxmlformats.org/officeDocument/2006/relationships/hyperlink" Target="http://allforchildren.ru/pictures/showimg/house/house127gif.htm" TargetMode="External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915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дравствуйте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2078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емья Кузембаевы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4824360" cy="45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емья Рахимовы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9640" y="1189080"/>
            <a:ext cx="8209080" cy="45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1844640"/>
            <a:ext cx="2989440" cy="4248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3744720" cy="2490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rcRect l="14591" t="0" r="13625" b="63081"/>
          <a:stretch/>
        </p:blipFill>
        <p:spPr>
          <a:xfrm>
            <a:off x="250920" y="1197000"/>
            <a:ext cx="4608360" cy="21337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5376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енинг «Брачное объявление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831708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136166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узыкальная пауз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483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гда без страсти и без дела        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цветно дни мои текли,           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на как буря налетела                  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унесла меня с земли.                 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на меня лишила веры                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вдохновение зажгла,                 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ала мне счастие без меры                      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слезы, слезы без числа...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ухими, жесткими словам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ерзала сердце мне порой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хохотала над слезами,   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издевалась над тоской; 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 иногда горячим словом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взором ласковых очей 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нала печаль, – и в блеск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овом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душе светилася моей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Я все забыл, дышу лишь ею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сю жизнь я отдал ей во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ласть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лагословить ее не смею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не могу ее проклясть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(А.Апухтин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780000" y="1628640"/>
            <a:ext cx="4968720" cy="30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ой дом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700280"/>
            <a:ext cx="1500480" cy="1800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1413000"/>
            <a:ext cx="1495440" cy="2016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826920" y="4149720"/>
            <a:ext cx="3600720" cy="1440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6156360" y="1557360"/>
            <a:ext cx="2232000" cy="1949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5003640" y="3789360"/>
            <a:ext cx="1962360" cy="2160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831708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18758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0106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пасибо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10920" y="3284640"/>
            <a:ext cx="70102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то важного, полезного вы для себя возьмёте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то сегодня стало для вас открытием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удем ли мы продолжать такую работу в дальнейшем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тгадайте пословицы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042920" y="3357720"/>
            <a:ext cx="7849800" cy="688680"/>
            <a:chOff x="1042920" y="3357720"/>
            <a:chExt cx="7849800" cy="688680"/>
          </a:xfrm>
        </p:grpSpPr>
        <p:sp>
          <p:nvSpPr>
            <p:cNvPr id="99" name=""/>
            <p:cNvSpPr/>
            <p:nvPr/>
          </p:nvSpPr>
          <p:spPr>
            <a:xfrm>
              <a:off x="1042920" y="3357720"/>
              <a:ext cx="7849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8a0b3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062000" y="3378960"/>
              <a:ext cx="7820640" cy="636840"/>
              <a:chOff x="1062000" y="3378960"/>
              <a:chExt cx="7820640" cy="636840"/>
            </a:xfrm>
          </p:grpSpPr>
          <p:sp>
            <p:nvSpPr>
              <p:cNvPr id="101" name=""/>
              <p:cNvSpPr/>
              <p:nvPr/>
            </p:nvSpPr>
            <p:spPr>
              <a:xfrm>
                <a:off x="1062000" y="3850920"/>
                <a:ext cx="7820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062000" y="3378960"/>
                <a:ext cx="7820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1042920" y="2421000"/>
            <a:ext cx="7921440" cy="689040"/>
            <a:chOff x="1042920" y="2421000"/>
            <a:chExt cx="7921440" cy="689040"/>
          </a:xfrm>
        </p:grpSpPr>
        <p:sp>
          <p:nvSpPr>
            <p:cNvPr id="104" name=""/>
            <p:cNvSpPr/>
            <p:nvPr/>
          </p:nvSpPr>
          <p:spPr>
            <a:xfrm>
              <a:off x="1042920" y="2421000"/>
              <a:ext cx="792144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b61cb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1062360" y="2442240"/>
              <a:ext cx="7891920" cy="636840"/>
              <a:chOff x="1062360" y="2442240"/>
              <a:chExt cx="7891920" cy="636840"/>
            </a:xfrm>
          </p:grpSpPr>
          <p:sp>
            <p:nvSpPr>
              <p:cNvPr id="106" name=""/>
              <p:cNvSpPr/>
              <p:nvPr/>
            </p:nvSpPr>
            <p:spPr>
              <a:xfrm>
                <a:off x="1062360" y="2914200"/>
                <a:ext cx="78919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062360" y="2442240"/>
                <a:ext cx="789192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"/>
          <p:cNvSpPr/>
          <p:nvPr/>
        </p:nvSpPr>
        <p:spPr>
          <a:xfrm>
            <a:off x="611280" y="2492280"/>
            <a:ext cx="82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СТЮАРИБОС ЙЕН К ЕСВ, ОДНОЛОХ КАК: АКЧЕП – ЯЬМ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172" b="-250"/>
          <a:stretch/>
        </p:blipFill>
        <p:spPr>
          <a:xfrm>
            <a:off x="324000" y="32846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0" t="0" r="172" b="-250"/>
          <a:stretch/>
        </p:blipFill>
        <p:spPr>
          <a:xfrm>
            <a:off x="324000" y="234936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11280" y="2421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3357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65320" y="4282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75280" y="3500280"/>
            <a:ext cx="65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Н ЫДЖУН И КАТ, ТЕВОС АД ЬВОБЮЛ ЕЬМЕС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79640" y="2564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ья – печка: как холодно, все к ней собираютс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72480" y="3499200"/>
            <a:ext cx="67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емье любовь да совет, так и нужды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609640"/>
            <a:ext cx="51148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51944e"/>
                </a:solidFill>
                <a:latin typeface="Arial"/>
              </a:rPr>
              <a:t> </a:t>
            </a:r>
            <a:br>
              <a:rPr sz="31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емья – это великий дар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94920" y="83664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емья – это великий дар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емья- это то, что мы делим на всех,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сем понемножку: и слёзы и смех,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злёт и падение, радость, печаль,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ружбу и ссоры, молчанья печать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емья – это то, что с тобою всегда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усть мчатся секунды, недели, года,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 стены родные, отчий твой дом 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ердце навеки останется в нём!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емья Перейма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729480" cy="50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емья Уренбасаровы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756560" cy="51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емья Тарасовы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397640" cy="55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емья Шамардины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емья Мельник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6945480" cy="520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59:33Z</dcterms:created>
  <dc:creator>Марина</dc:creator>
  <dc:description>http://propowerpoint.ru - Áåñïëàòíûå øàáëîíû äëÿ ïðåçåíòàöèé. Ïîëåçíûå ñîâåòû è óðîêè  
PowerPoint .</dc:description>
  <dc:language>en-US</dc:language>
  <cp:lastModifiedBy>Марина</cp:lastModifiedBy>
  <dcterms:modified xsi:type="dcterms:W3CDTF">2018-03-15T15:24:17Z</dcterms:modified>
  <cp:revision>11</cp:revision>
  <dc:subject/>
  <dc:title>ThemeGallery 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e1c0000000000010243100207f6000400038000</vt:lpwstr>
  </property>
</Properties>
</file>