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525-8006-47D5-A8F0-70FF7FEE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2583-6BF6-4F0A-935F-B8532D8F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E547-BABB-4C23-9588-127A5413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7A4-283D-4753-8333-B9310C14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853B-1FC8-4206-971F-3A93F0AB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ABB8-D431-46AA-8F6C-2FCA551D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283D-0BDF-4E4A-8B0D-32329036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8773-6EB4-49FF-8C11-E0EEDE5B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D8CB-BE9C-4C47-82F9-23EAD76E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3599-FC55-4A56-94D0-546541FC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E3CB-4B38-4994-AB93-88539F78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F7A-557C-4086-B179-BDC2C1ED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25E2-6033-4AC6-9248-2AAF3653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7CE1-7D61-4356-B41D-D799CF3E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B793-B902-41DE-A931-DFED840F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5096-4BC2-4860-8BEA-BEE4F8C0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EBA2-8F24-4717-9C16-BA1A1092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84CBF-32FE-47D6-8E4C-D7831B2A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1AD63-3A9C-4B01-B58B-9C298F31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E8E76-10C2-42A0-949E-537A4F45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A8378-8720-45FA-8A51-6D4BD817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41E78-CDB4-4E4B-A84E-198B76CC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A7B-7FA8-40BD-A13C-7D278102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3F9B7-6F26-49D3-9E7B-1DB07FFA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0745C-410D-44C5-A06C-21005EB5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04111-02E9-400E-99EE-32ED48A9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5348F-5965-4425-A3DC-3CD657BA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EE2B5-4401-426D-A458-0F0D424D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09B0F-EEAF-40C3-8B6C-B70029CE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C5273-BC5D-4A19-9886-318C4B73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176AA-DEAA-4F85-8AE0-FD1D709C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A9B1D-D464-458E-BD81-003973FA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8B871-A135-4A9A-BA80-EE1755FA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A4A-733C-49F5-903C-835D46A1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0C565-8A9F-4198-B230-52C7EDCA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AC5A0-4032-4D9E-93F8-B42FC511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59DBD-E48B-4C4E-A848-7F7AC152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39480-5B63-46C7-B883-23358DA9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AF431-C68F-4C56-9A5F-085DC687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45CCD-9134-4F14-BE6A-2BCD672A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BAF65-0AF8-42B1-899C-69FD8819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B0295-9D82-4F03-81DE-A5A67FB3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2C284-00B6-468A-8029-AFB91555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E7BD2-009E-4CCE-BB15-1932805E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41CF-65F3-43A8-8A8E-BF5DE301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83CE4-6FDE-489D-B1E8-AC0B1F1B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5656A-4D1D-451B-9AC2-407AB3B2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3FEC0-4757-4779-B416-C828869D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015E5-4D6E-45A9-8CB5-B62FF08E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DD28D-471D-4E00-8D81-0FAB12E9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B6399-F0FA-46DA-B163-E1DD2F35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55441-9518-4568-A214-6836D3E3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D77A2-C0A1-4294-961F-0F9CBFBD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A7FF7-42F3-4A7F-AB5B-CF22B8DD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802B9-7BDB-4321-8922-0912379C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E38D-7A4E-431C-83C8-FBC610CF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7E189-6273-45AA-873F-DA7238A0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75D-711E-43F0-90C1-C44F3670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5B1-4977-442D-BDBB-92F3768C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66A3-7E0C-438E-8A66-EB861829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0342-3258-473D-9199-6D67B240B810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0BCA-8B93-48D7-9DB5-0B7625114ECC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A6DA-4D1A-44F3-B42E-198CDE0AE317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5C42-4E90-4ADC-A80A-D5ECBA0A728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E771-226A-468D-9403-4DE7260CFFB9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324000" y="1052640"/>
            <a:ext cx="734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Власть должна принадлежать лучшим, избранным особам, на которых возлагается огромная ответственность и которые сами возлагают на себя огромные обязанност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. Бердя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5510160" y="4559400"/>
            <a:ext cx="3633840" cy="2298600"/>
          </a:xfrm>
          <a:prstGeom prst="rect">
            <a:avLst/>
          </a:prstGeom>
          <a:ln w="0">
            <a:noFill/>
          </a:ln>
        </p:spPr>
      </p:pic>
      <p:grpSp>
        <p:nvGrpSpPr>
          <p:cNvPr id="257" name="Рамка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58" name="Рамка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Прямоугольник 8"/>
          <p:cNvSpPr/>
          <p:nvPr/>
        </p:nvSpPr>
        <p:spPr>
          <a:xfrm>
            <a:off x="324000" y="333360"/>
            <a:ext cx="856908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Избирательный бюллетень сильнее пул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Линкольн (1809-1865), президент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https://im3-tub-ru.yandex.net/i?id=a7ae9aa6e9d76c8815ad8bf63dc4d7e1-l&amp;n=13"/>
          <p:cNvPicPr/>
          <p:nvPr/>
        </p:nvPicPr>
        <p:blipFill>
          <a:blip r:embed="rId1"/>
          <a:stretch/>
        </p:blipFill>
        <p:spPr>
          <a:xfrm>
            <a:off x="-17640" y="33480"/>
            <a:ext cx="4445280" cy="3416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https://im2-tub-ru.yandex.net/i?id=def1d1ec4fa09b7492b6022584719a56-l&amp;n=13"/>
          <p:cNvPicPr/>
          <p:nvPr/>
        </p:nvPicPr>
        <p:blipFill>
          <a:blip r:embed="rId2"/>
          <a:stretch/>
        </p:blipFill>
        <p:spPr>
          <a:xfrm>
            <a:off x="4788000" y="33480"/>
            <a:ext cx="4032000" cy="3416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https://im1-tub-ru.yandex.net/i?id=fc83fb7b2be606f64abb41a412956963-l&amp;n=13"/>
          <p:cNvPicPr/>
          <p:nvPr/>
        </p:nvPicPr>
        <p:blipFill>
          <a:blip r:embed="rId3"/>
          <a:stretch/>
        </p:blipFill>
        <p:spPr>
          <a:xfrm>
            <a:off x="0" y="3262320"/>
            <a:ext cx="4427640" cy="3595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https://im2-tub-ru.yandex.net/i?id=0e98c0681c7a355b3f00b47d78d5e7b8-l&amp;n=13"/>
          <p:cNvPicPr/>
          <p:nvPr/>
        </p:nvPicPr>
        <p:blipFill>
          <a:blip r:embed="rId4"/>
          <a:stretch/>
        </p:blipFill>
        <p:spPr>
          <a:xfrm>
            <a:off x="4543560" y="3573360"/>
            <a:ext cx="44672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Рамка 1"/>
          <p:cNvGrpSpPr/>
          <p:nvPr/>
        </p:nvGrpSpPr>
        <p:grpSpPr>
          <a:xfrm>
            <a:off x="0" y="-23760"/>
            <a:ext cx="9144000" cy="6912000"/>
            <a:chOff x="0" y="-23760"/>
            <a:chExt cx="9144000" cy="6912000"/>
          </a:xfrm>
        </p:grpSpPr>
        <p:pic>
          <p:nvPicPr>
            <p:cNvPr id="226" name="Рамка 1" descr=""/>
            <p:cNvPicPr/>
            <p:nvPr/>
          </p:nvPicPr>
          <p:blipFill>
            <a:blip r:embed="rId1"/>
            <a:stretch/>
          </p:blipFill>
          <p:spPr>
            <a:xfrm>
              <a:off x="0" y="-23760"/>
              <a:ext cx="9144000" cy="69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09440" y="87480"/>
              <a:ext cx="8925120" cy="66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Прямоугольник 5"/>
          <p:cNvSpPr/>
          <p:nvPr/>
        </p:nvSpPr>
        <p:spPr>
          <a:xfrm>
            <a:off x="4003560" y="1593720"/>
            <a:ext cx="3521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Прямоугольник 3" descr=""/>
          <p:cNvPicPr/>
          <p:nvPr/>
        </p:nvPicPr>
        <p:blipFill>
          <a:blip r:embed="rId2"/>
          <a:stretch/>
        </p:blipFill>
        <p:spPr>
          <a:xfrm>
            <a:off x="3273480" y="2335320"/>
            <a:ext cx="5572080" cy="1322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://er-voskresensk.ru/upload/iblock/cea/200xNxtw_logo_2.png.pagespeed.ic.rjYXJCo_C_.jpg"/>
          <p:cNvPicPr/>
          <p:nvPr/>
        </p:nvPicPr>
        <p:blipFill>
          <a:blip r:embed="rId3"/>
          <a:stretch/>
        </p:blipFill>
        <p:spPr>
          <a:xfrm>
            <a:off x="155520" y="150840"/>
            <a:ext cx="3121200" cy="3281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http://finugor.ru/sites/finugor.ru/files/imce/vybory_urna.jpg"/>
          <p:cNvPicPr/>
          <p:nvPr/>
        </p:nvPicPr>
        <p:blipFill>
          <a:blip r:embed="rId4"/>
          <a:stretch/>
        </p:blipFill>
        <p:spPr>
          <a:xfrm>
            <a:off x="1341360" y="3789360"/>
            <a:ext cx="6461280" cy="28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Рамка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Рамка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Прямоугольник 9"/>
          <p:cNvSpPr/>
          <p:nvPr/>
        </p:nvSpPr>
        <p:spPr>
          <a:xfrm>
            <a:off x="250920" y="1989000"/>
            <a:ext cx="851364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нципы демократических выбор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общность выборов (участвовать в выборах могут  все гражда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нцип равенства (каждый избиратель имеет только 1 голо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ямое избирательное право (избиратель голосует за избираемого кандида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йное голосование (исключается давл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ьтернативность (выбирать из нескольких кандида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мократичность (народ, на определенный срок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https://im1-tub-ru.yandex.net/i?id=a153feb91786f19b22bda44fa1ccbd91-l&amp;n=13"/>
          <p:cNvPicPr/>
          <p:nvPr/>
        </p:nvPicPr>
        <p:blipFill>
          <a:blip r:embed="rId2"/>
          <a:stretch/>
        </p:blipFill>
        <p:spPr>
          <a:xfrm>
            <a:off x="339840" y="189000"/>
            <a:ext cx="3481200" cy="1727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http://volbusiness.ru/assets/cache/images/news/news_05.10.2015/500x-vibori.cbe.jpg"/>
          <p:cNvPicPr/>
          <p:nvPr/>
        </p:nvPicPr>
        <p:blipFill>
          <a:blip r:embed="rId3"/>
          <a:stretch/>
        </p:blipFill>
        <p:spPr>
          <a:xfrm>
            <a:off x="5435640" y="0"/>
            <a:ext cx="201600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1071720" y="4287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SimSun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SimSun"/>
              </a:rPr>
              <a:t>Типы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SimSun"/>
              </a:rPr>
              <a:t>избирательных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"/>
          <p:cNvSpPr/>
          <p:nvPr/>
        </p:nvSpPr>
        <p:spPr>
          <a:xfrm flipH="1">
            <a:off x="2284200" y="1071720"/>
            <a:ext cx="87156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"/>
          <p:cNvSpPr/>
          <p:nvPr/>
        </p:nvSpPr>
        <p:spPr>
          <a:xfrm>
            <a:off x="5500800" y="1071720"/>
            <a:ext cx="78588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1000080" y="1357200"/>
            <a:ext cx="39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609dd"/>
                </a:solidFill>
                <a:latin typeface="Times New Roman"/>
                <a:ea typeface="SimSun"/>
              </a:rPr>
              <a:t>Мажоритар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 (Беларусь,  Англия, Франция, Япо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5429160" y="1428840"/>
            <a:ext cx="3238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609dd"/>
                </a:solidFill>
                <a:latin typeface="Times New Roman"/>
                <a:ea typeface="SimSun"/>
              </a:rPr>
              <a:t>Пропорциональ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Россия (ГД), Италия, Израиль, Швейцария, Нидерланды, Чех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"/>
          <p:cNvSpPr/>
          <p:nvPr/>
        </p:nvSpPr>
        <p:spPr>
          <a:xfrm>
            <a:off x="3786120" y="2643120"/>
            <a:ext cx="582840" cy="6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 flipH="1">
            <a:off x="1426680" y="2643120"/>
            <a:ext cx="64620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285840" y="328608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Абсолютного больш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(Австрал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2786040" y="3357720"/>
            <a:ext cx="258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Относительного больш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(США, Канада, Инд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214200" y="528624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609dd"/>
                </a:solidFill>
                <a:latin typeface="Times New Roman"/>
                <a:ea typeface="SimSun"/>
              </a:rPr>
              <a:t>Смешан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- основана на принципах мажоритарной и пропорциональной систем. (Франция, Италия, Польш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468360" y="836640"/>
            <a:ext cx="638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тапы избирательной кампа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о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движение и регистрация кандид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выборная аги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лосование и подведение итогов выб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076720" y="4292640"/>
            <a:ext cx="363240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7"/>
          <p:cNvSpPr/>
          <p:nvPr/>
        </p:nvSpPr>
        <p:spPr>
          <a:xfrm>
            <a:off x="468360" y="1143000"/>
            <a:ext cx="799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22, документ, терм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№1,2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7"/>
          <p:cNvSpPr/>
          <p:nvPr/>
        </p:nvSpPr>
        <p:spPr>
          <a:xfrm>
            <a:off x="468360" y="1143000"/>
            <a:ext cx="79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 ли я голосов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https://g-a.d-cd.net/3eccb52s-960.jpg"/>
          <p:cNvPicPr/>
          <p:nvPr/>
        </p:nvPicPr>
        <p:blipFill>
          <a:blip r:embed="rId1"/>
          <a:stretch/>
        </p:blipFill>
        <p:spPr>
          <a:xfrm>
            <a:off x="971640" y="2637000"/>
            <a:ext cx="614988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5"/>
          <p:cNvSpPr/>
          <p:nvPr/>
        </p:nvSpPr>
        <p:spPr>
          <a:xfrm>
            <a:off x="193680" y="1697760"/>
            <a:ext cx="30099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Мажоритар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Пропорциональная сист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3059280" y="404640"/>
            <a:ext cx="5305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) Голосование проводится за кандидатов, представленных списками от политических пар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2) Победитель в каждом округе определяется по большинству набранных голо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3) Как правило, вводится избирательный барьер для прохождения партий в парла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4) Избиратели голосуют прежде всего за личности кандид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332000" y="5445000"/>
          <a:ext cx="6095880" cy="11430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7T11:14:46Z</dcterms:created>
  <dc:creator>МАИНА</dc:creator>
  <dc:description/>
  <dc:language>en-US</dc:language>
  <cp:lastModifiedBy>zenlarpc@gmail.com</cp:lastModifiedBy>
  <cp:lastPrinted>2017-03-04T13:27:11Z</cp:lastPrinted>
  <dcterms:modified xsi:type="dcterms:W3CDTF">2022-03-17T13:07:55Z</dcterms:modified>
  <cp:revision>47</cp:revision>
  <dc:subject/>
  <dc:title>Презентация PowerPoint</dc:title>
</cp:coreProperties>
</file>