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8.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9.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png" ContentType="image/png"/>
  <Override PartName="/ppt/media/image2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960F-6060-430C-9F63-202D346FBF7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559C-6D3B-4AC0-8BC3-09E59ED0E54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C879-9F04-41CD-9F53-26CA15CF77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C6C2-93FE-40B1-9557-067BE5682D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D7A1-6A33-4EE9-9A6D-27A490905C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571A-4D38-4EFD-8EDA-B9083F1EC0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9CBE-E746-4B4C-9310-2DD36B2315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FB2F-9DC0-4094-A82A-A0A72879B2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0D76-D6F6-4514-9556-FF47CAB344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313E-76A8-4390-AADB-E8423957CE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5DEF-9C40-4E4A-89C7-8C004ECAFC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D7FD-C197-4B5E-A5E5-A63966702E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2218-7D14-495C-AED7-952F9A6D24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60ACC-0C0A-47D1-80A1-7FBD2546CF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3C7511-5227-46B3-A944-9D9BB30434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6B4F2A-2BA2-4CB1-A557-991EDD2D0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ABF4B-DCC3-48BB-A2D9-65F12A742C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8378E-0793-4D8A-9313-C5CF983D7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D1EE5-B526-4998-B534-563576443C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606E15-D0B7-4B1B-A16F-14F02F914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760A91-434A-4E3F-9579-9FF5FDD9A2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3FDE44-ECEE-41E5-B0B4-31AB6A4818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1FD651-54BE-445D-AD73-596534EEB9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F94CD-F858-4439-A094-01A5B66A74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FCAFFD-4BDA-4935-B21A-6361DC060E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282C93-E7B9-42E7-AE92-8A5D281C4B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2C8A98-6671-4B41-940D-F6B7079843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CC9EF-0A57-400D-859B-FD377455C8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57712B-9C02-469B-BC25-D3AD99F51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FCFDE-54BB-4C8B-B8E4-EBF91F1A4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07D9A-E215-476B-B3D5-A05E1D0176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4F84DC-18C3-43D3-9192-1971E7D91B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E457E1-3F4C-4490-9870-45B374A34D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2630E4-8942-4DC1-AC14-EA8D3128E9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4C91FC-EEF1-4CA1-98CA-45290F3B73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C655B9-3EA9-4932-A596-79C8707D92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81A270-379D-432F-A81D-63890E933A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F00032-8106-4518-9D67-670F09AB15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F09001-B88F-47CA-BE82-C4423398AD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567A5A-4AB2-4649-B701-65038667E4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A590EB-4DE3-451C-901B-AD8272D326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FC3B5A-2179-4E8B-86D0-47E6219AE9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CCC797-D034-45B2-B4EF-D7C8B86913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2027D-9E3D-42DB-B53A-CA92085DB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B3B77C-585E-4A84-8422-A95AB9A0A7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0DEAF9-DC11-4AB1-9D17-ACADAE1F9B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6B5C82-9651-4DAB-A399-13C7440C30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CDE970-30A6-4B85-A537-4F01AFB91D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31F000-AF63-4CD4-9F34-74BD27ADDD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6E635F-DBB7-4A4A-B669-0E4D1E3E75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2D68B0-4AEB-46E7-9036-F733B35788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1DEA94-7168-420D-AA49-CB771853D7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A3C5B0-23B9-4656-BA16-41B1CE0BB4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2912C9-D800-4D6E-A1B4-CAFE36F4AD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BE92-40C4-4167-B606-C37ECBCEA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189A9A-B3C3-4618-9A95-1C3A8FE16E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F84619-3C66-41CB-A242-73F98BA83E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3AE439-F9E6-414C-8051-ACCA090BF9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B7B5E3-4233-4BA3-89FD-6BDE3798DB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C2B3F8-A3DF-480A-BACA-55A2DFBC1B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D36C8-8CFC-4841-B59F-FE3BDE3D9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7AB0-897A-4686-BEFB-F00097C6E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0B1DB-AA67-4496-87B5-0CF82D40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71386-7CF5-4D3D-9F3C-2C095416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5F86-C010-4578-BF2B-E5D45D3CB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02E4-D6DF-4F13-992F-32515CA2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D610-B220-4630-B25E-49F45764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6201-D4CD-437E-9DD7-3992C4A88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E6408-E89F-4EA7-A8F5-78A673835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47884-135F-4D45-9B3B-BE530882C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6D728-38E6-4629-A843-F2EEDE057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56D75-E1AD-4A27-B256-AC3939301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4A917-4F47-4779-A1E7-3BDB63D8A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765DF-E73A-4558-8648-DB2499BE9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E4BFA-11D3-4C82-BEB4-88FA00067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D3413-BA23-44E4-95D1-DFABC6228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06ABD-943B-4F66-8FCE-A6E46DD2D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1F86A-5ED5-46F0-B075-4BB3BE75A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E45E7-34DB-4C17-B25B-5320801DD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7AFA4-F472-4065-B11F-2CB4A411D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D4EB2-8E09-4038-95FE-0F2946FE0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A4E73-CD1B-4B56-9333-01E94F132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280452-A771-470A-87AF-3A9DBDBA4C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E993F-7796-47FB-934C-B8901364D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B46B5-DCC2-4A00-8DF3-2ECB9A060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30D3D-7266-4E3B-8485-ADC3B27C8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A3138-FE89-43DD-BCD6-ACF4EA56E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0AE77-480E-43C7-8264-E179023EB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B727F-8873-4BFB-BF9C-DB449CF36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37AFE-76A5-4331-98B8-E4737812C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F98EB-07BD-40D7-A676-30608DAD5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4D7544-0C43-4B6C-B0FB-76ADA3370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87588-4F34-4BB9-B128-804DF40C8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FF4A8-BAC5-4895-B404-4374F53947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BE5B05-22B0-4166-A397-9E07359FF0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7A164-2CB1-4D33-A2A2-0FF0034DB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AD117D-7B90-44A4-B79F-57A6A7857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A9495-42D9-45D8-A486-0295377F8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87AB7-0820-45A5-82D9-4DA598FE46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E21DA-75BC-48B4-8C81-8F5B97C05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DF3DE-D764-4C07-ADC5-5EF9CCAA3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26384-946E-4400-9E8F-954E80EB3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4909F-8929-4502-8034-187B1B02E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FD9FD0-F008-47DC-8FD3-1B5786E411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5EF1B-BA8C-4B5D-9249-C78C79A3C7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31298-CCA4-44E4-865C-240C8EA076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9FCA67-8F57-4E19-9355-2EB0F45F31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1DF38-8E75-4CC9-848E-339AB8D2A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E6087-C608-4574-AF8A-13A670B6E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9CF3B-D101-44F2-941B-5137EE88A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2DCF4-9659-4D9E-81B1-E10F96E9A3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C287B-2519-4F4E-9897-51DD4C7EF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03DBC-B2BB-42B2-BB9B-E887E4158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0219C-3373-4B67-81CC-1A9093C24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B64E0-D85D-4D5E-9547-0DCC42C8A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0A1F8-6E63-4ABA-B853-35C46DCC9C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6266B3-22FD-4CAC-97B1-633C990521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777530-FA63-4A1C-9B6A-F4485DBC20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3AB6F9-DBAF-4DA7-B07D-49432536D6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DB43E-156C-4B5A-8EF9-64099B2255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7D25BD-D5E4-4144-99F7-074A1B84C2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3071A-3012-4859-A7F5-8FCB0CE19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590FB5-FE9E-46DE-8103-BFA8EB5A9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3A377E-A964-446B-9BC4-58E96A353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F49F5-BFF3-4C5C-A53A-E20FE9551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56D45-E7FC-47C9-830F-C7C66CA7F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976F6-45DA-4D68-A96B-A5D8CCB55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6ADC1-9AC8-406C-AEAF-E0C13DC06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04FE70-8350-499E-A28A-0A3C9D53CE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4DF4E0-2E3B-4D45-A645-5EDA1A6AAB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C05E9E-04D3-436D-AAB8-CEF7EF41DD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824A7-91DD-47DE-BB36-463B00DE0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B39F3-EA59-47AB-A5C6-6FCC4CEE0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DF98A-16F0-4EAB-B99A-56EDD270C9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0B925-2743-4C4C-BDCA-09674420B7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E8681E-039D-4214-B767-E5E567505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59503D-B759-4235-AB1F-984F07EF3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02301-764D-4121-8834-BA6613173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60958-1EA0-46BA-9513-586F1F1B6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AD9921-1C25-4222-99B5-C76B7564BB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A14528-F6DA-4C78-832D-A828E5349A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8A5C54-6FFA-43B5-9412-DB2CF5735E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3256D1-D8DD-40C3-87CB-163D6C6EDE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528CC-2593-4EDB-A2F5-F980227577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14D38E-CBA2-41C7-B892-76D3640BA1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1"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Прямоугольник 15"/>
          <p:cNvGrpSpPr/>
          <p:nvPr/>
        </p:nvGrpSpPr>
        <p:grpSpPr>
          <a:xfrm>
            <a:off x="-1279440" y="55440"/>
            <a:ext cx="11702880" cy="7772400"/>
            <a:chOff x="-1279440" y="55440"/>
            <a:chExt cx="11702880" cy="7772400"/>
          </a:xfrm>
        </p:grpSpPr>
        <p:pic>
          <p:nvPicPr>
            <p:cNvPr id="3" name="Прямоугольник 15" descr=""/>
            <p:cNvPicPr/>
            <p:nvPr/>
          </p:nvPicPr>
          <p:blipFill>
            <a:blip r:embed="rId5"/>
            <a:stretch/>
          </p:blipFill>
          <p:spPr>
            <a:xfrm>
              <a:off x="-1279440" y="55440"/>
              <a:ext cx="11702880" cy="7772400"/>
            </a:xfrm>
            <a:prstGeom prst="rect">
              <a:avLst/>
            </a:prstGeom>
            <a:ln w="0">
              <a:noFill/>
            </a:ln>
          </p:spPr>
        </p:pic>
        <p:sp>
          <p:nvSpPr>
            <p:cNvPr id="4"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4"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405"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Прямоугольник 15"/>
          <p:cNvGrpSpPr/>
          <p:nvPr/>
        </p:nvGrpSpPr>
        <p:grpSpPr>
          <a:xfrm>
            <a:off x="-1279440" y="55440"/>
            <a:ext cx="11702880" cy="7772400"/>
            <a:chOff x="-1279440" y="55440"/>
            <a:chExt cx="11702880" cy="7772400"/>
          </a:xfrm>
        </p:grpSpPr>
        <p:pic>
          <p:nvPicPr>
            <p:cNvPr id="407" name="Прямоугольник 15" descr=""/>
            <p:cNvPicPr/>
            <p:nvPr/>
          </p:nvPicPr>
          <p:blipFill>
            <a:blip r:embed="rId5"/>
            <a:stretch/>
          </p:blipFill>
          <p:spPr>
            <a:xfrm>
              <a:off x="-1279440" y="55440"/>
              <a:ext cx="11702880" cy="7772400"/>
            </a:xfrm>
            <a:prstGeom prst="rect">
              <a:avLst/>
            </a:prstGeom>
            <a:ln w="0">
              <a:noFill/>
            </a:ln>
          </p:spPr>
        </p:pic>
        <p:sp>
          <p:nvSpPr>
            <p:cNvPr id="408"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41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1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2EBE-5440-4EB5-8AAB-0A46557E0B90}"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9"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450"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Прямоугольник 15"/>
          <p:cNvGrpSpPr/>
          <p:nvPr/>
        </p:nvGrpSpPr>
        <p:grpSpPr>
          <a:xfrm>
            <a:off x="-1279440" y="55440"/>
            <a:ext cx="11702880" cy="7772400"/>
            <a:chOff x="-1279440" y="55440"/>
            <a:chExt cx="11702880" cy="7772400"/>
          </a:xfrm>
        </p:grpSpPr>
        <p:pic>
          <p:nvPicPr>
            <p:cNvPr id="452" name="Прямоугольник 15" descr=""/>
            <p:cNvPicPr/>
            <p:nvPr/>
          </p:nvPicPr>
          <p:blipFill>
            <a:blip r:embed="rId5"/>
            <a:stretch/>
          </p:blipFill>
          <p:spPr>
            <a:xfrm>
              <a:off x="-1279440" y="55440"/>
              <a:ext cx="11702880" cy="7772400"/>
            </a:xfrm>
            <a:prstGeom prst="rect">
              <a:avLst/>
            </a:prstGeom>
            <a:ln w="0">
              <a:noFill/>
            </a:ln>
          </p:spPr>
        </p:pic>
        <p:sp>
          <p:nvSpPr>
            <p:cNvPr id="453"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45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5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BE95-DA6D-4118-90FC-E9E8C048695F}"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4"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495"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Прямоугольник 15"/>
          <p:cNvGrpSpPr/>
          <p:nvPr/>
        </p:nvGrpSpPr>
        <p:grpSpPr>
          <a:xfrm>
            <a:off x="-1279440" y="55440"/>
            <a:ext cx="11702880" cy="7772400"/>
            <a:chOff x="-1279440" y="55440"/>
            <a:chExt cx="11702880" cy="7772400"/>
          </a:xfrm>
        </p:grpSpPr>
        <p:pic>
          <p:nvPicPr>
            <p:cNvPr id="497" name="Прямоугольник 15" descr=""/>
            <p:cNvPicPr/>
            <p:nvPr/>
          </p:nvPicPr>
          <p:blipFill>
            <a:blip r:embed="rId5"/>
            <a:stretch/>
          </p:blipFill>
          <p:spPr>
            <a:xfrm>
              <a:off x="-1279440" y="55440"/>
              <a:ext cx="11702880" cy="7772400"/>
            </a:xfrm>
            <a:prstGeom prst="rect">
              <a:avLst/>
            </a:prstGeom>
            <a:ln w="0">
              <a:noFill/>
            </a:ln>
          </p:spPr>
        </p:pic>
        <p:sp>
          <p:nvSpPr>
            <p:cNvPr id="498"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500"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501"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593B-32A8-437E-BB8B-7B32BA1BBC73}"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43"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Прямоугольник 15"/>
          <p:cNvGrpSpPr/>
          <p:nvPr/>
        </p:nvGrpSpPr>
        <p:grpSpPr>
          <a:xfrm>
            <a:off x="-1279440" y="55440"/>
            <a:ext cx="11702880" cy="7772400"/>
            <a:chOff x="-1279440" y="55440"/>
            <a:chExt cx="11702880" cy="7772400"/>
          </a:xfrm>
        </p:grpSpPr>
        <p:pic>
          <p:nvPicPr>
            <p:cNvPr id="45" name="Прямоугольник 15" descr=""/>
            <p:cNvPicPr/>
            <p:nvPr/>
          </p:nvPicPr>
          <p:blipFill>
            <a:blip r:embed="rId5"/>
            <a:stretch/>
          </p:blipFill>
          <p:spPr>
            <a:xfrm>
              <a:off x="-1279440" y="55440"/>
              <a:ext cx="11702880" cy="7772400"/>
            </a:xfrm>
            <a:prstGeom prst="rect">
              <a:avLst/>
            </a:prstGeom>
            <a:ln w="0">
              <a:noFill/>
            </a:ln>
          </p:spPr>
        </p:pic>
        <p:sp>
          <p:nvSpPr>
            <p:cNvPr id="46"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48"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9"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CCFD-213E-49AD-A7AF-DC498BFA10BA}"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88"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Прямоугольник 15"/>
          <p:cNvGrpSpPr/>
          <p:nvPr/>
        </p:nvGrpSpPr>
        <p:grpSpPr>
          <a:xfrm>
            <a:off x="-1279440" y="55440"/>
            <a:ext cx="11702880" cy="7772400"/>
            <a:chOff x="-1279440" y="55440"/>
            <a:chExt cx="11702880" cy="7772400"/>
          </a:xfrm>
        </p:grpSpPr>
        <p:pic>
          <p:nvPicPr>
            <p:cNvPr id="90" name="Прямоугольник 15" descr=""/>
            <p:cNvPicPr/>
            <p:nvPr/>
          </p:nvPicPr>
          <p:blipFill>
            <a:blip r:embed="rId5"/>
            <a:stretch/>
          </p:blipFill>
          <p:spPr>
            <a:xfrm>
              <a:off x="-1279440" y="55440"/>
              <a:ext cx="11702880" cy="7772400"/>
            </a:xfrm>
            <a:prstGeom prst="rect">
              <a:avLst/>
            </a:prstGeom>
            <a:ln w="0">
              <a:noFill/>
            </a:ln>
          </p:spPr>
        </p:pic>
        <p:sp>
          <p:nvSpPr>
            <p:cNvPr id="91"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9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9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416D-C0F8-459B-A982-322EAD784E0A}"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2"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133"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Прямоугольник 15"/>
          <p:cNvGrpSpPr/>
          <p:nvPr/>
        </p:nvGrpSpPr>
        <p:grpSpPr>
          <a:xfrm>
            <a:off x="-1279440" y="55440"/>
            <a:ext cx="11702880" cy="7772400"/>
            <a:chOff x="-1279440" y="55440"/>
            <a:chExt cx="11702880" cy="7772400"/>
          </a:xfrm>
        </p:grpSpPr>
        <p:pic>
          <p:nvPicPr>
            <p:cNvPr id="135" name="Прямоугольник 15" descr=""/>
            <p:cNvPicPr/>
            <p:nvPr/>
          </p:nvPicPr>
          <p:blipFill>
            <a:blip r:embed="rId5"/>
            <a:stretch/>
          </p:blipFill>
          <p:spPr>
            <a:xfrm>
              <a:off x="-1279440" y="55440"/>
              <a:ext cx="11702880" cy="7772400"/>
            </a:xfrm>
            <a:prstGeom prst="rect">
              <a:avLst/>
            </a:prstGeom>
            <a:ln w="0">
              <a:noFill/>
            </a:ln>
          </p:spPr>
        </p:pic>
        <p:sp>
          <p:nvSpPr>
            <p:cNvPr id="136"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13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3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16F5-2564-459E-9F91-A3FFC940E770}"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7"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178"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Прямоугольник 15"/>
          <p:cNvGrpSpPr/>
          <p:nvPr/>
        </p:nvGrpSpPr>
        <p:grpSpPr>
          <a:xfrm>
            <a:off x="-1279440" y="55440"/>
            <a:ext cx="11702880" cy="7772400"/>
            <a:chOff x="-1279440" y="55440"/>
            <a:chExt cx="11702880" cy="7772400"/>
          </a:xfrm>
        </p:grpSpPr>
        <p:pic>
          <p:nvPicPr>
            <p:cNvPr id="180" name="Прямоугольник 15" descr=""/>
            <p:cNvPicPr/>
            <p:nvPr/>
          </p:nvPicPr>
          <p:blipFill>
            <a:blip r:embed="rId5"/>
            <a:stretch/>
          </p:blipFill>
          <p:spPr>
            <a:xfrm>
              <a:off x="-1279440" y="55440"/>
              <a:ext cx="11702880" cy="7772400"/>
            </a:xfrm>
            <a:prstGeom prst="rect">
              <a:avLst/>
            </a:prstGeom>
            <a:ln w="0">
              <a:noFill/>
            </a:ln>
          </p:spPr>
        </p:pic>
        <p:sp>
          <p:nvSpPr>
            <p:cNvPr id="181"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18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8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0F9B-0E8A-4526-8A03-FD6B00A49C0A}"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223"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Прямоугольник 15"/>
          <p:cNvGrpSpPr/>
          <p:nvPr/>
        </p:nvGrpSpPr>
        <p:grpSpPr>
          <a:xfrm>
            <a:off x="-1279440" y="55440"/>
            <a:ext cx="11702880" cy="7772400"/>
            <a:chOff x="-1279440" y="55440"/>
            <a:chExt cx="11702880" cy="7772400"/>
          </a:xfrm>
        </p:grpSpPr>
        <p:pic>
          <p:nvPicPr>
            <p:cNvPr id="225" name="Прямоугольник 15" descr=""/>
            <p:cNvPicPr/>
            <p:nvPr/>
          </p:nvPicPr>
          <p:blipFill>
            <a:blip r:embed="rId5"/>
            <a:stretch/>
          </p:blipFill>
          <p:spPr>
            <a:xfrm>
              <a:off x="-1279440" y="55440"/>
              <a:ext cx="11702880" cy="7772400"/>
            </a:xfrm>
            <a:prstGeom prst="rect">
              <a:avLst/>
            </a:prstGeom>
            <a:ln w="0">
              <a:noFill/>
            </a:ln>
          </p:spPr>
        </p:pic>
        <p:sp>
          <p:nvSpPr>
            <p:cNvPr id="226"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228"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29"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34CB-2695-4741-ACE2-FF20BE0EDCE1}"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23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9"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270"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Прямоугольник 15"/>
          <p:cNvGrpSpPr/>
          <p:nvPr/>
        </p:nvGrpSpPr>
        <p:grpSpPr>
          <a:xfrm>
            <a:off x="-1279440" y="55440"/>
            <a:ext cx="11702880" cy="7772400"/>
            <a:chOff x="-1279440" y="55440"/>
            <a:chExt cx="11702880" cy="7772400"/>
          </a:xfrm>
        </p:grpSpPr>
        <p:pic>
          <p:nvPicPr>
            <p:cNvPr id="272" name="Прямоугольник 15" descr=""/>
            <p:cNvPicPr/>
            <p:nvPr/>
          </p:nvPicPr>
          <p:blipFill>
            <a:blip r:embed="rId5"/>
            <a:stretch/>
          </p:blipFill>
          <p:spPr>
            <a:xfrm>
              <a:off x="-1279440" y="55440"/>
              <a:ext cx="11702880" cy="7772400"/>
            </a:xfrm>
            <a:prstGeom prst="rect">
              <a:avLst/>
            </a:prstGeom>
            <a:ln w="0">
              <a:noFill/>
            </a:ln>
          </p:spPr>
        </p:pic>
        <p:sp>
          <p:nvSpPr>
            <p:cNvPr id="273"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27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2C3A-6828-42D8-B09B-C3131C214A9C}"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315"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Прямоугольник 15"/>
          <p:cNvGrpSpPr/>
          <p:nvPr/>
        </p:nvGrpSpPr>
        <p:grpSpPr>
          <a:xfrm>
            <a:off x="-1279440" y="55440"/>
            <a:ext cx="11702880" cy="7772400"/>
            <a:chOff x="-1279440" y="55440"/>
            <a:chExt cx="11702880" cy="7772400"/>
          </a:xfrm>
        </p:grpSpPr>
        <p:pic>
          <p:nvPicPr>
            <p:cNvPr id="317" name="Прямоугольник 15" descr=""/>
            <p:cNvPicPr/>
            <p:nvPr/>
          </p:nvPicPr>
          <p:blipFill>
            <a:blip r:embed="rId5"/>
            <a:stretch/>
          </p:blipFill>
          <p:spPr>
            <a:xfrm>
              <a:off x="-1279440" y="55440"/>
              <a:ext cx="11702880" cy="7772400"/>
            </a:xfrm>
            <a:prstGeom prst="rect">
              <a:avLst/>
            </a:prstGeom>
            <a:ln w="0">
              <a:noFill/>
            </a:ln>
          </p:spPr>
        </p:pic>
        <p:sp>
          <p:nvSpPr>
            <p:cNvPr id="318"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32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2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C377-7DEB-4D28-95EE-BBB7FA336055}"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9" name="Рисунок 12" descr="Рисунок2.png"/>
          <p:cNvPicPr/>
          <p:nvPr/>
        </p:nvPicPr>
        <p:blipFill>
          <a:blip r:embed="rId3"/>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360" name="Прямоугольник 14"/>
          <p:cNvSpPr/>
          <p:nvPr/>
        </p:nvSpPr>
        <p:spPr>
          <a:xfrm>
            <a:off x="0" y="6572160"/>
            <a:ext cx="9144000" cy="285840"/>
          </a:xfrm>
          <a:prstGeom prst="rect">
            <a:avLst/>
          </a:prstGeom>
          <a:blipFill rotWithShape="0">
            <a:blip r:embed="rId4"/>
            <a:srcRect/>
            <a:stretch/>
          </a:blipFill>
          <a:ln w="25560">
            <a:solidFill>
              <a:srgbClr val="385d8a"/>
            </a:solidFill>
            <a:miter/>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Прямоугольник 15"/>
          <p:cNvGrpSpPr/>
          <p:nvPr/>
        </p:nvGrpSpPr>
        <p:grpSpPr>
          <a:xfrm>
            <a:off x="-1279440" y="55440"/>
            <a:ext cx="11702880" cy="7772400"/>
            <a:chOff x="-1279440" y="55440"/>
            <a:chExt cx="11702880" cy="7772400"/>
          </a:xfrm>
        </p:grpSpPr>
        <p:pic>
          <p:nvPicPr>
            <p:cNvPr id="362" name="Прямоугольник 15" descr=""/>
            <p:cNvPicPr/>
            <p:nvPr/>
          </p:nvPicPr>
          <p:blipFill>
            <a:blip r:embed="rId5"/>
            <a:stretch/>
          </p:blipFill>
          <p:spPr>
            <a:xfrm>
              <a:off x="-1279440" y="55440"/>
              <a:ext cx="11702880" cy="7772400"/>
            </a:xfrm>
            <a:prstGeom prst="rect">
              <a:avLst/>
            </a:prstGeom>
            <a:ln w="0">
              <a:noFill/>
            </a:ln>
          </p:spPr>
        </p:pic>
        <p:sp>
          <p:nvSpPr>
            <p:cNvPr id="363"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Times New Roman"/>
                <a:ea typeface="Times New Roman"/>
              </a:rPr>
              <a:t>http://linda6035.ucoz.ru/</a:t>
            </a:r>
            <a:endParaRPr b="0" lang="en-US" sz="800" spc="-1" strike="noStrike">
              <a:solidFill>
                <a:srgbClr val="000000"/>
              </a:solidFill>
              <a:latin typeface="Arial"/>
            </a:endParaRPr>
          </a:p>
        </p:txBody>
      </p:sp>
      <p:sp>
        <p:nvSpPr>
          <p:cNvPr id="365"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66"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7CE4-77D4-44A4-ABC4-40EE57A7A5CA}"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0.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jpe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6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6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Прямоугольник 4"/>
          <p:cNvSpPr/>
          <p:nvPr/>
        </p:nvSpPr>
        <p:spPr>
          <a:xfrm>
            <a:off x="468360" y="2637000"/>
            <a:ext cx="806436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002060"/>
                </a:solidFill>
                <a:latin typeface="Calibri"/>
              </a:rPr>
              <a:t>«Улицы моего города – улицы имени героев»</a:t>
            </a:r>
            <a:endParaRPr b="0" lang="en-US" sz="6000" spc="-1" strike="noStrike">
              <a:solidFill>
                <a:srgbClr val="000000"/>
              </a:solidFill>
              <a:latin typeface="Arial"/>
            </a:endParaRPr>
          </a:p>
        </p:txBody>
      </p:sp>
      <p:sp>
        <p:nvSpPr>
          <p:cNvPr id="547" name="Прямоугольник 5"/>
          <p:cNvSpPr/>
          <p:nvPr/>
        </p:nvSpPr>
        <p:spPr>
          <a:xfrm>
            <a:off x="4716360" y="4941720"/>
            <a:ext cx="4103640" cy="432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5" descr="C:\Documents and Settings\Admin\Рабочий стол\Герб школы.gif"/>
          <p:cNvPicPr/>
          <p:nvPr/>
        </p:nvPicPr>
        <p:blipFill>
          <a:blip r:embed="rId1"/>
          <a:stretch/>
        </p:blipFill>
        <p:spPr>
          <a:xfrm>
            <a:off x="0" y="0"/>
            <a:ext cx="2124000" cy="199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684360" y="5876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атутин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иколай Федорович </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3.12.1901 – 15.04.1944)</a:t>
            </a:r>
            <a:endParaRPr b="0" lang="en-US" sz="2400" spc="-1" strike="noStrike">
              <a:solidFill>
                <a:srgbClr val="000000"/>
              </a:solidFill>
              <a:latin typeface="Calibri"/>
            </a:endParaRPr>
          </a:p>
        </p:txBody>
      </p:sp>
      <p:sp>
        <p:nvSpPr>
          <p:cNvPr id="577" name=""/>
          <p:cNvSpPr txBox="1"/>
          <p:nvPr/>
        </p:nvSpPr>
        <p:spPr>
          <a:xfrm>
            <a:off x="4645080" y="907560"/>
            <a:ext cx="4248000" cy="52182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400" spc="-1" strike="noStrike">
                <a:solidFill>
                  <a:srgbClr val="000000"/>
                </a:solidFill>
                <a:latin typeface="Calibri"/>
              </a:rPr>
              <a:t>Генерал армии, Герой Советского Союза (15 апреля 1965 года, посмертно).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Ф. Ватутин прошёл путь от красноармейца до генерала армии.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В годы Великой Отечественной войны возглавлял войска  Воронежского, Юго-Западного и 1-го Украинского фронтов.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8" name="Picture 2" descr="C:\Users\Наталья\Desktop\Улицы моего города - улицы имени героев\Николай_Ватутин,_1943_год.jpg"/>
          <p:cNvPicPr/>
          <p:nvPr/>
        </p:nvPicPr>
        <p:blipFill>
          <a:blip r:embed="rId1"/>
          <a:stretch/>
        </p:blipFill>
        <p:spPr>
          <a:xfrm>
            <a:off x="1476360" y="836640"/>
            <a:ext cx="2808360" cy="4213080"/>
          </a:xfrm>
          <a:prstGeom prst="rect">
            <a:avLst/>
          </a:prstGeom>
          <a:ln w="0">
            <a:noFill/>
          </a:ln>
        </p:spPr>
      </p:pic>
      <p:pic>
        <p:nvPicPr>
          <p:cNvPr id="579" name="Picture 3" descr="C:\Documents and Settings\Admin\Рабочий стол\Улицы моего города - улицы имени героев\zvezda-geroya-3.jpg"/>
          <p:cNvPicPr/>
          <p:nvPr/>
        </p:nvPicPr>
        <p:blipFill>
          <a:blip r:embed="rId2"/>
          <a:stretch/>
        </p:blipFill>
        <p:spPr>
          <a:xfrm>
            <a:off x="0" y="0"/>
            <a:ext cx="1403280" cy="19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468000" y="5876640"/>
            <a:ext cx="404028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анфилов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ван Василье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0.12.1892 – 18.11.1941)</a:t>
            </a:r>
            <a:endParaRPr b="0" lang="en-US" sz="2400" spc="-1" strike="noStrike">
              <a:solidFill>
                <a:srgbClr val="000000"/>
              </a:solidFill>
              <a:latin typeface="Calibri"/>
            </a:endParaRPr>
          </a:p>
        </p:txBody>
      </p:sp>
      <p:sp>
        <p:nvSpPr>
          <p:cNvPr id="581" name=""/>
          <p:cNvSpPr txBox="1"/>
          <p:nvPr/>
        </p:nvSpPr>
        <p:spPr>
          <a:xfrm>
            <a:off x="3851280" y="764640"/>
            <a:ext cx="5292720" cy="5505480"/>
          </a:xfrm>
          <a:prstGeom prst="rect">
            <a:avLst/>
          </a:prstGeom>
          <a:noFill/>
          <a:ln w="0">
            <a:noFill/>
          </a:ln>
        </p:spPr>
        <p:txBody>
          <a:bodyPr lIns="90000" rIns="90000" tIns="46800" bIns="46800"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Командир 316-й стрелковой дивизии, прославленной тяжелыми оборонительными боями на Волоколамском  направлении.  </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Известен исторический факт  обороны Москвы «Подвиг 28 героев – панфиловцев «– взвод истребителей танков  16 ноября 1941года,  в ходе ожесточенных боев приостановил на 4 часа продвижение 50 вражеских танков, уничтожив 18 из них. Панфилов погиб 18 ноября 1941года от осколков немецкой миномётной мины.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2"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583" name="Picture 2" descr="C:\Documents and Settings\Admin\Рабочий стол\Улицы моего города - улицы имени героев\300px-Ivan_Panfilov.jpg"/>
          <p:cNvPicPr/>
          <p:nvPr/>
        </p:nvPicPr>
        <p:blipFill>
          <a:blip r:embed="rId2"/>
          <a:stretch/>
        </p:blipFill>
        <p:spPr>
          <a:xfrm>
            <a:off x="1187280" y="981000"/>
            <a:ext cx="2880000" cy="42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539280" y="5516280"/>
            <a:ext cx="404028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Гастелло</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иколай Франце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6.05.1907 – 25.06.1941)</a:t>
            </a:r>
            <a:endParaRPr b="0" lang="en-US" sz="2400" spc="-1" strike="noStrike">
              <a:solidFill>
                <a:srgbClr val="000000"/>
              </a:solidFill>
              <a:latin typeface="Calibri"/>
            </a:endParaRPr>
          </a:p>
        </p:txBody>
      </p:sp>
      <p:sp>
        <p:nvSpPr>
          <p:cNvPr id="585" name=""/>
          <p:cNvSpPr txBox="1"/>
          <p:nvPr/>
        </p:nvSpPr>
        <p:spPr>
          <a:xfrm>
            <a:off x="3924360" y="1268280"/>
            <a:ext cx="4968720" cy="3951360"/>
          </a:xfrm>
          <a:prstGeom prst="rect">
            <a:avLst/>
          </a:prstGeom>
          <a:noFill/>
          <a:ln w="0">
            <a:noFill/>
          </a:ln>
        </p:spPr>
        <p:txBody>
          <a:bodyPr lIns="90000" rIns="90000" tIns="46800" bIns="46800"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оветский военный летчик, участник трех войн.  26 июня 1941 года экипаж под командованием капитана Гастелло вылетел для нанесения бомбового удара по немецкой механизированной колонне. Огнём зенитной артиллерии самолёт Гастелло был подбит. Вражеский снаряд повредил топливный бак, и Гастелло совершил «огненный таран» — направил горящую машину на механизированную колонну врага. Все члены экипажа погибли. «Огненный таран» Гастелло стал одним из самых известных примеров героизма в истории Великой Отечественной войны.</a:t>
            </a:r>
            <a:endParaRPr b="0" lang="en-US" sz="2000" spc="-1" strike="noStrike">
              <a:solidFill>
                <a:srgbClr val="000000"/>
              </a:solidFill>
              <a:latin typeface="Calibri"/>
            </a:endParaRPr>
          </a:p>
        </p:txBody>
      </p:sp>
      <p:pic>
        <p:nvPicPr>
          <p:cNvPr id="586"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587" name="Picture 2" descr="C:\Documents and Settings\Admin\Рабочий стол\Улицы моего города - улицы имени героев\230px-Gastello_Nikolay_Francievich.jpg"/>
          <p:cNvPicPr/>
          <p:nvPr/>
        </p:nvPicPr>
        <p:blipFill>
          <a:blip r:embed="rId2"/>
          <a:stretch/>
        </p:blipFill>
        <p:spPr>
          <a:xfrm>
            <a:off x="1403280" y="1268280"/>
            <a:ext cx="2592360" cy="346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468000" y="5876640"/>
            <a:ext cx="404028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авлов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Яков Федото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4.10.1917 – 28.09.1981)</a:t>
            </a:r>
            <a:endParaRPr b="0" lang="en-US" sz="2400" spc="-1" strike="noStrike">
              <a:solidFill>
                <a:srgbClr val="000000"/>
              </a:solidFill>
              <a:latin typeface="Calibri"/>
            </a:endParaRPr>
          </a:p>
        </p:txBody>
      </p:sp>
      <p:sp>
        <p:nvSpPr>
          <p:cNvPr id="589" name=""/>
          <p:cNvSpPr txBox="1"/>
          <p:nvPr/>
        </p:nvSpPr>
        <p:spPr>
          <a:xfrm>
            <a:off x="3564000" y="764640"/>
            <a:ext cx="5580000" cy="55054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Герой Сталинградской битвы,  командир группы бойцов, которая осенью 1941года выбила немцев и  обороняла четырёхэтажный жилой дом в центре города «Дом Павлова», в подвале которого все время находились женщины и дет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58 суток сержант Павлов и его боевые товарищи защищали этот дом, отбивая все атаки фашистов. Этот дом и его защитники стали символом героической обороны города на Волг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а свой подвиг Павлов удостоен звания Героя Советского Союза. Прошел боевой путь от Сталинграда до Эльбы. Участник боёв на Юго-Западном, Сталинградском, 3-м Украинском и 2-м Белорусском фронтах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0"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591" name="Picture 2" descr="C:\Documents and Settings\Admin\Рабочий стол\Улицы моего города - улицы имени героев\pavlov.jpg"/>
          <p:cNvPicPr/>
          <p:nvPr/>
        </p:nvPicPr>
        <p:blipFill>
          <a:blip r:embed="rId2"/>
          <a:stretch/>
        </p:blipFill>
        <p:spPr>
          <a:xfrm>
            <a:off x="1258920" y="1052640"/>
            <a:ext cx="2616120" cy="395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394920" y="5444640"/>
            <a:ext cx="404028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Матросов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Александр Матвее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5.02.1924 – 27.02.1943)</a:t>
            </a:r>
            <a:endParaRPr b="0" lang="en-US" sz="2400" spc="-1" strike="noStrike">
              <a:solidFill>
                <a:srgbClr val="000000"/>
              </a:solidFill>
              <a:latin typeface="Calibri"/>
            </a:endParaRPr>
          </a:p>
        </p:txBody>
      </p:sp>
      <p:sp>
        <p:nvSpPr>
          <p:cNvPr id="593" name=""/>
          <p:cNvSpPr txBox="1"/>
          <p:nvPr/>
        </p:nvSpPr>
        <p:spPr>
          <a:xfrm>
            <a:off x="3924000" y="260280"/>
            <a:ext cx="5040360" cy="4959360"/>
          </a:xfrm>
          <a:prstGeom prst="rect">
            <a:avLst/>
          </a:prstGeom>
          <a:noFill/>
          <a:ln w="0">
            <a:noFill/>
          </a:ln>
        </p:spPr>
        <p:txBody>
          <a:bodyPr lIns="90000" rIns="90000" tIns="46800" bIns="46800" anchor="t">
            <a:normAutofit fontScale="88000"/>
          </a:bodyPr>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1680" indent="-301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Красноармеец, стрелок-автоматчик 2-го отдельного стрелкового батальона 91-й отдельной Сибирской добровольческой бригады им. И.В. Сталина. Закрыл своей грудью амбразуру немецкого дзота. Его поступок широко освещался в газетах, журналах, литературе, кино как подвиг и стал в русском языке устойчивым выражением «грудью на амбразуру».</a:t>
            </a:r>
            <a:r>
              <a:rPr b="0" lang="ru-RU" sz="2000" spc="-1" strike="noStrike">
                <a:solidFill>
                  <a:srgbClr val="000000"/>
                </a:solidFill>
                <a:latin typeface="Calibri"/>
              </a:rPr>
              <a:t> </a:t>
            </a:r>
            <a:r>
              <a:rPr b="0" lang="ru-RU" sz="2400" spc="-1" strike="noStrike">
                <a:solidFill>
                  <a:srgbClr val="000000"/>
                </a:solidFill>
                <a:latin typeface="Calibri"/>
              </a:rPr>
              <a:t>Александр Матросов стал первым советским воином, зачисленным навечно в списки воинской  части.</a:t>
            </a:r>
            <a:endParaRPr b="0" lang="en-US" sz="2400" spc="-1" strike="noStrike">
              <a:solidFill>
                <a:srgbClr val="000000"/>
              </a:solidFill>
              <a:latin typeface="Calibri"/>
            </a:endParaRPr>
          </a:p>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4"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sp>
        <p:nvSpPr>
          <p:cNvPr id="595" name="Содержимое 5"/>
          <p:cNvSpPr/>
          <p:nvPr/>
        </p:nvSpPr>
        <p:spPr>
          <a:xfrm>
            <a:off x="4219560" y="917640"/>
            <a:ext cx="48974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596" name="Picture 2" descr="C:\Documents and Settings\Admin\Рабочий стол\Улицы моего города - улицы имени героев\267px-Matrosov.jpg"/>
          <p:cNvPicPr/>
          <p:nvPr/>
        </p:nvPicPr>
        <p:blipFill>
          <a:blip r:embed="rId2"/>
          <a:stretch/>
        </p:blipFill>
        <p:spPr>
          <a:xfrm>
            <a:off x="1116000" y="1413000"/>
            <a:ext cx="2854440" cy="32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684360" y="5444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астухов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митрий Тимофее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8.03.1923 – 07.04.1949)</a:t>
            </a:r>
            <a:endParaRPr b="0" lang="en-US" sz="2400" spc="-1" strike="noStrike">
              <a:solidFill>
                <a:srgbClr val="000000"/>
              </a:solidFill>
              <a:latin typeface="Calibri"/>
            </a:endParaRPr>
          </a:p>
        </p:txBody>
      </p:sp>
      <p:sp>
        <p:nvSpPr>
          <p:cNvPr id="598" name=""/>
          <p:cNvSpPr txBox="1"/>
          <p:nvPr/>
        </p:nvSpPr>
        <p:spPr>
          <a:xfrm>
            <a:off x="4284720" y="765000"/>
            <a:ext cx="4680000" cy="3951360"/>
          </a:xfrm>
          <a:prstGeom prst="rect">
            <a:avLst/>
          </a:prstGeom>
          <a:noFill/>
          <a:ln w="0">
            <a:noFill/>
          </a:ln>
        </p:spPr>
        <p:txBody>
          <a:bodyPr lIns="90000" rIns="90000" tIns="46800" bIns="46800" anchor="t">
            <a:normAutofit fontScale="86000"/>
          </a:bodyPr>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Участвовал в Великой Отечественной войне  в составе 22-й гвардейской мотострелковой бригады, помощник командира взвода инженерно-минной роты. Гвардии старший сержант. За образцовое выполнение задания командования при переправе бойцов через Тельтов канал в Берлине 24.04.1945 г. Указом Президиума Верховного Совета СССР ему было присвоено звание Героя Советского Союза.</a:t>
            </a:r>
            <a:endParaRPr b="0" lang="en-US" sz="2400" spc="-1" strike="noStrike">
              <a:solidFill>
                <a:srgbClr val="000000"/>
              </a:solidFill>
              <a:latin typeface="Calibri"/>
            </a:endParaRPr>
          </a:p>
        </p:txBody>
      </p:sp>
      <p:pic>
        <p:nvPicPr>
          <p:cNvPr id="599"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600" name="Picture 2" descr="C:\Documents and Settings\Admin\Рабочий стол\Улицы моего города - улицы имени героев\soldat5893.jpg"/>
          <p:cNvPicPr/>
          <p:nvPr/>
        </p:nvPicPr>
        <p:blipFill>
          <a:blip r:embed="rId2"/>
          <a:stretch/>
        </p:blipFill>
        <p:spPr>
          <a:xfrm>
            <a:off x="1547640" y="1268280"/>
            <a:ext cx="2592720" cy="335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684360" y="5444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мирнов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Юрий Василье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2.09.1925 – 25.06.1944)</a:t>
            </a:r>
            <a:endParaRPr b="0" lang="en-US" sz="2400" spc="-1" strike="noStrike">
              <a:solidFill>
                <a:srgbClr val="000000"/>
              </a:solidFill>
              <a:latin typeface="Calibri"/>
            </a:endParaRPr>
          </a:p>
        </p:txBody>
      </p:sp>
      <p:sp>
        <p:nvSpPr>
          <p:cNvPr id="602" name=""/>
          <p:cNvSpPr txBox="1"/>
          <p:nvPr/>
        </p:nvSpPr>
        <p:spPr>
          <a:xfrm>
            <a:off x="4067280" y="765000"/>
            <a:ext cx="4897440" cy="3951360"/>
          </a:xfrm>
          <a:prstGeom prst="rect">
            <a:avLst/>
          </a:prstGeom>
          <a:noFill/>
          <a:ln w="0">
            <a:noFill/>
          </a:ln>
        </p:spPr>
        <p:txBody>
          <a:bodyPr lIns="90000" rIns="90000" tIns="46800" bIns="46800" anchor="t">
            <a:normAutofit fontScale="83000"/>
          </a:bodyPr>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частник Великой Отечественной войны с января 1943 года. Воевал в составе 77-го гвардейского стрелкового полка 26-й гвардейской стрелковой дивизии 11-й гвардейской армии Белорусского фронта. </a:t>
            </a:r>
            <a:endParaRPr b="0" lang="en-US" sz="2000" spc="-1" strike="noStrike">
              <a:solidFill>
                <a:srgbClr val="000000"/>
              </a:solidFill>
              <a:latin typeface="Calibri"/>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ночь на 24 июня 1944 года Юрий Смирнов участвовал в ночном танковом десанте, прорывавшем оборону противника на оршанском направлении. Был тяжело ранен и захвачен противником в плен. 25 июня немцы после жестоких пыток распяли Смирнова на стене блиндажа, искололи его тело штыками.  6 октября 1944года за проявленные мужество и героизм посмертно присвоено звание Героя Советского Союза.  </a:t>
            </a:r>
            <a:endParaRPr b="0" lang="en-US" sz="2000" spc="-1" strike="noStrike">
              <a:solidFill>
                <a:srgbClr val="000000"/>
              </a:solidFill>
              <a:latin typeface="Calibri"/>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3"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604" name="Picture 2" descr="C:\Documents and Settings\Admin\Рабочий стол\Улицы моего города - улицы имени героев\Смирнов_Юрий_Васильевич.jpg"/>
          <p:cNvPicPr/>
          <p:nvPr/>
        </p:nvPicPr>
        <p:blipFill>
          <a:blip r:embed="rId2"/>
          <a:stretch/>
        </p:blipFill>
        <p:spPr>
          <a:xfrm>
            <a:off x="1692360" y="907920"/>
            <a:ext cx="2232000" cy="379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p:nvPr>
        </p:nvSpPr>
        <p:spPr>
          <a:xfrm>
            <a:off x="468000" y="5444640"/>
            <a:ext cx="404028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огачев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Михаил Иосифо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9.01.1920 – 10.10.1943)</a:t>
            </a:r>
            <a:endParaRPr b="0" lang="en-US" sz="2400" spc="-1" strike="noStrike">
              <a:solidFill>
                <a:srgbClr val="000000"/>
              </a:solidFill>
              <a:latin typeface="Calibri"/>
            </a:endParaRPr>
          </a:p>
        </p:txBody>
      </p:sp>
      <p:sp>
        <p:nvSpPr>
          <p:cNvPr id="606" name=""/>
          <p:cNvSpPr txBox="1"/>
          <p:nvPr/>
        </p:nvSpPr>
        <p:spPr>
          <a:xfrm>
            <a:off x="3780000" y="765000"/>
            <a:ext cx="5364000" cy="3951360"/>
          </a:xfrm>
          <a:prstGeom prst="rect">
            <a:avLst/>
          </a:prstGeom>
          <a:noFill/>
          <a:ln w="0">
            <a:noFill/>
          </a:ln>
        </p:spPr>
        <p:txBody>
          <a:bodyPr lIns="90000" rIns="90000" tIns="46800" bIns="46800"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Гвардии младший лейтенант. Боевое крещение принял в боях под Сталинградом в составе 2-й гвардейской армии, был назначен командиром взвода пешей разведки. В сентябре 1943года участвовал в танковом десанте при прорыве немецко-фашистской обороны «Линия Вотана». Подавил не менее двух огневых точек и уничтожил десятки гитлеровцев. Был ранен, но продолжал командовать взводом. Погиб в бою 10 октября 1943 года. Навечно зачислен в списки воинской части.</a:t>
            </a:r>
            <a:endParaRPr b="0" lang="en-US" sz="2400" spc="-1" strike="noStrike">
              <a:solidFill>
                <a:srgbClr val="000000"/>
              </a:solidFill>
              <a:latin typeface="Calibri"/>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7"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608" name="Picture 2" descr="C:\Documents and Settings\Admin\Рабочий стол\Улицы моего города - улицы имени героев\Rogachev_Mh_Ios.jpg"/>
          <p:cNvPicPr/>
          <p:nvPr/>
        </p:nvPicPr>
        <p:blipFill>
          <a:blip r:embed="rId2"/>
          <a:stretch/>
        </p:blipFill>
        <p:spPr>
          <a:xfrm>
            <a:off x="1258920" y="836640"/>
            <a:ext cx="2665440" cy="385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p:nvPr>
        </p:nvSpPr>
        <p:spPr>
          <a:xfrm>
            <a:off x="684360" y="5444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осмодемьянская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оя Анатольевна </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3.09.1923 – 29.11.1941)</a:t>
            </a:r>
            <a:endParaRPr b="0" lang="en-US" sz="2400" spc="-1" strike="noStrike">
              <a:solidFill>
                <a:srgbClr val="000000"/>
              </a:solidFill>
              <a:latin typeface="Calibri"/>
            </a:endParaRPr>
          </a:p>
        </p:txBody>
      </p:sp>
      <p:sp>
        <p:nvSpPr>
          <p:cNvPr id="610" name=""/>
          <p:cNvSpPr txBox="1"/>
          <p:nvPr/>
        </p:nvSpPr>
        <p:spPr>
          <a:xfrm>
            <a:off x="4067280" y="476280"/>
            <a:ext cx="4897440" cy="4240080"/>
          </a:xfrm>
          <a:prstGeom prst="rect">
            <a:avLst/>
          </a:prstGeom>
          <a:noFill/>
          <a:ln w="0">
            <a:noFill/>
          </a:ln>
        </p:spPr>
        <p:txBody>
          <a:bodyPr lIns="90000" rIns="90000" tIns="46800" bIns="4680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В октябре 1941 года Зоя добилась направления в партизанскую диверсионную группу, когда немцы стояли всего в 60 км от центра Москвы. Удачно выполнив задние в деревне Петрищево Зоя попала в плен. После жестоких, многочасовых пыток девушка была казнена. Уже стоя в петле, призвала сельчан бороться с фашистами, уничтожать их. Обратилась и к немецким солдатам, охранявшим место казни, не с призывом – с требованием сдаваться в плен. </a:t>
            </a:r>
            <a:endParaRPr b="0" lang="en-US" sz="2000" spc="-1" strike="noStrike">
              <a:solidFill>
                <a:srgbClr val="000000"/>
              </a:solidFill>
              <a:latin typeface="Calibri"/>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6 февраля 1942 ей посмертно присвоили звание Героя Советского Союза. </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1"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612" name="Picture 2" descr="C:\Documents and Settings\Admin\Рабочий стол\Улицы моего города - улицы имени героев\wx1080.jpg"/>
          <p:cNvPicPr/>
          <p:nvPr/>
        </p:nvPicPr>
        <p:blipFill>
          <a:blip r:embed="rId2"/>
          <a:stretch/>
        </p:blipFill>
        <p:spPr>
          <a:xfrm>
            <a:off x="1258920" y="692280"/>
            <a:ext cx="2652840" cy="3951000"/>
          </a:xfrm>
          <a:prstGeom prst="rect">
            <a:avLst/>
          </a:prstGeom>
          <a:ln w="0">
            <a:noFill/>
          </a:ln>
        </p:spPr>
      </p:pic>
      <p:sp>
        <p:nvSpPr>
          <p:cNvPr id="613" name="Содержимое 5"/>
          <p:cNvSpPr/>
          <p:nvPr/>
        </p:nvSpPr>
        <p:spPr>
          <a:xfrm>
            <a:off x="4219560" y="917640"/>
            <a:ext cx="48974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p:nvPr>
        </p:nvSpPr>
        <p:spPr>
          <a:xfrm>
            <a:off x="684360" y="5444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Чайкина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лизавета Ивановна</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8.08.1918 – 23.11.1941)</a:t>
            </a:r>
            <a:endParaRPr b="0" lang="en-US" sz="2400" spc="-1" strike="noStrike">
              <a:solidFill>
                <a:srgbClr val="000000"/>
              </a:solidFill>
              <a:latin typeface="Calibri"/>
            </a:endParaRPr>
          </a:p>
        </p:txBody>
      </p:sp>
      <p:sp>
        <p:nvSpPr>
          <p:cNvPr id="615" name=""/>
          <p:cNvSpPr txBox="1"/>
          <p:nvPr/>
        </p:nvSpPr>
        <p:spPr>
          <a:xfrm>
            <a:off x="4067280" y="981000"/>
            <a:ext cx="4897440" cy="4238640"/>
          </a:xfrm>
          <a:prstGeom prst="rect">
            <a:avLst/>
          </a:prstGeom>
          <a:noFill/>
          <a:ln w="0">
            <a:noFill/>
          </a:ln>
        </p:spPr>
        <p:txBody>
          <a:bodyPr lIns="90000" rIns="90000" tIns="46800" bIns="46800" anchor="t">
            <a:normAutofit fontScale="86000"/>
          </a:bodyPr>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94840" indent="-294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Во время Великой Отечественной войны Лиза возглавляла подпольную организацию молодёжи, принимала активное участие в операциях партизанского отряда, действовавшего на территории Великолукской и Калининской областей.  22 ноября 1941 года при выполнении разведывательного задания Лиза попала в плен. Даже под пытками она отказалась выдать информацию о местонахождении партизанского отряда и была расстреляна.  6 марта 1942 года Елизавете Ивановне Чайкиной присвоено звание Героя Советского Союза  посмертно. </a:t>
            </a:r>
            <a:endParaRPr b="0" lang="en-US" sz="2000" spc="-1" strike="noStrike">
              <a:solidFill>
                <a:srgbClr val="000000"/>
              </a:solidFill>
              <a:latin typeface="Calibri"/>
            </a:endParaRPr>
          </a:p>
          <a:p>
            <a:pPr marL="294840" indent="-294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6"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sp>
        <p:nvSpPr>
          <p:cNvPr id="617" name="Содержимое 5"/>
          <p:cNvSpPr/>
          <p:nvPr/>
        </p:nvSpPr>
        <p:spPr>
          <a:xfrm>
            <a:off x="4219560" y="917640"/>
            <a:ext cx="48974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618" name="Picture 2" descr="C:\Documents and Settings\Admin\Рабочий стол\Улицы моего города - улицы имени героев\partizanka-liza-chaykina.jpg"/>
          <p:cNvPicPr/>
          <p:nvPr/>
        </p:nvPicPr>
        <p:blipFill>
          <a:blip r:embed="rId2"/>
          <a:stretch/>
        </p:blipFill>
        <p:spPr>
          <a:xfrm>
            <a:off x="1403280" y="1197000"/>
            <a:ext cx="2592360" cy="35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287280" y="1267920"/>
            <a:ext cx="8856720" cy="4815000"/>
          </a:xfrm>
          <a:prstGeom prst="rect">
            <a:avLst/>
          </a:prstGeom>
          <a:noFill/>
          <a:ln w="0">
            <a:noFill/>
          </a:ln>
        </p:spPr>
        <p:txBody>
          <a:bodyPr lIns="90000" rIns="90000" tIns="46800" bIns="46800" anchor="t">
            <a:norm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Без  памяти, без чувства родины, </a:t>
            </a:r>
            <a:endParaRPr b="0" lang="en-US" sz="4000" spc="-1" strike="noStrike">
              <a:solidFill>
                <a:srgbClr val="000000"/>
              </a:solidFill>
              <a:latin typeface="Calibri"/>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без благодарности к предкам, </a:t>
            </a:r>
            <a:endParaRPr b="0" lang="en-US" sz="4000" spc="-1" strike="noStrike">
              <a:solidFill>
                <a:srgbClr val="000000"/>
              </a:solidFill>
              <a:latin typeface="Calibri"/>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человек – случайность на  земле; </a:t>
            </a:r>
            <a:endParaRPr b="0" lang="en-US" sz="4000" spc="-1" strike="noStrike">
              <a:solidFill>
                <a:srgbClr val="000000"/>
              </a:solidFill>
              <a:latin typeface="Calibri"/>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и он  уничтожит  землю».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А.Чивилихин «Память»</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5444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ошевой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лег Василье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8.06.1926 – 09.02.1943)</a:t>
            </a:r>
            <a:endParaRPr b="0" lang="en-US" sz="2400" spc="-1" strike="noStrike">
              <a:solidFill>
                <a:srgbClr val="000000"/>
              </a:solidFill>
              <a:latin typeface="Calibri"/>
            </a:endParaRPr>
          </a:p>
        </p:txBody>
      </p:sp>
      <p:sp>
        <p:nvSpPr>
          <p:cNvPr id="620" name=""/>
          <p:cNvSpPr txBox="1"/>
          <p:nvPr/>
        </p:nvSpPr>
        <p:spPr>
          <a:xfrm>
            <a:off x="4067280" y="836280"/>
            <a:ext cx="4897440" cy="4383000"/>
          </a:xfrm>
          <a:prstGeom prst="rect">
            <a:avLst/>
          </a:prstGeom>
          <a:noFill/>
          <a:ln w="0">
            <a:noFill/>
          </a:ln>
        </p:spPr>
        <p:txBody>
          <a:bodyPr lIns="90000" rIns="90000" tIns="46800" bIns="46800" anchor="t">
            <a:normAutofit fontScale="83000"/>
          </a:bodyPr>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84400" indent="-284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Участник, один из организаторов подпольной антифашистской комсомольской организации  «Молодая гвардия», действовавшей в 1942-1943гг в г.Краснодоне. В январе 1943г организация была раскрыта фашистами, при попытке перейти линию фронта Кошевой был схвачен, после жестоких пыток расстрелян. 13 сентября 1943 года Олегу Кошевому присвоено звание Героя Советского Союза посмертно.  </a:t>
            </a:r>
            <a:endParaRPr b="0" lang="en-US" sz="24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1"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sp>
        <p:nvSpPr>
          <p:cNvPr id="622" name="Содержимое 5"/>
          <p:cNvSpPr/>
          <p:nvPr/>
        </p:nvSpPr>
        <p:spPr>
          <a:xfrm>
            <a:off x="4219560" y="917640"/>
            <a:ext cx="48974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623" name="Picture 2" descr="C:\Documents and Settings\Admin\Рабочий стол\Улицы моего города - улицы имени героев\267px-Олег_Кошевой.jpg"/>
          <p:cNvPicPr/>
          <p:nvPr/>
        </p:nvPicPr>
        <p:blipFill>
          <a:blip r:embed="rId2"/>
          <a:stretch/>
        </p:blipFill>
        <p:spPr>
          <a:xfrm>
            <a:off x="1403280" y="1197000"/>
            <a:ext cx="2543400" cy="351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394920" y="5444640"/>
            <a:ext cx="404028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Гагарин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Юрий Алексее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09.03.1934 – 27.03.1968)</a:t>
            </a:r>
            <a:endParaRPr b="0" lang="en-US" sz="2400" spc="-1" strike="noStrike">
              <a:solidFill>
                <a:srgbClr val="000000"/>
              </a:solidFill>
              <a:latin typeface="Calibri"/>
            </a:endParaRPr>
          </a:p>
        </p:txBody>
      </p:sp>
      <p:sp>
        <p:nvSpPr>
          <p:cNvPr id="625" name=""/>
          <p:cNvSpPr txBox="1"/>
          <p:nvPr/>
        </p:nvSpPr>
        <p:spPr>
          <a:xfrm>
            <a:off x="3851280" y="476280"/>
            <a:ext cx="5113440" cy="4743360"/>
          </a:xfrm>
          <a:prstGeom prst="rect">
            <a:avLst/>
          </a:prstGeom>
          <a:noFill/>
          <a:ln w="0">
            <a:noFill/>
          </a:ln>
        </p:spPr>
        <p:txBody>
          <a:bodyPr lIns="90000" rIns="90000" tIns="46800" bIns="46800"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852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Советский лётчик-космонавт. 12 апреля 1961 года Юрий Гагарин стал первым человеком в мировой истории, совершившим полет в космос. Ракета-носитель «Восток» была запущена с космодрома Байконур. После 108 минут полёта Гагарин успешно приземлился в неподалёку от города Энгельс Саратовской области. Погиб Юрий Гагарин в авиационной катастрофе вблизи деревни Новоселово Владимировской области, выполняя учебный полёт на самолёте МиГ-15УТИ. Причины и обстоятельства авиакатастрофы остаются не вполне выясненными до сегодняшнего дня.   </a:t>
            </a:r>
            <a:endParaRPr b="0" lang="en-US" sz="2000" spc="-1" strike="noStrike">
              <a:solidFill>
                <a:srgbClr val="000000"/>
              </a:solidFill>
              <a:latin typeface="Calibri"/>
            </a:endParaRPr>
          </a:p>
          <a:p>
            <a:pPr marL="30852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6"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sp>
        <p:nvSpPr>
          <p:cNvPr id="627" name="Содержимое 5"/>
          <p:cNvSpPr/>
          <p:nvPr/>
        </p:nvSpPr>
        <p:spPr>
          <a:xfrm>
            <a:off x="4219560" y="917640"/>
            <a:ext cx="48974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628" name="Picture 2" descr="C:\Documents and Settings\Admin\Рабочий стол\Улицы моего города - улицы имени героев\7f9b9a45c9.jpg"/>
          <p:cNvPicPr/>
          <p:nvPr/>
        </p:nvPicPr>
        <p:blipFill>
          <a:blip r:embed="rId2"/>
          <a:stretch/>
        </p:blipFill>
        <p:spPr>
          <a:xfrm>
            <a:off x="1403280" y="1052640"/>
            <a:ext cx="2664000" cy="355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0" y="5157360"/>
            <a:ext cx="3564000" cy="639720"/>
          </a:xfrm>
          <a:prstGeom prst="rect">
            <a:avLst/>
          </a:prstGeom>
          <a:noFill/>
          <a:ln w="0">
            <a:noFill/>
          </a:ln>
        </p:spPr>
        <p:txBody>
          <a:bodyPr lIns="90000" rIns="90000" tIns="46800" bIns="46800" anchor="b">
            <a:normAutofit fontScale="41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Лелюх</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горь Викторович</a:t>
            </a: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8.12.1967 – 01.01.1995)</a:t>
            </a:r>
            <a:endParaRPr b="0" lang="en-US" sz="2000" spc="-1" strike="noStrike">
              <a:solidFill>
                <a:srgbClr val="000000"/>
              </a:solidFill>
              <a:latin typeface="Calibri"/>
            </a:endParaRPr>
          </a:p>
        </p:txBody>
      </p:sp>
      <p:sp>
        <p:nvSpPr>
          <p:cNvPr id="630" name=""/>
          <p:cNvSpPr txBox="1"/>
          <p:nvPr/>
        </p:nvSpPr>
        <p:spPr>
          <a:xfrm>
            <a:off x="2916000" y="189000"/>
            <a:ext cx="6227640" cy="5030640"/>
          </a:xfrm>
          <a:prstGeom prst="rect">
            <a:avLst/>
          </a:prstGeom>
          <a:noFill/>
          <a:ln w="0">
            <a:noFill/>
          </a:ln>
        </p:spPr>
        <p:txBody>
          <a:bodyPr lIns="90000" rIns="90000" tIns="46800" bIns="46800"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апитан, командир группы 67-й отдельной бригады специального назначения ГРУ ГШ. В декабре 1994г в должности командира группы убыл в Чечню. Успешно командовал разведгруппой при выполнении боевых задач против  бандформирований,  под его командованием было проведено 22 спецоперации. 1 января 1995 года при штурме Грозного  части 131 бригады попали в окружение, понесли большие потери и не могли самостоятельно вырваться из города. Разведгруппе Лелюха было необходимо прорвать кольцо окружения и способствовать выходу бригады из города. Разведгруппе удалось прорвать но в скором времени были подтянуты резервы боевиков и было принято решение отступать. И. Лелюх был тяжело ранен и остался прикрывать отход бойцов. В течение 30 минут он удерживал боевиков огнём из автомата и гранатами, после чего был вторично ранен и в бессознательном состоянии расстрелян в упор. </a:t>
            </a:r>
            <a:endParaRPr b="0" lang="en-US" sz="2000" spc="-1" strike="noStrike">
              <a:solidFill>
                <a:srgbClr val="000000"/>
              </a:solidFill>
              <a:latin typeface="Calibri"/>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Содержимое 5"/>
          <p:cNvSpPr/>
          <p:nvPr/>
        </p:nvSpPr>
        <p:spPr>
          <a:xfrm>
            <a:off x="4219560" y="917640"/>
            <a:ext cx="48974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632" name="Picture 3" descr="C:\Documents and Settings\Admin\Рабочий стол\Улицы моего города - улицы имени героев\200px-Игорь_Лелюх.jpg"/>
          <p:cNvPicPr/>
          <p:nvPr/>
        </p:nvPicPr>
        <p:blipFill>
          <a:blip r:embed="rId1"/>
          <a:stretch/>
        </p:blipFill>
        <p:spPr>
          <a:xfrm>
            <a:off x="900000" y="1125360"/>
            <a:ext cx="2395800" cy="3341880"/>
          </a:xfrm>
          <a:prstGeom prst="rect">
            <a:avLst/>
          </a:prstGeom>
          <a:ln w="0">
            <a:noFill/>
          </a:ln>
        </p:spPr>
      </p:pic>
      <p:pic>
        <p:nvPicPr>
          <p:cNvPr id="633" name="Picture 2" descr="C:\Documents and Settings\Admin\Рабочий стол\Улицы моего города - улицы имени героев\Новая папка\100px-Медаль_«Золотая_Звезда»_(РФ).png"/>
          <p:cNvPicPr/>
          <p:nvPr/>
        </p:nvPicPr>
        <p:blipFill>
          <a:blip r:embed="rId2"/>
          <a:stretch/>
        </p:blipFill>
        <p:spPr>
          <a:xfrm>
            <a:off x="0" y="0"/>
            <a:ext cx="1262160" cy="23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07920"/>
            <a:ext cx="8229600" cy="50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Улицы села Бердского</a:t>
            </a:r>
            <a:endParaRPr b="0" lang="en-US" sz="4400" spc="-1" strike="noStrike">
              <a:solidFill>
                <a:srgbClr val="000000"/>
              </a:solidFill>
              <a:latin typeface="Calibri"/>
            </a:endParaRPr>
          </a:p>
        </p:txBody>
      </p:sp>
      <p:sp>
        <p:nvSpPr>
          <p:cNvPr id="551" name="PlaceHolder 2"/>
          <p:cNvSpPr>
            <a:spLocks noGrp="1"/>
          </p:cNvSpPr>
          <p:nvPr>
            <p:ph/>
          </p:nvPr>
        </p:nvSpPr>
        <p:spPr>
          <a:xfrm>
            <a:off x="179280" y="3428640"/>
            <a:ext cx="4392720" cy="855720"/>
          </a:xfrm>
          <a:prstGeom prst="rect">
            <a:avLst/>
          </a:prstGeom>
          <a:noFill/>
          <a:ln w="0">
            <a:noFill/>
          </a:ln>
        </p:spPr>
        <p:txBody>
          <a:bodyPr lIns="90000" rIns="90000" tIns="46800" bIns="46800" anchor="b">
            <a:normAutofit fontScale="52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селе Бердском вплоть до конца </a:t>
            </a:r>
            <a:r>
              <a:rPr b="1" lang="en-US" sz="2400" spc="-1" strike="noStrike">
                <a:solidFill>
                  <a:srgbClr val="000000"/>
                </a:solidFill>
                <a:latin typeface="Calibri"/>
              </a:rPr>
              <a:t>XIX</a:t>
            </a:r>
            <a:r>
              <a:rPr b="1" lang="ru-RU" sz="2400" spc="-1" strike="noStrike">
                <a:solidFill>
                  <a:srgbClr val="000000"/>
                </a:solidFill>
                <a:latin typeface="Calibri"/>
              </a:rPr>
              <a:t> века было всего три улицы. Назывались они просто и незатейливо: Большая, Средняя и Задняя. Главной из них была, конечно же, Большая. </a:t>
            </a:r>
            <a:endParaRPr b="0" lang="en-US" sz="2400" spc="-1" strike="noStrike">
              <a:solidFill>
                <a:srgbClr val="000000"/>
              </a:solidFill>
              <a:latin typeface="Calibri"/>
            </a:endParaRPr>
          </a:p>
        </p:txBody>
      </p:sp>
      <p:pic>
        <p:nvPicPr>
          <p:cNvPr id="552" name="Picture 2" descr="C:\Documents and Settings\Admin\Рабочий стол\Улицы моего города - улицы имени героев\hello_html_m6b0a4e52.jpg"/>
          <p:cNvPicPr/>
          <p:nvPr/>
        </p:nvPicPr>
        <p:blipFill>
          <a:blip r:embed="rId1"/>
          <a:stretch/>
        </p:blipFill>
        <p:spPr>
          <a:xfrm>
            <a:off x="0" y="4221000"/>
            <a:ext cx="4992840" cy="2637000"/>
          </a:xfrm>
          <a:prstGeom prst="rect">
            <a:avLst/>
          </a:prstGeom>
          <a:ln w="0">
            <a:noFill/>
          </a:ln>
        </p:spPr>
      </p:pic>
      <p:pic>
        <p:nvPicPr>
          <p:cNvPr id="553" name="Picture 3" descr="C:\Documents and Settings\Admin\Рабочий стол\Улицы моего города - улицы имени героев\Berdsk_city_centrer_in_1920s.jpg"/>
          <p:cNvPicPr/>
          <p:nvPr/>
        </p:nvPicPr>
        <p:blipFill>
          <a:blip r:embed="rId2"/>
          <a:stretch/>
        </p:blipFill>
        <p:spPr>
          <a:xfrm>
            <a:off x="4505400" y="1700280"/>
            <a:ext cx="445932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60" y="3789000"/>
            <a:ext cx="4497480" cy="23367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en-US" sz="2400" spc="-1" strike="noStrike">
                <a:solidFill>
                  <a:srgbClr val="000000"/>
                </a:solidFill>
                <a:latin typeface="Calibri"/>
              </a:rPr>
              <a:t>  </a:t>
            </a:r>
            <a:r>
              <a:rPr b="1" lang="ru-RU" sz="2400" spc="-1" strike="noStrike">
                <a:solidFill>
                  <a:srgbClr val="000000"/>
                </a:solidFill>
                <a:latin typeface="Calibri"/>
              </a:rPr>
              <a:t> </a:t>
            </a:r>
            <a:r>
              <a:rPr b="1" lang="ru-RU" sz="2400" spc="-1" strike="noStrike">
                <a:solidFill>
                  <a:srgbClr val="000000"/>
                </a:solidFill>
                <a:latin typeface="Calibri"/>
              </a:rPr>
              <a:t>В начале ХХ века появились улицы: Береговая, Боровая, Глуховская, Нахаловка, Казанская, Кяхта, переулки Почтовый и Обской</a:t>
            </a:r>
            <a:endParaRPr b="0" lang="en-US" sz="2400" spc="-1" strike="noStrike">
              <a:solidFill>
                <a:srgbClr val="000000"/>
              </a:solidFill>
              <a:latin typeface="Calibri"/>
            </a:endParaRPr>
          </a:p>
        </p:txBody>
      </p:sp>
      <p:pic>
        <p:nvPicPr>
          <p:cNvPr id="555" name="Picture 7" descr="C:\Users\Наталья\Desktop\Улицы моего города - улицы имени героев\1383224572_remeslennaya-shkola-postroennaya-na-sredstva-kupca-v_d_-goroxova.jpg"/>
          <p:cNvPicPr/>
          <p:nvPr/>
        </p:nvPicPr>
        <p:blipFill>
          <a:blip r:embed="rId1"/>
          <a:stretch/>
        </p:blipFill>
        <p:spPr>
          <a:xfrm>
            <a:off x="395280" y="260280"/>
            <a:ext cx="4226040" cy="3240000"/>
          </a:xfrm>
          <a:prstGeom prst="rect">
            <a:avLst/>
          </a:prstGeom>
          <a:ln w="0">
            <a:noFill/>
          </a:ln>
        </p:spPr>
      </p:pic>
      <p:pic>
        <p:nvPicPr>
          <p:cNvPr id="556" name="Picture 8" descr="C:\Users\Наталья\Desktop\Улицы моего города - улицы имени героев\1383224573_dom-myagkix-v-starom-berdske.jpg"/>
          <p:cNvPicPr/>
          <p:nvPr/>
        </p:nvPicPr>
        <p:blipFill>
          <a:blip r:embed="rId2"/>
          <a:stretch/>
        </p:blipFill>
        <p:spPr>
          <a:xfrm>
            <a:off x="4788000" y="3298680"/>
            <a:ext cx="4154400" cy="318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178920" y="1052280"/>
            <a:ext cx="5040360" cy="50734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сле революции 1917года Большая была переименована в Советскую, улица Средняя стала Коммунистической, а Задняя – Октябрьской.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 территории Старого  Бердска была улица, названная в честь полярного лётчика Байдукова, улицы Красная  Сибирь, Красный Сокол, Садовая, 1-я, 2-я Береговые, Шаринская, Пролетарская, Обская.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8" name="Picture 9" descr="C:\Users\Наталья\Desktop\Улицы моего города - улицы имени героев\fe1cf73cb2cc00ca34df8d74dfd13b63.jpg"/>
          <p:cNvPicPr/>
          <p:nvPr/>
        </p:nvPicPr>
        <p:blipFill>
          <a:blip r:embed="rId1"/>
          <a:stretch/>
        </p:blipFill>
        <p:spPr>
          <a:xfrm>
            <a:off x="5292720" y="1413000"/>
            <a:ext cx="3436920" cy="44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1" descr="C:\Documents and Settings\Admin\Рабочий стол\Улицы моего города - улицы имени героев\untitled.bmp"/>
          <p:cNvPicPr/>
          <p:nvPr/>
        </p:nvPicPr>
        <p:blipFill>
          <a:blip r:embed="rId1"/>
          <a:stretch/>
        </p:blipFill>
        <p:spPr>
          <a:xfrm>
            <a:off x="179280" y="260280"/>
            <a:ext cx="2737080" cy="2052720"/>
          </a:xfrm>
          <a:prstGeom prst="rect">
            <a:avLst/>
          </a:prstGeom>
          <a:ln w="0">
            <a:noFill/>
          </a:ln>
        </p:spPr>
      </p:pic>
      <p:sp>
        <p:nvSpPr>
          <p:cNvPr id="560" name="PlaceHolder 1"/>
          <p:cNvSpPr>
            <a:spLocks noGrp="1"/>
          </p:cNvSpPr>
          <p:nvPr>
            <p:ph/>
          </p:nvPr>
        </p:nvSpPr>
        <p:spPr>
          <a:xfrm>
            <a:off x="3059280" y="1052280"/>
            <a:ext cx="6084720" cy="143172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городе Бердске 236 улиц</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х общая протяжённость – 138км.</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звания улиц разные по происхождению:</a:t>
            </a:r>
            <a:endParaRPr b="0" lang="en-US" sz="2400" spc="-1" strike="noStrike">
              <a:solidFill>
                <a:srgbClr val="000000"/>
              </a:solidFill>
              <a:latin typeface="Calibri"/>
            </a:endParaRPr>
          </a:p>
        </p:txBody>
      </p:sp>
      <p:sp>
        <p:nvSpPr>
          <p:cNvPr id="561" name=""/>
          <p:cNvSpPr txBox="1"/>
          <p:nvPr/>
        </p:nvSpPr>
        <p:spPr>
          <a:xfrm>
            <a:off x="178920" y="2492280"/>
            <a:ext cx="4318200" cy="363384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в честь политических деятелей </a:t>
            </a:r>
            <a:r>
              <a:rPr b="0" lang="ru-RU" sz="2000" spc="-1" strike="noStrike">
                <a:solidFill>
                  <a:srgbClr val="002060"/>
                </a:solidFill>
                <a:latin typeface="Calibri"/>
              </a:rPr>
              <a:t>разных времен: Ленина, Кирова, К. Маркса, Свердлова и т.д.</a:t>
            </a:r>
            <a:endParaRPr b="0" lang="en-US" sz="2000" spc="-1" strike="noStrike">
              <a:solidFill>
                <a:srgbClr val="000000"/>
              </a:solidFill>
              <a:latin typeface="Calibri"/>
            </a:endParaRPr>
          </a:p>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в честь великих полководцев</a:t>
            </a:r>
            <a:r>
              <a:rPr b="0" lang="ru-RU" sz="2000" spc="-1" strike="noStrike">
                <a:solidFill>
                  <a:srgbClr val="00b050"/>
                </a:solidFill>
                <a:latin typeface="Calibri"/>
              </a:rPr>
              <a:t>: Суворова, Кутузова, Ушакова, Нахимова, Чапаева и т.д.</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литические»</a:t>
            </a:r>
            <a:r>
              <a:rPr b="0" lang="ru-RU" sz="2000" spc="-1" strike="noStrike">
                <a:solidFill>
                  <a:srgbClr val="000000"/>
                </a:solidFill>
                <a:latin typeface="Calibri"/>
              </a:rPr>
              <a:t>: Советская, Пролетарская, Красноармейская, Комсомольская,  Пионерская, Российская и т.д</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
          <p:cNvSpPr txBox="1"/>
          <p:nvPr/>
        </p:nvSpPr>
        <p:spPr>
          <a:xfrm>
            <a:off x="4643280" y="2565000"/>
            <a:ext cx="4321440" cy="1832040"/>
          </a:xfrm>
          <a:prstGeom prst="rect">
            <a:avLst/>
          </a:prstGeom>
          <a:noFill/>
          <a:ln w="0">
            <a:noFill/>
          </a:ln>
        </p:spPr>
        <p:txBody>
          <a:bodyPr lIns="90000" rIns="90000" tIns="46800" bIns="46800" anchor="t">
            <a:normAutofit fontScale="63000"/>
          </a:bodyPr>
          <a:p>
            <a:pPr marL="216000" indent="-21600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Природные»: </a:t>
            </a:r>
            <a:r>
              <a:rPr b="0" lang="ru-RU" sz="2000" spc="-1" strike="noStrike">
                <a:solidFill>
                  <a:srgbClr val="00b050"/>
                </a:solidFill>
                <a:latin typeface="Calibri"/>
              </a:rPr>
              <a:t>Весенняя, Луговская, Сосновая, Лунная и т.д.</a:t>
            </a: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аздничные» </a:t>
            </a:r>
            <a:r>
              <a:rPr b="0" lang="ru-RU" sz="2000" spc="-1" strike="noStrike">
                <a:solidFill>
                  <a:srgbClr val="000000"/>
                </a:solidFill>
                <a:latin typeface="Calibri"/>
              </a:rPr>
              <a:t>: 8 Марта, Октябрьская, Первомайская.</a:t>
            </a:r>
            <a:endParaRPr b="0" lang="en-US" sz="2000" spc="-1" strike="noStrike">
              <a:solidFill>
                <a:srgbClr val="000000"/>
              </a:solidFill>
              <a:latin typeface="Calibri"/>
            </a:endParaRPr>
          </a:p>
          <a:p>
            <a:pPr marL="216000" indent="-2160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Литературные»: </a:t>
            </a:r>
            <a:r>
              <a:rPr b="0" lang="ru-RU" sz="2000" spc="-1" strike="noStrike">
                <a:solidFill>
                  <a:srgbClr val="002060"/>
                </a:solidFill>
                <a:latin typeface="Calibri"/>
              </a:rPr>
              <a:t>Пушкина, Лермонтова, Островского, Добролюбова, Некрасова, Маяковского  и т.д.</a:t>
            </a: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узыкальные»: </a:t>
            </a:r>
            <a:r>
              <a:rPr b="0" lang="ru-RU" sz="2000" spc="-1" strike="noStrike">
                <a:solidFill>
                  <a:srgbClr val="000000"/>
                </a:solidFill>
                <a:latin typeface="Calibri"/>
              </a:rPr>
              <a:t>Глинки, Чайковского, Римского-Корсакова, Мусоргского и.т.д.</a:t>
            </a:r>
            <a:endParaRPr b="0" lang="en-US" sz="2000" spc="-1" strike="noStrike">
              <a:solidFill>
                <a:srgbClr val="000000"/>
              </a:solidFill>
              <a:latin typeface="Calibri"/>
            </a:endParaRPr>
          </a:p>
          <a:p>
            <a:pPr marL="216000" indent="-2160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Улицы Героев» </a:t>
            </a: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80640"/>
            <a:ext cx="8229600" cy="36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Улицы имени героев</a:t>
            </a:r>
            <a:endParaRPr b="0" lang="en-US" sz="4400" spc="-1" strike="noStrike">
              <a:solidFill>
                <a:srgbClr val="000000"/>
              </a:solidFill>
              <a:latin typeface="Calibri"/>
            </a:endParaRPr>
          </a:p>
        </p:txBody>
      </p:sp>
      <p:sp>
        <p:nvSpPr>
          <p:cNvPr id="564" name="PlaceHolder 2"/>
          <p:cNvSpPr>
            <a:spLocks noGrp="1"/>
          </p:cNvSpPr>
          <p:nvPr>
            <p:ph/>
          </p:nvPr>
        </p:nvSpPr>
        <p:spPr>
          <a:xfrm>
            <a:off x="250920" y="1773000"/>
            <a:ext cx="7129440" cy="431640"/>
          </a:xfrm>
          <a:prstGeom prst="rect">
            <a:avLst/>
          </a:prstGeom>
          <a:noFill/>
          <a:ln w="0">
            <a:noFill/>
          </a:ln>
        </p:spPr>
        <p:txBody>
          <a:bodyPr lIns="90000" rIns="90000" tIns="46800" bIns="46800" anchor="b">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4 улиц названы в честь Героев Советского Союза</a:t>
            </a:r>
            <a:endParaRPr b="0" lang="en-US" sz="2400" spc="-1" strike="noStrike">
              <a:solidFill>
                <a:srgbClr val="000000"/>
              </a:solidFill>
              <a:latin typeface="Calibri"/>
            </a:endParaRPr>
          </a:p>
        </p:txBody>
      </p:sp>
      <p:sp>
        <p:nvSpPr>
          <p:cNvPr id="565" name=""/>
          <p:cNvSpPr txBox="1"/>
          <p:nvPr/>
        </p:nvSpPr>
        <p:spPr>
          <a:xfrm>
            <a:off x="178920" y="2421000"/>
            <a:ext cx="7201080" cy="3705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Герой Советского Союза </a:t>
            </a:r>
            <a:r>
              <a:rPr b="0" lang="ru-RU" sz="2000" spc="-1" strike="noStrike">
                <a:solidFill>
                  <a:srgbClr val="000000"/>
                </a:solidFill>
                <a:latin typeface="Calibri"/>
              </a:rPr>
              <a:t>– высшая степень отличи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ССР.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сшее звание, которого удостаивали за совершение подвига или выдающихся заслуг во время боевых действий, а также и в мирное время.</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вание впервые установлено Постановлением Центральным исполнительным комитетом СССР от 16 апреля 1934 года.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казом Президиума Верховного Совета СССР от 1 августа 1939 года введен особый отличительный знак «Медаль Героев Советского Союз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6" name="Picture 2" descr="C:\Documents and Settings\Admin\Рабочий стол\Улицы моего города - улицы имени героев\Новая папка\zvezda-geroya-3.jpg"/>
          <p:cNvPicPr/>
          <p:nvPr/>
        </p:nvPicPr>
        <p:blipFill>
          <a:blip r:embed="rId1"/>
          <a:stretch/>
        </p:blipFill>
        <p:spPr>
          <a:xfrm>
            <a:off x="7380360" y="1773360"/>
            <a:ext cx="1571400" cy="22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971640" y="5444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олбухин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Федор Ивано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6.06.1894 – 17.10.1949)</a:t>
            </a:r>
            <a:endParaRPr b="0" lang="en-US" sz="2400" spc="-1" strike="noStrike">
              <a:solidFill>
                <a:srgbClr val="000000"/>
              </a:solidFill>
              <a:latin typeface="Calibri"/>
            </a:endParaRPr>
          </a:p>
        </p:txBody>
      </p:sp>
      <p:sp>
        <p:nvSpPr>
          <p:cNvPr id="568" name=""/>
          <p:cNvSpPr txBox="1"/>
          <p:nvPr/>
        </p:nvSpPr>
        <p:spPr>
          <a:xfrm>
            <a:off x="4858920" y="765000"/>
            <a:ext cx="4041720" cy="3951360"/>
          </a:xfrm>
          <a:prstGeom prst="rect">
            <a:avLst/>
          </a:prstGeom>
          <a:noFill/>
          <a:ln w="0">
            <a:noFill/>
          </a:ln>
        </p:spPr>
        <p:txBody>
          <a:bodyPr lIns="90000" rIns="90000" tIns="46800" bIns="46800" anchor="t">
            <a:normAutofit fontScale="86000"/>
          </a:bodyPr>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Ф.И. Толбухин  - участник Первой мировой и Великой Отечественной войны. Под командованием Ф. И. Толбухина Красная армия освобождала Сталинград, Донбасс, Крым, Румынию, Болгарию, Югославию, Венгрию, Австрию. 12 сентября 1944 года  Президиум Верховного Совета СССР присвоил Толбухину звание Маршала Советского Союза. </a:t>
            </a:r>
            <a:endParaRPr b="0" lang="en-US" sz="2000" spc="-1" strike="noStrike">
              <a:solidFill>
                <a:srgbClr val="000000"/>
              </a:solidFill>
              <a:latin typeface="Calibri"/>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 Параде Победы 24 июня 1945 года Толбухин возглавлял колонну 3-го Украинского фронта.</a:t>
            </a:r>
            <a:endParaRPr b="0" lang="en-US" sz="2000" spc="-1" strike="noStrike">
              <a:solidFill>
                <a:srgbClr val="000000"/>
              </a:solidFill>
              <a:latin typeface="Calibri"/>
            </a:endParaRPr>
          </a:p>
        </p:txBody>
      </p:sp>
      <p:pic>
        <p:nvPicPr>
          <p:cNvPr id="569" name="Picture 2" descr="C:\Documents and Settings\Admin\Рабочий стол\Улицы моего города - улицы имени героев\tolbuhin_550.jpg"/>
          <p:cNvPicPr/>
          <p:nvPr/>
        </p:nvPicPr>
        <p:blipFill>
          <a:blip r:embed="rId1"/>
          <a:stretch/>
        </p:blipFill>
        <p:spPr>
          <a:xfrm>
            <a:off x="1619280" y="476280"/>
            <a:ext cx="3013200" cy="4248000"/>
          </a:xfrm>
          <a:prstGeom prst="rect">
            <a:avLst/>
          </a:prstGeom>
          <a:ln w="0">
            <a:noFill/>
          </a:ln>
        </p:spPr>
      </p:pic>
      <p:pic>
        <p:nvPicPr>
          <p:cNvPr id="570" name="Picture 3" descr="C:\Documents and Settings\Admin\Рабочий стол\Улицы моего города - улицы имени героев\zvezda-geroya-3.jpg"/>
          <p:cNvPicPr/>
          <p:nvPr/>
        </p:nvPicPr>
        <p:blipFill>
          <a:blip r:embed="rId2"/>
          <a:stretch/>
        </p:blipFill>
        <p:spPr>
          <a:xfrm>
            <a:off x="0" y="0"/>
            <a:ext cx="1403280" cy="199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971640" y="5444640"/>
            <a:ext cx="4039920" cy="639720"/>
          </a:xfrm>
          <a:prstGeom prst="rect">
            <a:avLst/>
          </a:prstGeom>
          <a:noFill/>
          <a:ln w="0">
            <a:noFill/>
          </a:ln>
        </p:spPr>
        <p:txBody>
          <a:bodyPr lIns="90000" rIns="90000" tIns="46800" bIns="46800"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Черняховский</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ван Данилович</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5.06.1907 – 18.02.1945)</a:t>
            </a:r>
            <a:endParaRPr b="0" lang="en-US" sz="2400" spc="-1" strike="noStrike">
              <a:solidFill>
                <a:srgbClr val="000000"/>
              </a:solidFill>
              <a:latin typeface="Calibri"/>
            </a:endParaRPr>
          </a:p>
        </p:txBody>
      </p:sp>
      <p:sp>
        <p:nvSpPr>
          <p:cNvPr id="572" name=""/>
          <p:cNvSpPr txBox="1"/>
          <p:nvPr/>
        </p:nvSpPr>
        <p:spPr>
          <a:xfrm>
            <a:off x="4427280" y="836280"/>
            <a:ext cx="4546440" cy="4599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Генерал армии, дважды Герой Советского Союза (1943, 1944). Командующий 28-й танковой девизией, 18-м танковым корпусом, 60-й армией, 3-м Белорусским фронтом.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Именно армия Черняховского сыграла решающую роль в стремительном освобождении Курска, нанеся неожиданный для противника глубокий фланговый удар.  </a:t>
            </a:r>
            <a:endParaRPr b="0" lang="en-US" sz="2400" spc="-1" strike="noStrike">
              <a:solidFill>
                <a:srgbClr val="000000"/>
              </a:solidFill>
              <a:latin typeface="Calibri"/>
            </a:endParaRPr>
          </a:p>
        </p:txBody>
      </p:sp>
      <p:pic>
        <p:nvPicPr>
          <p:cNvPr id="573" name="Picture 3" descr="C:\Documents and Settings\Admin\Рабочий стол\Улицы моего города - улицы имени героев\zvezda-geroya-3.jpg"/>
          <p:cNvPicPr/>
          <p:nvPr/>
        </p:nvPicPr>
        <p:blipFill>
          <a:blip r:embed="rId1"/>
          <a:stretch/>
        </p:blipFill>
        <p:spPr>
          <a:xfrm>
            <a:off x="0" y="0"/>
            <a:ext cx="1403280" cy="1994040"/>
          </a:xfrm>
          <a:prstGeom prst="rect">
            <a:avLst/>
          </a:prstGeom>
          <a:ln w="0">
            <a:noFill/>
          </a:ln>
        </p:spPr>
      </p:pic>
      <p:pic>
        <p:nvPicPr>
          <p:cNvPr id="574" name="Picture 2" descr="C:\Documents and Settings\Admin\Рабочий стол\Улицы моего города - улицы имени героев\270px-Иван_Черняховский_1943-01.jpg"/>
          <p:cNvPicPr/>
          <p:nvPr/>
        </p:nvPicPr>
        <p:blipFill>
          <a:blip r:embed="rId2"/>
          <a:stretch/>
        </p:blipFill>
        <p:spPr>
          <a:xfrm>
            <a:off x="1692360" y="620640"/>
            <a:ext cx="2763720" cy="3951360"/>
          </a:xfrm>
          <a:prstGeom prst="rect">
            <a:avLst/>
          </a:prstGeom>
          <a:ln w="0">
            <a:noFill/>
          </a:ln>
        </p:spPr>
      </p:pic>
      <p:pic>
        <p:nvPicPr>
          <p:cNvPr id="575" name="Picture 3" descr="C:\Documents and Settings\Admin\Рабочий стол\Улицы моего города - улицы имени героев\zvezda-geroya-3.jpg"/>
          <p:cNvPicPr/>
          <p:nvPr/>
        </p:nvPicPr>
        <p:blipFill>
          <a:blip r:embed="rId3"/>
          <a:stretch/>
        </p:blipFill>
        <p:spPr>
          <a:xfrm>
            <a:off x="0" y="2205000"/>
            <a:ext cx="140328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4T15:51:35Z</dcterms:created>
  <dc:creator>User</dc:creator>
  <dc:description/>
  <dc:language>en-US</dc:language>
  <cp:lastModifiedBy>RNA</cp:lastModifiedBy>
  <dcterms:modified xsi:type="dcterms:W3CDTF">2018-11-09T07:54:40Z</dcterms:modified>
  <cp:revision>68</cp:revision>
  <dc:subject/>
  <dc:title>Слайд 1</dc:title>
</cp:coreProperties>
</file>