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0.gif" ContentType="image/gif"/>
  <Override PartName="/ppt/media/image12.png" ContentType="image/png"/>
  <Override PartName="/ppt/media/image9.gif" ContentType="image/gif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3.png" ContentType="image/png"/>
  <Override PartName="/ppt/media/image4.jpeg" ContentType="image/jpeg"/>
  <Override PartName="/ppt/media/image2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5.png" ContentType="image/png"/>
  <Override PartName="/ppt/media/image8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3056-9081-4C65-A0AE-A4128D16A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AB66-B160-4EC9-AB31-74359B536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25BB-F30F-415A-82CF-384CE7D6C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BD30-E161-4411-94C4-F6D7FDDE8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C38BC-6D55-46C2-AF0C-A0329C363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5D247-2F8B-4E98-BCA8-C2B569775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3307F-C334-4890-8FCF-02161F157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CC5E1-2952-4830-8442-BDAD3B201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55DA2-B3CD-4E97-B37B-B965C74C0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AB5D7-DEC0-48E5-9FB0-B679CFE0B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D0BC3-F043-4FEE-849F-A97625B63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5233-FAAA-4D06-B68D-5CA8479C4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15860-85AD-4D54-8807-059E4C6DE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CB67D-0B66-4A5B-AA44-433C53245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CCBBC-7A35-4C7B-AEAC-A6CE82D7A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63231-3A5F-451A-ABB7-F634156FA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C4840-8B52-41D2-8C3E-83672C193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C5FEC5-44EC-491F-ADCD-855D133E1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CCF16D-718F-4117-946E-69538F660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E83AE4-7BAE-464B-BA3B-BE931E862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82F50F-DCBF-45A2-86DA-B1ADB4208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48B50A-2FD5-4954-B5C6-DDADF44E1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11FD-0FAE-457E-94E2-5D3E29372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F70CB8-4389-4C32-A77F-56F0A4560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80FFAC-EBE5-422D-9580-5BC328822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F27E01-BA72-472F-A786-18EF5D7E6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C640DA-96A2-493E-B373-2589F2408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C8F881-9EA9-4EAB-A294-9CD42273A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2F6AEA-8D93-4F5A-8937-56ADB2685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2B9DBE-7DA5-49B3-93DB-AF52EEA56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4C5101-E18F-4219-B15F-B2F21D753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B8C9DB-2EE0-4157-B127-22BAAD567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86E464-0A07-4D73-B250-AB820238C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AEAA-48BE-42C1-BB91-0D3CF7597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E6E323-3A01-4FBD-A982-C8AE35099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0A8EE3-C9A2-4D7F-AF94-1AE16C802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1E0754-9241-4053-BF8E-A7B8C6EBE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C9DDE2-AE96-4371-A95B-B31D2BFA2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1ABD14-74F3-4830-9FE6-D185E4C67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D82E0B-0F20-427B-943B-8C1A0F0C1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1A4AFD-1D9C-456C-BC15-0C3D2CC79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7B9FB3-88E8-4800-B3FB-E7D7DB207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1154D7-10C1-42E4-A2C0-ACFD5E9E5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D8732E-9FBD-4D82-8A25-7C7FB3D0A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D767-DC86-4499-8859-4F6F9FDB1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078AE8-788E-4BC4-9795-4ABCD1F57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90E5AE-8577-4C99-8EAE-12FF1E80E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52A0FE-3024-46E8-8774-66B11D816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91607C-5881-4449-A3FD-1DC03C86F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4289A9-F913-4FF6-8378-0DBB0FEF5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09E4CA-E5C6-4BD7-AAAD-2DA5E6C9D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DF3ABF-F7AC-47E1-A1EC-164D1166E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62687A-D0F8-47C1-945C-14242D5FF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F7EF90-B4EA-420B-AC46-A7D91C1D4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842681-694C-4B57-898B-0E8EA5A74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408E-B9B3-4C77-848E-E4D18EE6F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447B00-AF34-44EB-B7E2-6A809A178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F8B6-53F8-4360-B7A4-ADEB056E5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5517-436A-453F-B637-358E1E5ED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2936-2B0F-4625-8318-678663602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748D1-7EE1-4D2F-8BAC-BC9BC96734E7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0FCB3-3086-441B-BDB1-7D1775B2DE87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70483-EC3D-449A-8250-FB607A2374CD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1C959-0F31-401B-81D8-E1B21FA5DE63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9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C9AE7-A90E-4745-B510-F003AFFEE895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Box 2"/>
          <p:cNvSpPr/>
          <p:nvPr/>
        </p:nvSpPr>
        <p:spPr>
          <a:xfrm>
            <a:off x="900000" y="1484280"/>
            <a:ext cx="7632720" cy="45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следовательская раб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  «Здравствуй,скворушка!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                 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Выполнили: уч-ся 2 а кла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МОАУ «СОШ № 10 г.Новотроиц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Оренбург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2016-20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2" descr=""/>
          <p:cNvPicPr/>
          <p:nvPr/>
        </p:nvPicPr>
        <p:blipFill>
          <a:blip r:embed="rId1"/>
          <a:stretch/>
        </p:blipFill>
        <p:spPr>
          <a:xfrm>
            <a:off x="1187280" y="1844640"/>
            <a:ext cx="7129800" cy="4105440"/>
          </a:xfrm>
          <a:prstGeom prst="rect">
            <a:avLst/>
          </a:prstGeom>
          <a:ln w="0">
            <a:noFill/>
          </a:ln>
        </p:spPr>
      </p:pic>
      <p:sp>
        <p:nvSpPr>
          <p:cNvPr id="269" name="Прямоугольник 2"/>
          <p:cNvSpPr/>
          <p:nvPr/>
        </p:nvSpPr>
        <p:spPr>
          <a:xfrm>
            <a:off x="1187280" y="981000"/>
            <a:ext cx="7056720" cy="503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Места гнездования и зимовки скворц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Прямоугольник 4" descr=""/>
          <p:cNvPicPr/>
          <p:nvPr/>
        </p:nvPicPr>
        <p:blipFill>
          <a:blip r:embed="rId1"/>
          <a:stretch/>
        </p:blipFill>
        <p:spPr>
          <a:xfrm>
            <a:off x="523800" y="755640"/>
            <a:ext cx="7437600" cy="1743120"/>
          </a:xfrm>
          <a:prstGeom prst="rect">
            <a:avLst/>
          </a:prstGeom>
          <a:ln w="0">
            <a:noFill/>
          </a:ln>
        </p:spPr>
      </p:pic>
      <p:sp>
        <p:nvSpPr>
          <p:cNvPr id="247" name="TextBox 5"/>
          <p:cNvSpPr/>
          <p:nvPr/>
        </p:nvSpPr>
        <p:spPr>
          <a:xfrm>
            <a:off x="684360" y="3141720"/>
            <a:ext cx="6696000" cy="25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Constantia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50000"/>
              </a:lnSpc>
              <a:buClr>
                <a:srgbClr val="c00000"/>
              </a:buClr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Constantia"/>
              </a:rPr>
              <a:t>Проявить самостоятельность в поисках материа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50000"/>
              </a:lnSpc>
              <a:buClr>
                <a:srgbClr val="c00000"/>
              </a:buClr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Constantia"/>
              </a:rPr>
              <a:t>Закреплять умение работать в групп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50000"/>
              </a:lnSpc>
              <a:buClr>
                <a:srgbClr val="c00000"/>
              </a:buClr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Constantia"/>
              </a:rPr>
              <a:t>Обобщить приготовленный материал и представить в виде презент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4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4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шесте дворец,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дворце певец.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прилетает каждый год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Туда, где домик ждет.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Чужие песни петь умеет,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всё же голос свой имеет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5" descr="1301693427_714401041106"/>
          <p:cNvPicPr/>
          <p:nvPr/>
        </p:nvPicPr>
        <p:blipFill>
          <a:blip r:embed="rId1"/>
          <a:stretch/>
        </p:blipFill>
        <p:spPr>
          <a:xfrm>
            <a:off x="2620800" y="274680"/>
            <a:ext cx="390060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Содержимое 11" descr="скворец1.jpg"/>
          <p:cNvPicPr/>
          <p:nvPr/>
        </p:nvPicPr>
        <p:blipFill>
          <a:blip r:embed="rId1"/>
          <a:stretch/>
        </p:blipFill>
        <p:spPr>
          <a:xfrm>
            <a:off x="4357800" y="214200"/>
            <a:ext cx="4500360" cy="528660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456840" y="285480"/>
            <a:ext cx="3328920" cy="61434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Прилетает днями позже грач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В гнездовое время  придерживается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человеческих поселений или лесов. Гнездится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в дуплах, чаще в скворечниках. Гнездо строят об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птицы, насиживает самка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" name="Rectangle 1"/>
          <p:cNvSpPr/>
          <p:nvPr/>
        </p:nvSpPr>
        <p:spPr>
          <a:xfrm>
            <a:off x="4786200" y="5575680"/>
            <a:ext cx="37864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51080"/>
                <a:tab algn="l" pos="234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ряд Воробьин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51080"/>
                <a:tab algn="l" pos="234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Семейство Скворцов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51080"/>
                <a:tab algn="l" pos="234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Род Настоящие Скворц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51080"/>
                <a:tab algn="l" pos="234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ыкновенный скворе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3" descr="D:\природа учителя\анимации\j0213508.gif"/>
          <p:cNvPicPr/>
          <p:nvPr/>
        </p:nvPicPr>
        <p:blipFill>
          <a:blip r:embed="rId2"/>
          <a:stretch/>
        </p:blipFill>
        <p:spPr>
          <a:xfrm>
            <a:off x="3929040" y="4643280"/>
            <a:ext cx="1428840" cy="150048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4" descr="D:\природа учителя\анимации\j0283572.gif"/>
          <p:cNvPicPr/>
          <p:nvPr/>
        </p:nvPicPr>
        <p:blipFill>
          <a:blip r:embed="rId3"/>
          <a:stretch/>
        </p:blipFill>
        <p:spPr>
          <a:xfrm rot="1549200">
            <a:off x="-85320" y="240840"/>
            <a:ext cx="1314360" cy="895320"/>
          </a:xfrm>
          <a:prstGeom prst="rect">
            <a:avLst/>
          </a:prstGeom>
          <a:ln w="0">
            <a:noFill/>
          </a:ln>
        </p:spPr>
      </p:pic>
    </p:spTree>
  </p:cSld>
  <p:transition advTm="3000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3" descr=""/>
          <p:cNvPicPr/>
          <p:nvPr/>
        </p:nvPicPr>
        <p:blipFill>
          <a:blip r:embed="rId1"/>
          <a:stretch/>
        </p:blipFill>
        <p:spPr>
          <a:xfrm>
            <a:off x="684360" y="1052640"/>
            <a:ext cx="3497040" cy="244764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4" descr=""/>
          <p:cNvPicPr/>
          <p:nvPr/>
        </p:nvPicPr>
        <p:blipFill>
          <a:blip r:embed="rId2"/>
          <a:stretch/>
        </p:blipFill>
        <p:spPr>
          <a:xfrm>
            <a:off x="4572000" y="3500280"/>
            <a:ext cx="3781440" cy="2530800"/>
          </a:xfrm>
          <a:prstGeom prst="rect">
            <a:avLst/>
          </a:prstGeom>
          <a:ln w="0">
            <a:noFill/>
          </a:ln>
        </p:spPr>
      </p:pic>
      <p:sp>
        <p:nvSpPr>
          <p:cNvPr id="258" name="TextBox 3"/>
          <p:cNvSpPr/>
          <p:nvPr/>
        </p:nvSpPr>
        <p:spPr>
          <a:xfrm>
            <a:off x="4788000" y="981000"/>
            <a:ext cx="360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ейство скворцовых включает в себя более 100 видов. В семейство входят представители некрупных певчих воробьиных. Для представителей этих видов свойственны средние размеры, схожий образ жизни, окраска, опер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4"/>
          <p:cNvSpPr/>
          <p:nvPr/>
        </p:nvSpPr>
        <p:spPr>
          <a:xfrm>
            <a:off x="684360" y="3716280"/>
            <a:ext cx="3527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юв скворцов длинный, прямой, сильный. Кончик клюва этих птиц немного сплюснут. Скворцы имеют прямой короткий хвост. Крылья острые. В России очень распространен обыкновенный скворец (шпак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C 0.069 0 0.125 0.07461 0.125 0.16655 C 0.125 0.25849 0.069 0.3331 0 0.3331 C -0.069 0.3331 -0.125 0.25849 -0.125 0.16655 C -0.125 0.07461 -0.069 0 0 0 Z">
                                      <p:cBhvr>
                                        <p:cTn id="42" dur="2000" fill="hold"/>
                                        <p:tgtEl>
                                          <p:spTgt spid="2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C 0.069 0 0.125 0.07461 0.125 0.16655 C 0.125 0.25849 0.069 0.3331 0 0.3331 C -0.069 0.3331 -0.125 0.25849 -0.125 0.16655 C -0.125 0.07461 -0.069 0 0 0 Z">
                                      <p:cBhvr>
                                        <p:cTn id="54" dur="2000" fill="hold"/>
                                        <p:tgtEl>
                                          <p:spTgt spid="2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4" descr=""/>
          <p:cNvPicPr/>
          <p:nvPr/>
        </p:nvPicPr>
        <p:blipFill>
          <a:blip r:embed="rId1"/>
          <a:stretch/>
        </p:blipFill>
        <p:spPr>
          <a:xfrm>
            <a:off x="539640" y="981000"/>
            <a:ext cx="4038840" cy="249876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2" descr=""/>
          <p:cNvPicPr/>
          <p:nvPr/>
        </p:nvPicPr>
        <p:blipFill>
          <a:blip r:embed="rId2"/>
          <a:stretch/>
        </p:blipFill>
        <p:spPr>
          <a:xfrm>
            <a:off x="4716360" y="3573360"/>
            <a:ext cx="3876840" cy="2739960"/>
          </a:xfrm>
          <a:prstGeom prst="rect">
            <a:avLst/>
          </a:prstGeom>
          <a:ln w="0">
            <a:noFill/>
          </a:ln>
        </p:spPr>
      </p:pic>
      <p:sp>
        <p:nvSpPr>
          <p:cNvPr id="262" name="TextBox 3"/>
          <p:cNvSpPr/>
          <p:nvPr/>
        </p:nvSpPr>
        <p:spPr>
          <a:xfrm>
            <a:off x="4788000" y="1125360"/>
            <a:ext cx="381636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ыкновенный скворец – мигрирующая птица. Расстояния до места зимовок может достигать до двух тысяч километров. Начало брачного сезона скворцов приходится на раннюю весну. Число яиц в кладке обычно от 4 до 6 штук. Птенцы появляются на свет совершенно беспомощным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4"/>
          <p:cNvSpPr/>
          <p:nvPr/>
        </p:nvSpPr>
        <p:spPr>
          <a:xfrm>
            <a:off x="684360" y="3716280"/>
            <a:ext cx="3743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ворцы являются всеядными птицами, употребляют пищу растительного и животного происхождения. Средняя продолжительность жизни в естественных условиях обитания достигает 12 лет. Молодые особи отправляются на зимовку нередко в середине июня, но большинство скворцов собираются в путь только к середине октябр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path" presetID="1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 0.0453 0.011 0.08661 0.028 0.11325 C 0.028 0.11459 0.055 0.15056 0.055 0.14923 C 0.07 0.16922 0.079 0.1972 0.079 0.22651 C 0.079 0.28514 0.044 0.33177 0 0.3331 C -0.044 0.33177 -0.079 0.28514 -0.079 0.22651 C -0.079 0.1972 -0.07 0.16922 -0.055 0.14923 C -0.055 0.15056 -0.028 0.11459 -0.028 0.11325 C -0.011 0.08661 -0.001 0.0453 0 0 Z">
                                      <p:cBhvr>
                                        <p:cTn id="81" dur="2000" fill="hold"/>
                                        <p:tgtEl>
                                          <p:spTgt spid="2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path" presetID="1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 0.0453 0.011 0.08661 0.028 0.11325 C 0.028 0.11459 0.055 0.15056 0.055 0.14923 C 0.07 0.16922 0.079 0.1972 0.079 0.22651 C 0.079 0.28514 0.044 0.33177 0 0.3331 C -0.044 0.33177 -0.079 0.28514 -0.079 0.22651 C -0.079 0.1972 -0.07 0.16922 -0.055 0.14923 C -0.055 0.15056 -0.028 0.11459 -0.028 0.11325 C -0.011 0.08661 -0.001 0.0453 0 0 Z">
                                      <p:cBhvr>
                                        <p:cTn id="90" dur="2000" fill="hold"/>
                                        <p:tgtEl>
                                          <p:spTgt spid="2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2" descr=""/>
          <p:cNvPicPr/>
          <p:nvPr/>
        </p:nvPicPr>
        <p:blipFill>
          <a:blip r:embed="rId1"/>
          <a:stretch/>
        </p:blipFill>
        <p:spPr>
          <a:xfrm>
            <a:off x="755640" y="907920"/>
            <a:ext cx="3745080" cy="262260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3" descr=""/>
          <p:cNvPicPr/>
          <p:nvPr/>
        </p:nvPicPr>
        <p:blipFill>
          <a:blip r:embed="rId2"/>
          <a:stretch/>
        </p:blipFill>
        <p:spPr>
          <a:xfrm>
            <a:off x="4716360" y="3573360"/>
            <a:ext cx="3882960" cy="2611440"/>
          </a:xfrm>
          <a:prstGeom prst="rect">
            <a:avLst/>
          </a:prstGeom>
          <a:ln w="0">
            <a:noFill/>
          </a:ln>
        </p:spPr>
      </p:pic>
      <p:sp>
        <p:nvSpPr>
          <p:cNvPr id="266" name="TextBox 3"/>
          <p:cNvSpPr/>
          <p:nvPr/>
        </p:nvSpPr>
        <p:spPr>
          <a:xfrm>
            <a:off x="4716360" y="907920"/>
            <a:ext cx="3959280" cy="23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имуют они на континентах таких как Северная Америка, Австралия. Они образуют большие стаи. Однако поселения скворцов состоят из небольших колоний сбившихся в стаи птиц. После зимовок на родину первыми прилетают самцы. После прилета они сразу же приступают к поиску места где будет гнездо. Это может быть или скворечник, или дупло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9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5" descr="1301693427_714401041106"/>
          <p:cNvPicPr/>
          <p:nvPr/>
        </p:nvPicPr>
        <p:blipFill>
          <a:blip r:embed="rId1"/>
          <a:stretch/>
        </p:blipFill>
        <p:spPr>
          <a:xfrm>
            <a:off x="2620800" y="274680"/>
            <a:ext cx="390060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0T20:58:56Z</dcterms:created>
  <dc:creator>Туленкова Наталья</dc:creator>
  <dc:description/>
  <dc:language>en-US</dc:language>
  <cp:lastModifiedBy>пк</cp:lastModifiedBy>
  <dcterms:modified xsi:type="dcterms:W3CDTF">2017-03-25T20:09:57Z</dcterms:modified>
  <cp:revision>86</cp:revision>
  <dc:subject/>
  <dc:title>Слайд 1</dc:title>
</cp:coreProperties>
</file>