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4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3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6.jpeg" ContentType="image/jpeg"/>
  <Override PartName="/ppt/media/image44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50.png" ContentType="image/png"/>
  <Override PartName="/ppt/media/image51.png" ContentType="image/png"/>
  <Override PartName="/ppt/media/image48.jpeg" ContentType="image/jpeg"/>
  <Override PartName="/ppt/media/image53.png" ContentType="image/png"/>
  <Override PartName="/ppt/media/image31.jpeg" ContentType="image/jpeg"/>
  <Override PartName="/ppt/media/image37.jpeg" ContentType="image/jpeg"/>
  <Override PartName="/ppt/media/image30.png" ContentType="image/png"/>
  <Override PartName="/ppt/media/image10.png" ContentType="image/png"/>
  <Override PartName="/ppt/media/image35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8.gif" ContentType="image/gif"/>
  <Override PartName="/ppt/media/image18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27.jpeg" ContentType="image/jpeg"/>
  <Override PartName="/ppt/media/image5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AB80-3503-4188-A266-1AB8E0376B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B7E2-A606-4C74-B8AA-ECDC24B5F0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368-65A9-4F84-8D0B-452A8CCB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BCF-33C2-4DBF-92C8-88ABA3D9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5A3FD-EAA6-4080-A534-788D5BB2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2DDD7-9BAC-46E2-BFC4-F9F151AD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E37E8-44BB-41AC-B7EB-FC6CF9EF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F983B-2ABA-4AAB-B569-DF926B4B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AC2DF-9E42-47A3-8466-B175D2DC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CB5C3-A037-472E-BF57-D21D6633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20126-DF2D-46FC-B1E0-A7D33FAD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646B6-0E4D-4D48-B3DD-765F4A48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6B7E1-3A5B-4A17-98E1-F389B526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B18B8-D5C5-41BF-96E9-A9B63C88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3C1-CE7D-4963-BB68-9238C6B9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12D50-A11D-419E-8423-59CE0B9C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5F646-C8B8-4B46-8C55-BFDBC48E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B3757-E191-4C77-8869-D68C5C9B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D72A9-69D0-45C4-8EAB-679A43CA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CBB13-29B5-4D8E-A824-2E9FF031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9B38F-39EA-432D-A220-48E07767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9911B-DA00-48DA-950F-0DA7AE1D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C5395-AE73-4F3E-953D-BF10DE41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51AC4-D94A-47B9-B320-A992C70C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C6297-91BC-489D-AC16-B9B137CC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70F-47E6-4529-9D88-E4516D5C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703BF-7481-4BF6-AE68-DACC1EAF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C6D13-3E36-4D45-BBB9-0B19E4F9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C1528-0D54-4394-B774-916C2D46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63E47-ECA0-4768-BA58-9CF3AD42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2CA7E-D76C-40E6-8C3F-A05E87FB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E8CDE-B412-43FB-B72A-CD71904B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5A271-6E96-4A4A-857D-9273313F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01634-112F-45CD-9FF3-1713C794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1FEA9-A895-4153-AEFC-CD3832E2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E4663-C323-44FA-9840-F0E66357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A8E4-D37F-4B25-B8A1-F3EDCA2D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DEA8A-EC94-4B6C-9C11-B11FEDA0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FCF05-09EC-46A4-B698-C4BC3D3C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CC028-4FC3-4163-925D-70EC81E9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EB0CC-439C-4851-B786-7E604587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4A530-FC76-4F12-972D-599AA991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ABAF8-8224-46D2-9671-8A109AE8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CC92C-D2D9-4D19-B3E8-C0AD227D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FDFCD-05C2-44AE-A99E-413BB287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B603D-3971-43EB-A553-A1E3B2D4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FB25C-61F4-4384-B349-70A09D00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4DCE-82BC-4380-8DEE-6C9D97FD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10FE3-9C64-4740-92CC-231AF3EC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153F8-FA2A-4BE2-BD38-7E865CDC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8F45E-192D-432E-A37B-5FA16C0A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C7080-4EF0-4B8F-BAA2-B2AA69A9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C86CF-4652-43A5-8AC2-9E02B76D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65CCB-D697-43EA-BF47-DB28BDE0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5FDBE-F98E-436B-A7E8-767EE042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E990B-BDD7-4055-ABAE-F883B23C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C102A-DF35-4549-9948-96AD3C9A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2C7BE-A519-4C0B-8BA4-45DEBD3E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55F8-DB8E-494B-8FCF-F43D8365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F6FA9-A161-44F9-9FF9-C1EE9DC8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F96EF-B20C-4D5C-9F46-459426CD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21E5F-E8F3-4CE3-B9F4-76EDAFD4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C9563-EF5F-4445-B2D6-C6E0287C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958CF-0191-4AC1-8C65-14624989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52446-FABE-44F2-ADB9-9696CA2C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4AA0A-8C8D-46F7-A53B-2680034E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EE38B1-7BDF-49D1-BFEB-3F980AF4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09BA2-238F-4C5E-9013-3E58332F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C0FA86-CEAE-4069-A44B-AB15AABD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6C02-EE7C-4407-92FE-97A7E3F1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87621-C88B-462D-B65A-FAB299C1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2AA30-F351-4237-A61F-6B9AB800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A25CF-1B71-4174-9C57-1D92E730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470E4-B16C-4057-8262-BC4A0520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701A2-2566-4A26-A0C9-2E96073A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F9D044-470E-4C0C-B2B0-0A497D47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29DB8-5DC6-4A9A-83E4-5442C13E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CCF07-F3F7-42DE-8CAE-185892A1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40A0C-C682-47BA-AC0C-25985F72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F1C115-EC28-4C0B-B827-C80926DD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2153-7B5C-4F07-A084-B8F583B0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701306-7177-48DE-B5D2-01EE5D59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87A4F1-EDFB-420A-A5B7-F6E13D15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F37C77-05C6-47C5-AF3D-6E7EC3B3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76F050-62DB-4856-AE94-4A8AA382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010C4-9549-4134-A379-FF890048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DCEAD-6667-4A4C-A7C6-2D4B315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0CFA8A-20DF-4C3C-A0FD-49C152F9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783FC-FA61-4E6D-97CF-14ACAE02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ABA4D4-4BEB-4F41-B60E-896ED3D5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A9B29-1470-4036-AB27-C9F48301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7232-1B31-4818-BF47-F71BB09F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DC05FD-DA5A-4F33-A562-2819ECC2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DDCB-D9E6-453C-8D64-366F8BFF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693-ABAD-44C8-AC39-E39B2927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DCE7-211C-46F6-8E4F-FBFDA66E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2A7C-3541-4AAC-94E3-1A35EF81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9652-9A23-4953-9743-2D3B0944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66B6-C314-4C7D-B275-B26A974F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E2C5-6473-4EC2-9001-DB6E6C96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E802F-B0E5-4FA6-9ADB-9893B6C0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DFEB9-7A6D-4FBE-9AB4-CEBA462B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516D0-F277-4B58-8A72-2838E28A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491C-BAB2-4FD7-BFD2-6D86B124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C90BD-2F3D-4CEC-8E11-269FB41F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86CA-40F4-488B-8BAD-514640D5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EE8F3-A8C8-456D-951F-0148A990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0D3FA-E939-4BC3-ABC7-E1C77FB5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07DC0-D244-4EDB-8A09-B16B748F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0C32-7A61-4AC1-A0D3-78B6D5DA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28FF5-B2E3-4110-817A-22E55DAB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FB260-8538-4246-8809-E8DA9D53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44E2-30D1-4577-986B-56F3CDF4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84232-17C8-41F8-A2E8-15D81786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E351C-4A76-43C4-838A-4A5A164E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D625A-8BAE-4A48-8BA3-D757B011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2D9-68C8-43B5-91EA-A6CCC492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D2716-797E-4A2F-A040-9D068F08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0F4F6-0DB2-45A9-BD9E-EFCEA7D8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3CCE5-FDB2-4FA4-8BED-4B3EF483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6A9CA-81D6-4B39-99D7-563C7E60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F317D-3981-4A31-AEA4-D496F2DE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3CB0B-2BB4-491A-BD0E-14F7E126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97F2-ED5C-4703-9677-52F8DF6D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644C3-48D7-4197-9E8C-9D1CD4B4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7223B-4A0A-4322-B835-0A0BC613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54634-45D1-4BB0-995D-A8648A05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286-843D-4C09-99C4-298BF6D1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4E566-12FC-4B2D-B4EE-253A37CF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1A1E1-6F19-4302-B93A-8240729B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D1343-4126-4143-A6A0-AFC11EA3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06B0D-8024-48FF-B925-0CB68FCD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E284D-EAD3-4410-899D-BE79BCC7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5DD4B-90B5-4748-91BC-68993282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DEFAE-E159-4387-BE3E-623CFCEA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2316E-A48C-44FE-8809-7193ED22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FB1E9-2DBD-4737-B35E-832626FF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9C08B-D7F8-410C-B144-2E600D9B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502-9C48-429D-BEE7-07D7329B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41734-EB7B-48D6-B662-A8CB4C07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C175D-6C8F-4308-86A3-6F7F626C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FDE5B-BB12-4D83-A2A5-A0249410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41008-64B8-4320-9395-8F074BF3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C3F05-8804-4EED-9F63-59FEEBD7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7833D-C131-4D6F-BAFF-FE2BB618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84935-E5EB-4480-9CD5-0C5A6A18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EE49C-52D8-4878-A30C-D294F29F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396E4-1B14-4BF3-8098-2DC75A4A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1B3F7-7589-4407-A162-2FFCBEE5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C7E-726B-4D14-AAD5-0F12332F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683C9-B7A5-4338-AF2D-1F9F94B1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05E60-4C65-4A2D-8681-B7D7153E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3FC9C-F2CA-4F9B-A40F-C93DE4C6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D32B5-57AC-4266-9A47-55B1B7E0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7E011-E939-47D1-A1CE-F033982C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8B309-63F6-43FF-89A7-69E8DA4A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E47A1-0B5A-4697-AB23-3506B2A3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E4CCE-CCCA-4F14-B743-BB32D4DE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CC04A-8FB7-4589-90A4-8EB581C2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BCA40-1355-43EB-9559-ED5CF84C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DA2-489F-40C9-95CE-A221C08F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A8861-8E1A-49CA-8831-8851B13B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B4006-F34D-4725-935B-5F2E8B80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D86A1-3722-43F0-99EC-00B6182E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A7AED-8221-417E-9C5C-394D0CBD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076A3-8A3B-4023-8C2D-ED1D1A63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75DA8-3B2A-4609-BFA3-20A11A65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2DEA6-183B-47E4-91BC-89640970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D1C9A-D3F4-4592-9974-442BA78A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5C75B-3F5F-4010-AE28-4B1D80C2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56497-46B1-4E03-AE83-CB3A1571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5E2-8C14-40F4-98B1-FAACDCE6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57BAC-1D9A-42BC-882A-24F622D6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87DFC-F380-445C-BAB2-AF1F1DA9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5108E-4E8E-4C20-BD6B-D798E8AD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3D835-6DB1-4756-9DFF-116644A2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7C5B3-F95E-44E8-80B8-2276A903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0A3C9-75CE-4D94-B921-322A3285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41C92-C158-4358-9516-D72D2751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C21BA-9D14-4BDC-8ABF-597336FE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10859-BEF8-4303-9A35-43FBF67A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1170C-AF42-41AB-9BCD-B58D67AE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CA72-274D-4FAE-81CD-1F58EDD828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423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64DF-AB67-484E-AC16-5625323C24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8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469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9F37-FDB4-4E42-874E-0FA8A670BF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4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515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8D3D-94F4-4FA6-BDFB-BF5B513CA3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0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561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9CE6-0F6D-43D2-957F-E07ECA5EDF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6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60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861B-309F-45A5-923B-95A269D188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5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653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60DD-0749-494E-93B5-68217E67A8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9C17-CAA0-46FA-972B-BF2263D323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101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334C-4A5B-4685-A012-A6316A1D0A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6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14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4324-8342-4823-A5C4-E573964D2D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193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31D1-D4D8-4655-B14A-DECFB55F1C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8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B816-DCFF-4F51-9045-FA69221163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4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285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C55C-F897-4EDA-BF5F-A0BB5CBBFA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30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31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C8FE-B799-4706-89A7-A022ACD0B8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76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A56D-1CC8-4E73-8FAE-0A72B49657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11.png"/><Relationship Id="rId6" Type="http://schemas.openxmlformats.org/officeDocument/2006/relationships/image" Target="../media/image52.png"/><Relationship Id="rId7" Type="http://schemas.openxmlformats.org/officeDocument/2006/relationships/image" Target="../media/image12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hyperlink" Target="http://vmirepozitiva.ru/wp-content/uploads/2010/03/3_seagrass-birdhouse.jpg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image" Target="../media/image39.jpeg"/><Relationship Id="rId12" Type="http://schemas.openxmlformats.org/officeDocument/2006/relationships/image" Target="../media/image40.jpeg"/><Relationship Id="rId1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13" descr="skvopec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" descr="F:\картинки\0_3a8db_2c10a096_XL.png"/>
          <p:cNvPicPr/>
          <p:nvPr/>
        </p:nvPicPr>
        <p:blipFill>
          <a:blip r:embed="rId2"/>
          <a:stretch/>
        </p:blipFill>
        <p:spPr>
          <a:xfrm>
            <a:off x="990720" y="533520"/>
            <a:ext cx="7619760" cy="5153040"/>
          </a:xfrm>
          <a:prstGeom prst="rect">
            <a:avLst/>
          </a:prstGeom>
          <a:ln w="0">
            <a:noFill/>
          </a:ln>
        </p:spPr>
      </p:pic>
      <p:sp>
        <p:nvSpPr>
          <p:cNvPr id="706" name="Прямоугольник 6"/>
          <p:cNvSpPr/>
          <p:nvPr/>
        </p:nvSpPr>
        <p:spPr>
          <a:xfrm>
            <a:off x="2362320" y="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оугольник 7"/>
          <p:cNvSpPr/>
          <p:nvPr/>
        </p:nvSpPr>
        <p:spPr>
          <a:xfrm>
            <a:off x="4343400" y="54864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: Дручинин Ники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2 А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АУ «СОШ № 10 г.Новотроиц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2" descr="C:\Documents and Settings\Admin\Рабочий стол\Моя работа\Средняя группа весь год\скворушка\521278059.jpg"/>
          <p:cNvPicPr/>
          <p:nvPr/>
        </p:nvPicPr>
        <p:blipFill>
          <a:blip r:embed="rId3"/>
          <a:stretch/>
        </p:blipFill>
        <p:spPr>
          <a:xfrm>
            <a:off x="0" y="3962520"/>
            <a:ext cx="1905120" cy="2743200"/>
          </a:xfrm>
          <a:prstGeom prst="rect">
            <a:avLst/>
          </a:prstGeom>
          <a:ln w="0">
            <a:noFill/>
          </a:ln>
        </p:spPr>
      </p:pic>
      <p:pic>
        <p:nvPicPr>
          <p:cNvPr id="709" name="Прямоугольник 14" descr=""/>
          <p:cNvPicPr/>
          <p:nvPr/>
        </p:nvPicPr>
        <p:blipFill>
          <a:blip r:embed="rId4"/>
          <a:stretch/>
        </p:blipFill>
        <p:spPr>
          <a:xfrm>
            <a:off x="2670120" y="2286000"/>
            <a:ext cx="5334120" cy="1951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13" descr="skvopec"/>
          <p:cNvPicPr/>
          <p:nvPr/>
        </p:nvPicPr>
        <p:blipFill>
          <a:blip r:embed="rId1"/>
          <a:stretch/>
        </p:blipFill>
        <p:spPr>
          <a:xfrm>
            <a:off x="0" y="152280"/>
            <a:ext cx="1676520" cy="1595520"/>
          </a:xfrm>
          <a:prstGeom prst="rect">
            <a:avLst/>
          </a:prstGeom>
          <a:ln w="0">
            <a:noFill/>
          </a:ln>
        </p:spPr>
      </p:pic>
      <p:sp>
        <p:nvSpPr>
          <p:cNvPr id="762" name="TextBox 8"/>
          <p:cNvSpPr/>
          <p:nvPr/>
        </p:nvSpPr>
        <p:spPr>
          <a:xfrm>
            <a:off x="1523880" y="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ГОТОВКИ ДЛЯ СКВОРЕЧНИКА, СДЕЛАННЫЕ МОИМ ПАПОЙ И МН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12" descr="DSCN2087"/>
          <p:cNvPicPr/>
          <p:nvPr/>
        </p:nvPicPr>
        <p:blipFill>
          <a:blip r:embed="rId2"/>
          <a:stretch/>
        </p:blipFill>
        <p:spPr>
          <a:xfrm>
            <a:off x="152280" y="1752480"/>
            <a:ext cx="2667240" cy="22892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3" descr="DSCN2089"/>
          <p:cNvPicPr/>
          <p:nvPr/>
        </p:nvPicPr>
        <p:blipFill>
          <a:blip r:embed="rId3"/>
          <a:stretch/>
        </p:blipFill>
        <p:spPr>
          <a:xfrm>
            <a:off x="1905120" y="4191120"/>
            <a:ext cx="2819160" cy="23112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4" descr="DSCN2092"/>
          <p:cNvPicPr/>
          <p:nvPr/>
        </p:nvPicPr>
        <p:blipFill>
          <a:blip r:embed="rId4"/>
          <a:stretch/>
        </p:blipFill>
        <p:spPr>
          <a:xfrm>
            <a:off x="3124080" y="914400"/>
            <a:ext cx="2819520" cy="23050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5" descr="DSCN2095"/>
          <p:cNvPicPr/>
          <p:nvPr/>
        </p:nvPicPr>
        <p:blipFill>
          <a:blip r:embed="rId5"/>
          <a:stretch/>
        </p:blipFill>
        <p:spPr>
          <a:xfrm>
            <a:off x="6095880" y="1676520"/>
            <a:ext cx="2819520" cy="22860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6" descr="DSCN2096"/>
          <p:cNvPicPr/>
          <p:nvPr/>
        </p:nvPicPr>
        <p:blipFill>
          <a:blip r:embed="rId6"/>
          <a:stretch/>
        </p:blipFill>
        <p:spPr>
          <a:xfrm>
            <a:off x="5029200" y="4191120"/>
            <a:ext cx="2819520" cy="22716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13" descr="skvopec"/>
          <p:cNvPicPr/>
          <p:nvPr/>
        </p:nvPicPr>
        <p:blipFill>
          <a:blip r:embed="rId1"/>
          <a:stretch/>
        </p:blipFill>
        <p:spPr>
          <a:xfrm>
            <a:off x="0" y="152280"/>
            <a:ext cx="1676520" cy="1595520"/>
          </a:xfrm>
          <a:prstGeom prst="rect">
            <a:avLst/>
          </a:prstGeom>
          <a:ln w="0">
            <a:noFill/>
          </a:ln>
        </p:spPr>
      </p:pic>
      <p:sp>
        <p:nvSpPr>
          <p:cNvPr id="769" name="TextBox 8"/>
          <p:cNvSpPr/>
          <p:nvPr/>
        </p:nvSpPr>
        <p:spPr>
          <a:xfrm>
            <a:off x="1752480" y="0"/>
            <a:ext cx="7391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ОТ ТАКОЙ СКВОРЕЧНИК У НАС ПОЛУЧИЛСЯ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9" descr="DSCN2099"/>
          <p:cNvPicPr/>
          <p:nvPr/>
        </p:nvPicPr>
        <p:blipFill>
          <a:blip r:embed="rId2"/>
          <a:stretch/>
        </p:blipFill>
        <p:spPr>
          <a:xfrm>
            <a:off x="228600" y="1828800"/>
            <a:ext cx="2666880" cy="46720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10" descr="DSCN2108"/>
          <p:cNvPicPr/>
          <p:nvPr/>
        </p:nvPicPr>
        <p:blipFill>
          <a:blip r:embed="rId3"/>
          <a:stretch/>
        </p:blipFill>
        <p:spPr>
          <a:xfrm>
            <a:off x="3200400" y="1828800"/>
            <a:ext cx="2971800" cy="464832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1" descr="DSCN2110"/>
          <p:cNvPicPr/>
          <p:nvPr/>
        </p:nvPicPr>
        <p:blipFill>
          <a:blip r:embed="rId4"/>
          <a:stretch/>
        </p:blipFill>
        <p:spPr>
          <a:xfrm>
            <a:off x="6477120" y="1828800"/>
            <a:ext cx="25239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и пла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весить скворечник в с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блюдать за поведением скворц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рямоугольник 5"/>
          <p:cNvSpPr/>
          <p:nvPr/>
        </p:nvSpPr>
        <p:spPr>
          <a:xfrm>
            <a:off x="152388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Прямоугольник 6"/>
          <p:cNvSpPr/>
          <p:nvPr/>
        </p:nvSpPr>
        <p:spPr>
          <a:xfrm>
            <a:off x="1523880" y="380880"/>
            <a:ext cx="67820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Прямоугольник 4"/>
          <p:cNvSpPr/>
          <p:nvPr/>
        </p:nvSpPr>
        <p:spPr>
          <a:xfrm>
            <a:off x="2057400" y="914400"/>
            <a:ext cx="5257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8" descr="SKVOREC"/>
          <p:cNvPicPr/>
          <p:nvPr/>
        </p:nvPicPr>
        <p:blipFill>
          <a:blip r:embed="rId1"/>
          <a:stretch/>
        </p:blipFill>
        <p:spPr>
          <a:xfrm>
            <a:off x="7010280" y="685800"/>
            <a:ext cx="1013040" cy="6764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4" descr="SKVOREC"/>
          <p:cNvPicPr/>
          <p:nvPr/>
        </p:nvPicPr>
        <p:blipFill>
          <a:blip r:embed="rId2"/>
          <a:stretch/>
        </p:blipFill>
        <p:spPr>
          <a:xfrm>
            <a:off x="7848720" y="5257800"/>
            <a:ext cx="1444680" cy="9651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4" descr="SKVOREC"/>
          <p:cNvPicPr/>
          <p:nvPr/>
        </p:nvPicPr>
        <p:blipFill>
          <a:blip r:embed="rId3"/>
          <a:stretch/>
        </p:blipFill>
        <p:spPr>
          <a:xfrm>
            <a:off x="6705720" y="5715000"/>
            <a:ext cx="1444680" cy="9651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0" descr="skvorets_2_"/>
          <p:cNvPicPr/>
          <p:nvPr/>
        </p:nvPicPr>
        <p:blipFill>
          <a:blip r:embed="rId4"/>
          <a:stretch/>
        </p:blipFill>
        <p:spPr>
          <a:xfrm>
            <a:off x="457200" y="4727520"/>
            <a:ext cx="1576440" cy="21304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3" descr="skvopec"/>
          <p:cNvPicPr/>
          <p:nvPr/>
        </p:nvPicPr>
        <p:blipFill>
          <a:blip r:embed="rId5"/>
          <a:stretch/>
        </p:blipFill>
        <p:spPr>
          <a:xfrm>
            <a:off x="0" y="0"/>
            <a:ext cx="1992240" cy="19861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7" descr="skvorec"/>
          <p:cNvPicPr/>
          <p:nvPr/>
        </p:nvPicPr>
        <p:blipFill>
          <a:blip r:embed="rId6"/>
          <a:stretch/>
        </p:blipFill>
        <p:spPr>
          <a:xfrm>
            <a:off x="-152280" y="2362320"/>
            <a:ext cx="2090520" cy="28749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" descr="F:\картинки\0_3a8db_2c10a096_XL.png"/>
          <p:cNvPicPr/>
          <p:nvPr/>
        </p:nvPicPr>
        <p:blipFill>
          <a:blip r:embed="rId7"/>
          <a:stretch/>
        </p:blipFill>
        <p:spPr>
          <a:xfrm>
            <a:off x="1523880" y="533520"/>
            <a:ext cx="7620120" cy="5153040"/>
          </a:xfrm>
          <a:prstGeom prst="rect">
            <a:avLst/>
          </a:prstGeom>
          <a:ln w="0">
            <a:noFill/>
          </a:ln>
        </p:spPr>
      </p:pic>
      <p:sp>
        <p:nvSpPr>
          <p:cNvPr id="787" name="Прямоугольник 12"/>
          <p:cNvSpPr/>
          <p:nvPr/>
        </p:nvSpPr>
        <p:spPr>
          <a:xfrm>
            <a:off x="1905120" y="152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втор проекта: Дручинин Ник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15" descr="Безымянный"/>
          <p:cNvPicPr/>
          <p:nvPr/>
        </p:nvPicPr>
        <p:blipFill>
          <a:blip r:embed="rId8"/>
          <a:stretch/>
        </p:blipFill>
        <p:spPr>
          <a:xfrm>
            <a:off x="2590920" y="1371600"/>
            <a:ext cx="4114800" cy="38815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2666880" y="380520"/>
            <a:ext cx="6477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ЦЕЛЬ ПРОЕКТ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одить традицию делать скворечники в школе и дома - один из способов сохранения численности скворцов в садах и парках нашего города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13" descr="skvopec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7" descr="НКРисунок4"/>
          <p:cNvPicPr/>
          <p:nvPr/>
        </p:nvPicPr>
        <p:blipFill>
          <a:blip r:embed="rId2"/>
          <a:stretch/>
        </p:blipFill>
        <p:spPr>
          <a:xfrm>
            <a:off x="457200" y="2362320"/>
            <a:ext cx="2209680" cy="3200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3" descr="F:\картинки\0_71f3b_68d37143_L.png"/>
          <p:cNvPicPr/>
          <p:nvPr/>
        </p:nvPicPr>
        <p:blipFill>
          <a:blip r:embed="rId3"/>
          <a:stretch/>
        </p:blipFill>
        <p:spPr>
          <a:xfrm>
            <a:off x="6399360" y="0"/>
            <a:ext cx="2744640" cy="2590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2742840" y="456840"/>
            <a:ext cx="6248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одноклассников и их родителей к  практической  деятельности по охране родной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сторию появления скворе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различными видами скворе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знания о сквор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кворечник своими ру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13" descr="skvopec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7" descr="НКРисунок4"/>
          <p:cNvPicPr/>
          <p:nvPr/>
        </p:nvPicPr>
        <p:blipFill>
          <a:blip r:embed="rId2"/>
          <a:stretch/>
        </p:blipFill>
        <p:spPr>
          <a:xfrm>
            <a:off x="457200" y="2362320"/>
            <a:ext cx="2209680" cy="32004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F:\картинки\0_71f3b_68d37143_L.png"/>
          <p:cNvPicPr/>
          <p:nvPr/>
        </p:nvPicPr>
        <p:blipFill>
          <a:blip r:embed="rId3"/>
          <a:stretch/>
        </p:blipFill>
        <p:spPr>
          <a:xfrm>
            <a:off x="6400800" y="-15228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К ПОЯВИЛИСЬ СКВОРЕЧНИКИ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2895480" y="609120"/>
            <a:ext cx="6400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си всегда любили мелких птиц, селивш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человеческим жильем, считали их божь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ями и добрыми вестниками. Но обыч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ь для птиц жилища утвердился у нас вс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трехсот лет наз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ческий общеизвестный домик для птиц —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речник. Родина его — Западная Евро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сь мода на птичьи теремки пришла с Пет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м. Суровый государь любил приятные мел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бавные вещицы. Увидев во время сво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ия по Европе скворечники, он ввёл э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ю и у себя на род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3" descr="skvopec"/>
          <p:cNvPicPr/>
          <p:nvPr/>
        </p:nvPicPr>
        <p:blipFill>
          <a:blip r:embed="rId1"/>
          <a:stretch/>
        </p:blipFill>
        <p:spPr>
          <a:xfrm>
            <a:off x="0" y="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4" descr="74"/>
          <p:cNvPicPr/>
          <p:nvPr/>
        </p:nvPicPr>
        <p:blipFill>
          <a:blip r:embed="rId2"/>
          <a:stretch/>
        </p:blipFill>
        <p:spPr>
          <a:xfrm>
            <a:off x="228600" y="2590920"/>
            <a:ext cx="2286000" cy="3809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Прямоугольник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8342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13" descr="skvopec"/>
          <p:cNvPicPr/>
          <p:nvPr/>
        </p:nvPicPr>
        <p:blipFill>
          <a:blip r:embed="rId1"/>
          <a:stretch/>
        </p:blipFill>
        <p:spPr>
          <a:xfrm>
            <a:off x="0" y="0"/>
            <a:ext cx="1828800" cy="1447920"/>
          </a:xfrm>
          <a:prstGeom prst="rect">
            <a:avLst/>
          </a:prstGeom>
          <a:ln w="0">
            <a:noFill/>
          </a:ln>
        </p:spPr>
      </p:pic>
      <p:sp>
        <p:nvSpPr>
          <p:cNvPr id="724" name="Прямоугольник 8"/>
          <p:cNvSpPr/>
          <p:nvPr/>
        </p:nvSpPr>
        <p:spPr>
          <a:xfrm>
            <a:off x="2133720" y="4572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речники бывают раз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9" descr="i (12)"/>
          <p:cNvPicPr/>
          <p:nvPr/>
        </p:nvPicPr>
        <p:blipFill>
          <a:blip r:embed="rId2"/>
          <a:stretch/>
        </p:blipFill>
        <p:spPr>
          <a:xfrm>
            <a:off x="457200" y="1981080"/>
            <a:ext cx="2438280" cy="1905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26" name="Picture 10" descr="i (13)"/>
          <p:cNvPicPr/>
          <p:nvPr/>
        </p:nvPicPr>
        <p:blipFill>
          <a:blip r:embed="rId3"/>
          <a:stretch/>
        </p:blipFill>
        <p:spPr>
          <a:xfrm>
            <a:off x="3352680" y="1981080"/>
            <a:ext cx="2505240" cy="1922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27" name="Picture 12" descr="i"/>
          <p:cNvPicPr/>
          <p:nvPr/>
        </p:nvPicPr>
        <p:blipFill>
          <a:blip r:embed="rId4"/>
          <a:stretch/>
        </p:blipFill>
        <p:spPr>
          <a:xfrm>
            <a:off x="3352680" y="4114800"/>
            <a:ext cx="251460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28" name="Содержимое 5" descr="декоративный плетеный скворечник для маленьких птичек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48520" y="4114800"/>
            <a:ext cx="2361960" cy="213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29" name="Прямоугольник 10"/>
          <p:cNvSpPr/>
          <p:nvPr/>
        </p:nvSpPr>
        <p:spPr>
          <a:xfrm>
            <a:off x="1905120" y="99072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орме, внешнему виду, но все они состоят из: домика с крышей, входа (леток) и нас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2" descr=""/>
          <p:cNvPicPr/>
          <p:nvPr/>
        </p:nvPicPr>
        <p:blipFill>
          <a:blip r:embed="rId7"/>
          <a:stretch/>
        </p:blipFill>
        <p:spPr>
          <a:xfrm>
            <a:off x="6248520" y="1981080"/>
            <a:ext cx="2361960" cy="1905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31" name="TextBox 11"/>
          <p:cNvSpPr/>
          <p:nvPr/>
        </p:nvSpPr>
        <p:spPr>
          <a:xfrm>
            <a:off x="1676520" y="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ИДЫ СКВОРЕ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13" descr=""/>
          <p:cNvPicPr/>
          <p:nvPr/>
        </p:nvPicPr>
        <p:blipFill>
          <a:blip r:embed="rId8"/>
          <a:stretch/>
        </p:blipFill>
        <p:spPr>
          <a:xfrm>
            <a:off x="457200" y="4114800"/>
            <a:ext cx="2438280" cy="213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 advTm="1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ЧЕГО НУЖНЫ СКВОРЕЧНИКИ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590920" y="2286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блюдения за птицами, их гнездованием с исследовательскими целями или просто для удоволь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влечение птиц с целью уничтожения сельскохозяйственных вре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кологического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13" descr="skvopec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НКРисунок4"/>
          <p:cNvPicPr/>
          <p:nvPr/>
        </p:nvPicPr>
        <p:blipFill>
          <a:blip r:embed="rId2"/>
          <a:stretch/>
        </p:blipFill>
        <p:spPr>
          <a:xfrm>
            <a:off x="152280" y="2133720"/>
            <a:ext cx="221004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4" descr="img24"/>
          <p:cNvPicPr/>
          <p:nvPr/>
        </p:nvPicPr>
        <p:blipFill>
          <a:blip r:embed="rId1"/>
          <a:stretch/>
        </p:blipFill>
        <p:spPr>
          <a:xfrm>
            <a:off x="1600200" y="304920"/>
            <a:ext cx="7315200" cy="62481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3" descr="skvopec"/>
          <p:cNvPicPr/>
          <p:nvPr/>
        </p:nvPicPr>
        <p:blipFill>
          <a:blip r:embed="rId2"/>
          <a:stretch/>
        </p:blipFill>
        <p:spPr>
          <a:xfrm>
            <a:off x="0" y="0"/>
            <a:ext cx="1676520" cy="16066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>
            <a:off x="2209680" y="3049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КВОРЦЫ – ЗАЩИТНИКИ САДОВ И ОГ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13" descr="skvopec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1752840"/>
          </a:xfrm>
          <a:prstGeom prst="rect">
            <a:avLst/>
          </a:prstGeom>
          <a:ln w="0">
            <a:noFill/>
          </a:ln>
        </p:spPr>
      </p:pic>
      <p:sp>
        <p:nvSpPr>
          <p:cNvPr id="741" name="TextBox 3"/>
          <p:cNvSpPr/>
          <p:nvPr/>
        </p:nvSpPr>
        <p:spPr>
          <a:xfrm>
            <a:off x="1905120" y="7621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Содержимое 4" descr="я.jpeg"/>
          <p:cNvPicPr/>
          <p:nvPr/>
        </p:nvPicPr>
        <p:blipFill>
          <a:blip r:embed="rId2"/>
          <a:stretch/>
        </p:blipFill>
        <p:spPr>
          <a:xfrm>
            <a:off x="2666880" y="1295280"/>
            <a:ext cx="2971800" cy="251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43" name="Picture 10" descr="i (11)"/>
          <p:cNvPicPr/>
          <p:nvPr/>
        </p:nvPicPr>
        <p:blipFill>
          <a:blip r:embed="rId3"/>
          <a:stretch/>
        </p:blipFill>
        <p:spPr>
          <a:xfrm>
            <a:off x="5867280" y="3962520"/>
            <a:ext cx="3022560" cy="2666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44" name="Picture 7" descr="265px-European_Starling_2006"/>
          <p:cNvPicPr/>
          <p:nvPr/>
        </p:nvPicPr>
        <p:blipFill>
          <a:blip r:embed="rId4"/>
          <a:stretch/>
        </p:blipFill>
        <p:spPr>
          <a:xfrm>
            <a:off x="228600" y="2286000"/>
            <a:ext cx="2209680" cy="3200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45" name="Picture 9" descr="i (10)"/>
          <p:cNvPicPr/>
          <p:nvPr/>
        </p:nvPicPr>
        <p:blipFill>
          <a:blip r:embed="rId5"/>
          <a:stretch/>
        </p:blipFill>
        <p:spPr>
          <a:xfrm>
            <a:off x="2666880" y="3962520"/>
            <a:ext cx="2971800" cy="2666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46" name="Picture 4" descr="птица скворец фото"/>
          <p:cNvPicPr/>
          <p:nvPr/>
        </p:nvPicPr>
        <p:blipFill>
          <a:blip r:embed="rId6"/>
          <a:stretch/>
        </p:blipFill>
        <p:spPr>
          <a:xfrm>
            <a:off x="5867280" y="1295280"/>
            <a:ext cx="3033720" cy="251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 advTm="15000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ТО НАМ ПОНАДОБИТСЯ, ЧТОБЫ СДЕЛАТЬ СКВОРЕЧНИК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13" descr="skvopec"/>
          <p:cNvPicPr/>
          <p:nvPr/>
        </p:nvPicPr>
        <p:blipFill>
          <a:blip r:embed="rId1"/>
          <a:stretch/>
        </p:blipFill>
        <p:spPr>
          <a:xfrm>
            <a:off x="0" y="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 txBox="1"/>
          <p:nvPr/>
        </p:nvSpPr>
        <p:spPr>
          <a:xfrm>
            <a:off x="380520" y="1447560"/>
            <a:ext cx="40388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о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мор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альная провол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Электролобз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Шуруповерт, отвер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рель, сверл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ол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Карандаш, линейка, 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12" descr="&amp;Mcy;&amp;ocy;&amp;lcy;&amp;ocy;&amp;tcy;&amp;ocy;&amp;kcy;, &amp;Icy;&amp;ncy;&amp;scy;&amp;tcy;&amp;rcy;&amp;ucy;&amp;mcy;&amp;iecy;&amp;ncy;&amp;tcy;, &amp;Mcy;&amp;iecy;&amp;tcy;&amp;acy;&amp;lcy;&amp;lcy;, &amp;KHcy;&amp;icy;&amp;tcy;, &amp;Pcy;&amp;iecy;&amp;rcy;&amp;iecy;&amp;rcy;&amp;ycy;&amp;vcy;"/>
          <p:cNvPicPr/>
          <p:nvPr/>
        </p:nvPicPr>
        <p:blipFill>
          <a:blip r:embed="rId2"/>
          <a:stretch/>
        </p:blipFill>
        <p:spPr>
          <a:xfrm>
            <a:off x="7543800" y="2666880"/>
            <a:ext cx="1371600" cy="143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51" name="Picture 10" descr="020053 - &amp;Ucy;&amp;gcy;&amp;ocy;&amp;lcy;&amp;softcy;&amp;ncy;&amp;icy;&amp;kcy; &amp;mcy;&amp;iecy;&amp;tcy;&amp;acy;&amp;lcy;&amp;lcy;&amp;icy;&amp;chcy;&amp;iecy;&amp;scy;&amp;kcy;&amp;icy;&amp;jcy; 300 &amp;mcy;&amp;mcy;"/>
          <p:cNvPicPr/>
          <p:nvPr/>
        </p:nvPicPr>
        <p:blipFill>
          <a:blip r:embed="rId3"/>
          <a:stretch/>
        </p:blipFill>
        <p:spPr>
          <a:xfrm>
            <a:off x="5943600" y="2590920"/>
            <a:ext cx="1371600" cy="1371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52" name="Picture 18" descr="&amp;Dcy;&amp;ocy;&amp;scy;&amp;kcy;&amp;acy; &amp;ocy;&amp;bcy;&amp;rcy;&amp;iecy;&amp;zcy;&amp;ncy;&amp;acy;&amp;yacy; &amp;pcy;&amp;icy;&amp;lcy;&amp;ocy;&amp;mcy;&amp;acy;&amp;tcy;&amp;iecy;&amp;rcy;&amp;icy;&amp;acy;&amp;lcy;&amp;ycy;. - &amp;Scy;&amp;tcy;&amp;rcy;&amp;ocy;&amp;icy;&amp;tcy;&amp;iecy;&amp;lcy;&amp;softcy;&amp;scy;&amp;tcy;&amp;vcy;&amp;ocy; / &amp;rcy;&amp;iecy;&amp;mcy;&amp;ocy;&amp;ncy;&amp;tcy; / &amp;ucy;&amp;bcy;&amp;ocy;&amp;rcy;&amp;kcy;&amp;acy; &amp;vcy; &amp;ZHcy;&amp;icy;&amp;tcy;&amp;ocy;&amp;mcy;&amp;icy;&amp;rcy;&amp;iecy; &amp;ncy;&amp;acy; Slando"/>
          <p:cNvPicPr/>
          <p:nvPr/>
        </p:nvPicPr>
        <p:blipFill>
          <a:blip r:embed="rId4"/>
          <a:stretch/>
        </p:blipFill>
        <p:spPr>
          <a:xfrm>
            <a:off x="2590920" y="990720"/>
            <a:ext cx="1371600" cy="1295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53" name="Picture 11" descr=""/>
          <p:cNvPicPr/>
          <p:nvPr/>
        </p:nvPicPr>
        <p:blipFill>
          <a:blip r:embed="rId5"/>
          <a:stretch/>
        </p:blipFill>
        <p:spPr>
          <a:xfrm>
            <a:off x="5943600" y="1066680"/>
            <a:ext cx="1371600" cy="1295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54" name="Picture 12" descr=""/>
          <p:cNvPicPr/>
          <p:nvPr/>
        </p:nvPicPr>
        <p:blipFill>
          <a:blip r:embed="rId6"/>
          <a:stretch/>
        </p:blipFill>
        <p:spPr>
          <a:xfrm>
            <a:off x="4038480" y="2514600"/>
            <a:ext cx="1600200" cy="1371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55" name="Picture 13" descr=""/>
          <p:cNvPicPr/>
          <p:nvPr/>
        </p:nvPicPr>
        <p:blipFill>
          <a:blip r:embed="rId7"/>
          <a:stretch/>
        </p:blipFill>
        <p:spPr>
          <a:xfrm>
            <a:off x="7620120" y="4876920"/>
            <a:ext cx="1371600" cy="1447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56" name="Picture 15" descr=""/>
          <p:cNvPicPr/>
          <p:nvPr/>
        </p:nvPicPr>
        <p:blipFill>
          <a:blip r:embed="rId8"/>
          <a:stretch/>
        </p:blipFill>
        <p:spPr>
          <a:xfrm>
            <a:off x="7543800" y="838080"/>
            <a:ext cx="1447920" cy="1295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57" name="Picture 16" descr=""/>
          <p:cNvPicPr/>
          <p:nvPr/>
        </p:nvPicPr>
        <p:blipFill>
          <a:blip r:embed="rId9"/>
          <a:stretch/>
        </p:blipFill>
        <p:spPr>
          <a:xfrm>
            <a:off x="4267080" y="990720"/>
            <a:ext cx="1295640" cy="1295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58" name="Picture 17" descr=""/>
          <p:cNvPicPr/>
          <p:nvPr/>
        </p:nvPicPr>
        <p:blipFill>
          <a:blip r:embed="rId10"/>
          <a:stretch/>
        </p:blipFill>
        <p:spPr>
          <a:xfrm>
            <a:off x="4114800" y="4038480"/>
            <a:ext cx="1400040" cy="1067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59" name="Picture 19" descr=""/>
          <p:cNvPicPr/>
          <p:nvPr/>
        </p:nvPicPr>
        <p:blipFill>
          <a:blip r:embed="rId11"/>
          <a:stretch/>
        </p:blipFill>
        <p:spPr>
          <a:xfrm>
            <a:off x="4114800" y="5257800"/>
            <a:ext cx="1600200" cy="1295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60" name="Picture 15" descr=""/>
          <p:cNvPicPr/>
          <p:nvPr/>
        </p:nvPicPr>
        <p:blipFill>
          <a:blip r:embed="rId12"/>
          <a:stretch/>
        </p:blipFill>
        <p:spPr>
          <a:xfrm>
            <a:off x="6019920" y="4495680"/>
            <a:ext cx="1371600" cy="1371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 advTm="1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нуркова Л.Н.</dc:creator>
  <dc:description/>
  <dc:language>en-US</dc:language>
  <cp:lastModifiedBy>пк</cp:lastModifiedBy>
  <dcterms:modified xsi:type="dcterms:W3CDTF">2017-03-25T20:34:03Z</dcterms:modified>
  <cp:revision>306</cp:revision>
  <dc:subject>биология</dc:subject>
  <dc:title>PowerPoint Presentation</dc:title>
</cp:coreProperties>
</file>