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440"/>
            <a:ext cx="7772400" cy="15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c0128"/>
                </a:solidFill>
                <a:latin typeface="Times New Roman"/>
              </a:rPr>
              <a:t>Урок обучения грамоте</a:t>
            </a:r>
            <a:br>
              <a:rPr sz="5400"/>
            </a:br>
            <a:r>
              <a:rPr b="1" i="1" lang="en-US" sz="5400" spc="-1" strike="noStrike">
                <a:solidFill>
                  <a:srgbClr val="003399"/>
                </a:solidFill>
                <a:latin typeface="Times New Roman"/>
              </a:rPr>
              <a:t>Тема уро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489040"/>
            <a:ext cx="6743880" cy="22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вуки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´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Arial"/>
              </a:rPr>
              <a:t>´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Буквы Бб, В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 зоопар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48040" y="4749840"/>
            <a:ext cx="481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кольчик М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ОУ «СОШ №27» г.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896760"/>
            <a:ext cx="15490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587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595008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АЛЬБАТ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429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3909960" cy="2606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2708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2708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БЛЮ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62784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62784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РС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598920" cy="2544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219640" y="3645000"/>
            <a:ext cx="338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3909960" cy="2606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2708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2708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БЛЮ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62784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598560" cy="2544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62784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РС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4560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248360" cy="324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508720" y="4292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Е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2926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РУНД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17672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424720" cy="555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003399"/>
                </a:solidFill>
                <a:latin typeface="Arial"/>
              </a:rPr>
              <a:t>ВОЛК   ВЕРБЛЮД</a:t>
            </a:r>
            <a:r>
              <a:rPr b="0" lang="en-US" sz="8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8200"/>
            </a:br>
            <a:r>
              <a:rPr b="1" lang="en-US" sz="9000" spc="-1" strike="noStrike">
                <a:solidFill>
                  <a:srgbClr val="003399"/>
                </a:solidFill>
                <a:latin typeface="Arial"/>
              </a:rPr>
              <a:t>БАРСУК</a:t>
            </a:r>
            <a:br>
              <a:rPr sz="9000"/>
            </a:br>
            <a:r>
              <a:rPr b="1" lang="en-US" sz="9000" spc="-1" strike="noStrike">
                <a:solidFill>
                  <a:srgbClr val="003399"/>
                </a:solidFill>
                <a:latin typeface="Arial"/>
              </a:rPr>
              <a:t>БЕЛКА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Times New Roman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Звуки 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  <a:ea typeface="Arial"/>
              </a:rPr>
              <a:t>´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  <a:ea typeface="Arial"/>
              </a:rPr>
              <a:t>´</a:t>
            </a:r>
            <a:r>
              <a:rPr b="1" lang="en-US" sz="7500" spc="-1" strike="noStrike">
                <a:solidFill>
                  <a:srgbClr val="0000cc"/>
                </a:solidFill>
                <a:latin typeface="Times New Roman"/>
              </a:rPr>
              <a:t>]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0000cc"/>
                </a:solidFill>
                <a:latin typeface="Times New Roman"/>
              </a:rPr>
              <a:t>Буквы Бб, Вв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Times New Roman"/>
              </a:rPr>
              <a:t>Цель урок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32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Познакомиться со звуками 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[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 [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б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´]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 [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]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 [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в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´]</a:t>
            </a: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буквами Бб, В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00000"/>
                </a:solidFill>
                <a:latin typeface="Times New Roman"/>
              </a:rPr>
              <a:t>Задач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ся выделять в словах  звук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´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´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вать характеристику этим звук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значать эти звуки бук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личать изучаемые звуки от других зву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ять место данных звуков (букв) в сл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итать слова, предложения с изучаемыми букв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888000" cy="2973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960720" cy="2800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42920" y="3429000"/>
            <a:ext cx="4751280" cy="2360520"/>
            <a:chOff x="142920" y="3429000"/>
            <a:chExt cx="4751280" cy="2360520"/>
          </a:xfrm>
        </p:grpSpPr>
        <p:sp>
          <p:nvSpPr>
            <p:cNvPr id="97" name=""/>
            <p:cNvSpPr/>
            <p:nvPr/>
          </p:nvSpPr>
          <p:spPr>
            <a:xfrm>
              <a:off x="2517840" y="342900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27280" y="342900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2920" y="342900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4920" y="3429000"/>
              <a:ext cx="79236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8200" y="4255920"/>
              <a:ext cx="0" cy="865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09840" y="3429000"/>
              <a:ext cx="79236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2200" y="342900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760" y="4965840"/>
              <a:ext cx="46274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3640" y="657360"/>
            <a:ext cx="3959280" cy="1656720"/>
            <a:chOff x="5003640" y="657360"/>
            <a:chExt cx="3959280" cy="1656720"/>
          </a:xfrm>
        </p:grpSpPr>
        <p:sp>
          <p:nvSpPr>
            <p:cNvPr id="106" name=""/>
            <p:cNvSpPr/>
            <p:nvPr/>
          </p:nvSpPr>
          <p:spPr>
            <a:xfrm>
              <a:off x="7378560" y="657360"/>
              <a:ext cx="792360" cy="7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8000" y="657360"/>
              <a:ext cx="792360" cy="7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3640" y="657360"/>
              <a:ext cx="792360" cy="7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6000" y="657360"/>
              <a:ext cx="792000" cy="7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392800" y="1449000"/>
              <a:ext cx="0" cy="865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70920" y="657360"/>
              <a:ext cx="792000" cy="792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44360" y="3429000"/>
            <a:ext cx="790560" cy="79200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5720" y="657360"/>
            <a:ext cx="792360" cy="79200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764320" y="2025720"/>
            <a:ext cx="1657080" cy="1942920"/>
            <a:chOff x="5764320" y="2025720"/>
            <a:chExt cx="1657080" cy="1942920"/>
          </a:xfrm>
        </p:grpSpPr>
        <p:sp>
          <p:nvSpPr>
            <p:cNvPr id="115" name=""/>
            <p:cNvSpPr/>
            <p:nvPr/>
          </p:nvSpPr>
          <p:spPr>
            <a:xfrm>
              <a:off x="5764320" y="2025720"/>
              <a:ext cx="1657080" cy="1942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5979960" y="2168640"/>
              <a:ext cx="1225800" cy="16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09840" y="3716280"/>
            <a:ext cx="1657440" cy="1943280"/>
            <a:chOff x="2409840" y="3716280"/>
            <a:chExt cx="1657440" cy="1943280"/>
          </a:xfrm>
        </p:grpSpPr>
        <p:sp>
          <p:nvSpPr>
            <p:cNvPr id="118" name=""/>
            <p:cNvSpPr/>
            <p:nvPr/>
          </p:nvSpPr>
          <p:spPr>
            <a:xfrm>
              <a:off x="2409840" y="3716280"/>
              <a:ext cx="1657440" cy="1943280"/>
            </a:xfrm>
            <a:prstGeom prst="rect">
              <a:avLst/>
            </a:prstGeom>
            <a:solidFill>
              <a:srgbClr val="00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98920" y="3825720"/>
              <a:ext cx="12254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09840" y="907920"/>
            <a:ext cx="1657440" cy="1943280"/>
            <a:chOff x="2409840" y="907920"/>
            <a:chExt cx="1657440" cy="1943280"/>
          </a:xfrm>
        </p:grpSpPr>
        <p:sp>
          <p:nvSpPr>
            <p:cNvPr id="121" name=""/>
            <p:cNvSpPr/>
            <p:nvPr/>
          </p:nvSpPr>
          <p:spPr>
            <a:xfrm>
              <a:off x="2409840" y="907920"/>
              <a:ext cx="1657440" cy="1943280"/>
            </a:xfrm>
            <a:prstGeom prst="rect">
              <a:avLst/>
            </a:prstGeom>
            <a:solidFill>
              <a:srgbClr val="0066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698920" y="1125360"/>
              <a:ext cx="12254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87880" y="216000"/>
            <a:ext cx="636480" cy="691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11480" y="3133800"/>
            <a:ext cx="636480" cy="691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67280" y="2025720"/>
            <a:ext cx="169704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67280" y="3301920"/>
            <a:ext cx="1697040" cy="14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55640" y="4041720"/>
            <a:ext cx="3166920" cy="1692000"/>
            <a:chOff x="755640" y="4041720"/>
            <a:chExt cx="3166920" cy="1692000"/>
          </a:xfrm>
        </p:grpSpPr>
        <p:sp>
          <p:nvSpPr>
            <p:cNvPr id="128" name=""/>
            <p:cNvSpPr/>
            <p:nvPr/>
          </p:nvSpPr>
          <p:spPr>
            <a:xfrm>
              <a:off x="3130560" y="404172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40000" y="404172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640" y="4041720"/>
              <a:ext cx="79200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7640" y="4041720"/>
              <a:ext cx="792360" cy="792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150920" y="4868640"/>
              <a:ext cx="0" cy="865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403280" y="5589720"/>
            <a:ext cx="29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6000" y="2205000"/>
            <a:ext cx="29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032000" cy="302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357800" cy="290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4041720"/>
            <a:ext cx="790560" cy="792360"/>
          </a:xfrm>
          <a:prstGeom prst="rect">
            <a:avLst/>
          </a:prstGeom>
          <a:solidFill>
            <a:srgbClr val="00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89440" y="887400"/>
            <a:ext cx="4140000" cy="1426680"/>
            <a:chOff x="4789440" y="887400"/>
            <a:chExt cx="4140000" cy="1426680"/>
          </a:xfrm>
        </p:grpSpPr>
        <p:sp>
          <p:nvSpPr>
            <p:cNvPr id="139" name=""/>
            <p:cNvSpPr/>
            <p:nvPr/>
          </p:nvSpPr>
          <p:spPr>
            <a:xfrm flipV="1">
              <a:off x="5081760" y="1449000"/>
              <a:ext cx="0" cy="865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789440" y="887400"/>
              <a:ext cx="4140000" cy="561960"/>
              <a:chOff x="4789440" y="887400"/>
              <a:chExt cx="4140000" cy="561960"/>
            </a:xfrm>
          </p:grpSpPr>
          <p:sp>
            <p:nvSpPr>
              <p:cNvPr id="141" name=""/>
              <p:cNvSpPr/>
              <p:nvPr/>
            </p:nvSpPr>
            <p:spPr>
              <a:xfrm>
                <a:off x="657360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7960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8944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8452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4384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3928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34360" y="887400"/>
                <a:ext cx="595080" cy="5619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789440" y="887400"/>
            <a:ext cx="595440" cy="56196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5586480" y="2025720"/>
            <a:ext cx="1657440" cy="1942920"/>
            <a:chOff x="5586480" y="2025720"/>
            <a:chExt cx="1657440" cy="1942920"/>
          </a:xfrm>
        </p:grpSpPr>
        <p:sp>
          <p:nvSpPr>
            <p:cNvPr id="150" name=""/>
            <p:cNvSpPr/>
            <p:nvPr/>
          </p:nvSpPr>
          <p:spPr>
            <a:xfrm>
              <a:off x="5586480" y="2025720"/>
              <a:ext cx="1657440" cy="1942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789520" y="2203560"/>
              <a:ext cx="1225800" cy="16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43280" y="3689280"/>
            <a:ext cx="1657080" cy="1943280"/>
            <a:chOff x="1943280" y="3689280"/>
            <a:chExt cx="1657080" cy="1943280"/>
          </a:xfrm>
        </p:grpSpPr>
        <p:sp>
          <p:nvSpPr>
            <p:cNvPr id="153" name=""/>
            <p:cNvSpPr/>
            <p:nvPr/>
          </p:nvSpPr>
          <p:spPr>
            <a:xfrm>
              <a:off x="1943280" y="3689280"/>
              <a:ext cx="1657080" cy="1943280"/>
            </a:xfrm>
            <a:prstGeom prst="rect">
              <a:avLst/>
            </a:prstGeom>
            <a:solidFill>
              <a:srgbClr val="00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122560" y="3860640"/>
              <a:ext cx="12254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43280" y="907920"/>
            <a:ext cx="1657080" cy="1943280"/>
            <a:chOff x="1943280" y="907920"/>
            <a:chExt cx="1657080" cy="1943280"/>
          </a:xfrm>
        </p:grpSpPr>
        <p:sp>
          <p:nvSpPr>
            <p:cNvPr id="156" name=""/>
            <p:cNvSpPr/>
            <p:nvPr/>
          </p:nvSpPr>
          <p:spPr>
            <a:xfrm>
              <a:off x="1943280" y="907920"/>
              <a:ext cx="1657080" cy="1943280"/>
            </a:xfrm>
            <a:prstGeom prst="rect">
              <a:avLst/>
            </a:prstGeom>
            <a:solidFill>
              <a:srgbClr val="0066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2122560" y="1125360"/>
              <a:ext cx="1225440" cy="16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11520" y="216000"/>
            <a:ext cx="636480" cy="691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711520" y="3168720"/>
            <a:ext cx="636480" cy="691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600360" y="1638360"/>
            <a:ext cx="1986120" cy="11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00360" y="3168720"/>
            <a:ext cx="1986120" cy="16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81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81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47628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МАК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236160" cy="692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73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ЕРБЛЮ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981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981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1628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ЖИ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651640" y="5877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Л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18-10-30T17:55:26Z</dcterms:modified>
  <cp:revision>41</cp:revision>
  <dc:subject/>
  <dc:title>Слайд 1</dc:title>
</cp:coreProperties>
</file>