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E12-EF5E-4403-BBB8-D4271115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3DE-99DA-4492-9866-C93344F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D7D-5287-4449-BBE8-92A0CE91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2D1-63C3-46E0-8722-518D430E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45C-78D0-43B2-8B50-8E093F24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04D-22B3-49A0-9605-9E8D88E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3AA-D421-4A97-8EE6-0E5A28F8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40B-D89E-473F-8248-63A6A97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EAB-A502-44D3-8492-883E730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F10-C659-41BD-9917-97FA616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CA9-89BE-408C-8396-CC023DA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514-F5C4-488E-9FDF-53FACCC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BAE-C692-47DC-946D-D392DCDAB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384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Monotype Corsiva"/>
              </a:rPr>
              <a:t>Тема материнской любви </a:t>
            </a:r>
            <a:br>
              <a:rPr sz="6000"/>
            </a:br>
            <a:r>
              <a:rPr b="0" lang="ru-RU" sz="6000" spc="-1" strike="noStrike">
                <a:solidFill>
                  <a:srgbClr val="0033cc"/>
                </a:solidFill>
                <a:latin typeface="Monotype Corsiva"/>
              </a:rPr>
              <a:t>в творчестве худож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580536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Презентация подготовлена учителем МКОУ Никольская СОШ Ивановой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860436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43 Tepepa.mp3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003640" y="404640"/>
            <a:ext cx="378000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икстинская мадон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ртине итальянского худож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 Рафаэля Санти «Сикстинская мадонна» тоже изображена Богоматерь с младенцем Иису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европейские живописцы его времени – эпохи Возрождения – стремились изобразить тех, о ком рассказывают Евангелия, как обычных людей в их повседневной жизни, чтобы они стали близки и понятны в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Рафаэль"/>
          <p:cNvPicPr/>
          <p:nvPr/>
        </p:nvPicPr>
        <p:blipFill>
          <a:blip r:embed="rId1"/>
          <a:stretch/>
        </p:blipFill>
        <p:spPr>
          <a:xfrm>
            <a:off x="539640" y="333360"/>
            <a:ext cx="407664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Тема 10.wav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675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26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26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26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Рафаэль"/>
          <p:cNvPicPr/>
          <p:nvPr/>
        </p:nvPicPr>
        <p:blipFill>
          <a:blip r:embed="rId1"/>
          <a:stretch/>
        </p:blipFill>
        <p:spPr>
          <a:xfrm>
            <a:off x="2266920" y="0"/>
            <a:ext cx="48927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Тема1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012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627280" cy="371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Рафаэль"/>
          <p:cNvPicPr/>
          <p:nvPr/>
        </p:nvPicPr>
        <p:blipFill>
          <a:blip r:embed="rId2"/>
          <a:stretch/>
        </p:blipFill>
        <p:spPr>
          <a:xfrm>
            <a:off x="4356000" y="404640"/>
            <a:ext cx="2722680" cy="38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781360" cy="35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Богоматерь Владимирская"/>
          <p:cNvPicPr/>
          <p:nvPr/>
        </p:nvPicPr>
        <p:blipFill>
          <a:blip r:embed="rId4"/>
          <a:stretch/>
        </p:blipFill>
        <p:spPr>
          <a:xfrm>
            <a:off x="1835280" y="3068640"/>
            <a:ext cx="268416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84360" y="59500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пок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468360" y="549360"/>
            <a:ext cx="828036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ама – самый главный человек в жизни     каждого из нас. Доброта, заботливость и вечная тревога матери за судьбы своих детей – вот что с восхищением и чувством великой благодарности стремились запечатлеть живописцы на своих картинах. И на ико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лово «икона» - греческое; по-русски оно означает «изображение», «образ» (иконы-об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Это картины особого содержания, написанные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Тема 2.wav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16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Богоматерь Владимирская"/>
          <p:cNvPicPr/>
          <p:nvPr/>
        </p:nvPicPr>
        <p:blipFill>
          <a:blip r:embed="rId1"/>
          <a:stretch/>
        </p:blipFill>
        <p:spPr>
          <a:xfrm>
            <a:off x="250920" y="333360"/>
            <a:ext cx="4335480" cy="6120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767120" y="568440"/>
            <a:ext cx="35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716360" y="404640"/>
            <a:ext cx="41767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гоматерь Владимирская»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а в первой полов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. По преданию первые иконы Богоматери были написаны ещё при её жизни, и написал их ученик Иисуса Христа апостол Л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она «Богоматерь Владимирская» считается покровительницей, защитницей Русск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Тема 3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071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Богоматерь Владимирская"/>
          <p:cNvPicPr/>
          <p:nvPr/>
        </p:nvPicPr>
        <p:blipFill>
          <a:blip r:embed="rId1"/>
          <a:stretch/>
        </p:blipFill>
        <p:spPr>
          <a:xfrm>
            <a:off x="2278080" y="0"/>
            <a:ext cx="48560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Тема 4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93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4481640" y="3220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афаэль"/>
          <p:cNvPicPr/>
          <p:nvPr/>
        </p:nvPicPr>
        <p:blipFill>
          <a:blip r:embed="rId1"/>
          <a:stretch/>
        </p:blipFill>
        <p:spPr>
          <a:xfrm>
            <a:off x="539640" y="333360"/>
            <a:ext cx="2824200" cy="395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259560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290520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4427640" y="476280"/>
            <a:ext cx="4537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нна Литт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закончена уже в Милане, куда Леонардо уезжает в 1482 году. Круг людей, с которым Леонардо был связан во Флоренции, не был близок двору Лоренцо Великолепного. А юный мастер искал применения своим разнообразным талантам. Он предлагает также свои способности архитектора, скульптора и живопис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е наследие Леонардо не велико. Эрмитаж обладает двумя работами из 12—14, хранящихся в разных музея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“Мадонне Литта” все — совершенство. Физическая и духовная красота — в полной гармонии. На память приходят благородные античные мраморы. Светотень мягко лепит объем и тонкие черты лица. Отточены линии. Все уравновешено, включая цвет. Это метод флорентийской школы, четкий, скульпту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200480" cy="5327640"/>
          </a:xfrm>
          <a:prstGeom prst="rect">
            <a:avLst/>
          </a:prstGeom>
          <a:ln w="0">
            <a:noFill/>
          </a:ln>
        </p:spPr>
      </p:pic>
      <p:pic>
        <p:nvPicPr>
          <p:cNvPr id="59" name="Тема 6.wav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8040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.6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13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13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3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868400" y="0"/>
            <a:ext cx="5407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Тема 7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164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859280" y="476280"/>
            <a:ext cx="396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донна Бену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. 1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оведы считают картину одним из двух изображений Девы Марии, которые Леонардо упоминает в своих записках. Отсюда и датировка. Леонардо, как и многие художники эпохи Возрождения, изображал религиозные сюжеты с целью изучения человека, его чувств и эмоций. Безусловно, при всей священности - это изображение, в первую очередь, счастливой матери с ребе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25680" cy="5977080"/>
          </a:xfrm>
          <a:prstGeom prst="rect">
            <a:avLst/>
          </a:prstGeom>
          <a:ln w="0">
            <a:noFill/>
          </a:ln>
        </p:spPr>
      </p:pic>
      <p:pic>
        <p:nvPicPr>
          <p:cNvPr id="64" name="Тема 8.wav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28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2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2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2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5568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Тема 9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0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2:42:55Z</dcterms:created>
  <dc:creator>Пользователь</dc:creator>
  <dc:description/>
  <dc:language>en-US</dc:language>
  <cp:lastModifiedBy>Админ</cp:lastModifiedBy>
  <dcterms:modified xsi:type="dcterms:W3CDTF">2021-11-19T14:50:18Z</dcterms:modified>
  <cp:revision>43</cp:revision>
  <dc:subject/>
  <dc:title>Тема материнской любви в творчестве художников</dc:title>
</cp:coreProperties>
</file>