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F682-E3E2-4888-AAD3-934D05780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D27-30DB-4953-A8CD-3256FEA63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039-64AC-4ECB-91FA-4115845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B80-61AC-4B47-B76B-104ADE0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8B9-2021-45D7-BF5B-5153B732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271-63C2-423C-9BF7-C45AE0DA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69F3-F2A8-48E6-A7DC-1579DE37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8050-87A3-472B-A3D4-B99B7FF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F15-4940-45B3-838B-6C5E15B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3BB7-7C0B-42C9-813D-8D46B45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196-4434-4572-A836-558BEBC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B37-D81B-4FDF-BD6B-F8497B5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43D2-6EBE-4948-91DA-C5738E1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169-8EEA-42D8-B91D-66833F2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E2D-C481-49FF-A099-6FA30EA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6AF-70A7-465F-AF03-9454A4E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96D-11B3-46D7-B129-829437E4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0EB-98E7-4169-B71E-3ADAD6C0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6235-59DF-4233-AC9E-B97BB4B3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F995-C81A-4DBE-8EE1-A48FD665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93A3-465F-4E0A-A7FC-AD58752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DB79-FB36-4E49-8C5A-DD51F5E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ACA8-483E-4F94-882F-900CA3E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4C8F-6270-43A9-9630-1BFDCA1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FC3-69A6-4D20-9C25-2298186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9E91-A172-433E-9A00-6049B1A4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5DA4-67DF-4C48-9C1D-021837B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F187-67F8-424C-B01D-8DB2124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142B-84C3-48FD-B0C8-A8A08D0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F9D8-9D98-47CC-893F-026C589E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7F13-6BE1-451B-B110-A826A90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51E2-A663-4EF0-BA10-27C79FE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8087-4FA5-48C8-A470-EE26EBD3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D4E7-1C6B-4BBC-BE8C-3B65100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A955-1CD3-4B66-8E71-091CCA2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0F4-0EFE-4135-B9AC-3E2494AE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BB7F-B3E1-4F7D-A9D0-FAD17AE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A213-E65A-4642-A50B-616DD2B6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8E0D-1CF3-4B64-9F86-D5D110ED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2D9D-3711-4297-95A0-930EC62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AFB5-3D9B-4428-96F2-943B8CB7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25CD-CA7E-4114-B464-A259945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FFE8-5102-4B93-85CF-3F7B33C8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AA65-F58A-435E-8BFB-CBAA9542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6B0C-A264-44A9-9AA7-DFA2EDC2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C2CA-ECDD-433F-BF61-66A6983C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9EA-CDA2-430B-9208-B1BA3502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B30B-4602-4FBB-A00E-726AD48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A1658-6ECF-49DA-A761-5C60E40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2A7D-CB02-4F04-B70A-E6B092FB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76BE-B0AB-40AB-B3E1-7B1FA94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B112-6384-4962-9BA4-9A56627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C959-6442-4806-B0CD-135D34A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8CE4-E26C-4C67-9838-B323126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93E1-22C2-4CC7-9D0C-C9029E5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34CE-5B91-462A-9D11-ACDA3A26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AA86-6DDB-45DB-A4B4-DD0618CD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132-EE92-42B1-BA26-D86D671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D55E-735A-46F4-BD5E-21679F1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0358-F290-4176-9212-23676C5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243D-B32A-4B4A-9536-DD3EA6D3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668F9-5979-4FE2-8D30-87BD4A92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ED7B-0C68-4606-85CA-78A76FE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8EE9-AFCD-47FA-A4AD-00298CA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C0BE-C60A-46B9-9406-D08CBED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F088-5AD6-45D6-8F3B-93802C0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A7E72-3BC1-4934-BBE3-99F8FBF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2985-6526-4CFA-A00A-CD3C4AF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E3D-608F-43D3-BC03-D530646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CA3B-1E2C-4451-8A6B-4E8F166C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92DB-A2D7-4C35-965E-9DFAF39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0018-BC52-49ED-99AB-06F1F2C4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627-EA23-4E83-8D03-E6AE412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D00-FD27-4815-96C1-C2FB9B8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926-1983-4170-BB1D-2A65FA792CEC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0BBE-A4C2-4D57-BB01-59A9884C1778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0A1-6D93-45EB-8FFE-8E9AA02506FB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D4F-04C2-4BD7-BD52-226864529135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D59-0AC0-46B0-9AAE-22A670994046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824-81C3-4FAA-8E79-1370FBD3763D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0" y="21420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tretch/>
        </p:blipFill>
        <p:spPr>
          <a:xfrm>
            <a:off x="0" y="414324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3"/>
          <a:stretch/>
        </p:blipFill>
        <p:spPr>
          <a:xfrm>
            <a:off x="8675640" y="142920"/>
            <a:ext cx="468360" cy="251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4"/>
          <a:stretch/>
        </p:blipFill>
        <p:spPr>
          <a:xfrm>
            <a:off x="8675640" y="4143240"/>
            <a:ext cx="468360" cy="2519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"/>
          <p:cNvPicPr/>
          <p:nvPr/>
        </p:nvPicPr>
        <p:blipFill>
          <a:blip r:embed="rId5"/>
          <a:stretch/>
        </p:blipFill>
        <p:spPr>
          <a:xfrm>
            <a:off x="8675640" y="1643040"/>
            <a:ext cx="468360" cy="251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6"/>
          <a:stretch/>
        </p:blipFill>
        <p:spPr>
          <a:xfrm>
            <a:off x="0" y="1643040"/>
            <a:ext cx="468360" cy="2519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749160"/>
            <a:ext cx="864396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br>
              <a:rPr sz="9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№35 с углубленным изучением отдельных предметов"</a:t>
            </a:r>
            <a:br>
              <a:rPr sz="9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а Чебоксары ЧР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9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российский  конкурс «мой лучший сценарий»</a:t>
            </a:r>
            <a:endParaRPr b="0" lang="en-US" sz="1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642840" y="4857840"/>
            <a:ext cx="50007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ванова Ирина Михайловна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071720" y="2933640"/>
            <a:ext cx="73580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и с чувашскими узорам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3071880" y="62866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Чебоксары, 201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13" name="Содержимое 3" descr="СЃРІР°РґСЊР±Р°.jpg"/>
          <p:cNvPicPr/>
          <p:nvPr/>
        </p:nvPicPr>
        <p:blipFill>
          <a:blip r:embed="rId1"/>
          <a:stretch/>
        </p:blipFill>
        <p:spPr>
          <a:xfrm>
            <a:off x="2286000" y="785880"/>
            <a:ext cx="4292640" cy="28573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" descr="орол.jpeg"/>
          <p:cNvPicPr/>
          <p:nvPr/>
        </p:nvPicPr>
        <p:blipFill>
          <a:blip r:embed="rId2"/>
          <a:stretch/>
        </p:blipFill>
        <p:spPr>
          <a:xfrm>
            <a:off x="285840" y="3000240"/>
            <a:ext cx="1903320" cy="32864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5" descr="рр.jpeg"/>
          <p:cNvPicPr/>
          <p:nvPr/>
        </p:nvPicPr>
        <p:blipFill>
          <a:blip r:embed="rId3"/>
          <a:stretch/>
        </p:blipFill>
        <p:spPr>
          <a:xfrm>
            <a:off x="6929280" y="2857680"/>
            <a:ext cx="2033640" cy="37684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0vknnjLyhMQ.jpg"/>
          <p:cNvPicPr/>
          <p:nvPr/>
        </p:nvPicPr>
        <p:blipFill>
          <a:blip r:embed="rId4"/>
          <a:stretch/>
        </p:blipFill>
        <p:spPr>
          <a:xfrm>
            <a:off x="214200" y="357120"/>
            <a:ext cx="2021040" cy="242892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7" descr="ол.jpeg"/>
          <p:cNvPicPr/>
          <p:nvPr/>
        </p:nvPicPr>
        <p:blipFill>
          <a:blip r:embed="rId5"/>
          <a:stretch/>
        </p:blipFill>
        <p:spPr>
          <a:xfrm>
            <a:off x="2928960" y="3857760"/>
            <a:ext cx="3657600" cy="20476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8" descr="83606254.jpg"/>
          <p:cNvPicPr/>
          <p:nvPr/>
        </p:nvPicPr>
        <p:blipFill>
          <a:blip r:embed="rId6"/>
          <a:stretch/>
        </p:blipFill>
        <p:spPr>
          <a:xfrm>
            <a:off x="6643800" y="21420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0" name="Picture 9" descr="DSC02872"/>
          <p:cNvPicPr/>
          <p:nvPr/>
        </p:nvPicPr>
        <p:blipFill>
          <a:blip r:embed="rId1"/>
          <a:stretch/>
        </p:blipFill>
        <p:spPr>
          <a:xfrm>
            <a:off x="1066680" y="6094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DSC02875"/>
          <p:cNvPicPr/>
          <p:nvPr/>
        </p:nvPicPr>
        <p:blipFill>
          <a:blip r:embed="rId2"/>
          <a:stretch/>
        </p:blipFill>
        <p:spPr>
          <a:xfrm>
            <a:off x="5105520" y="6858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DSC02879"/>
          <p:cNvPicPr/>
          <p:nvPr/>
        </p:nvPicPr>
        <p:blipFill>
          <a:blip r:embed="rId3"/>
          <a:stretch/>
        </p:blipFill>
        <p:spPr>
          <a:xfrm>
            <a:off x="1066680" y="3706920"/>
            <a:ext cx="3429000" cy="235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DSC02877"/>
          <p:cNvPicPr/>
          <p:nvPr/>
        </p:nvPicPr>
        <p:blipFill>
          <a:blip r:embed="rId4"/>
          <a:stretch/>
        </p:blipFill>
        <p:spPr>
          <a:xfrm>
            <a:off x="5181480" y="3759120"/>
            <a:ext cx="33530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5" name="Picture 15" descr="IMG_1933"/>
          <p:cNvPicPr/>
          <p:nvPr/>
        </p:nvPicPr>
        <p:blipFill>
          <a:blip r:embed="rId1"/>
          <a:stretch/>
        </p:blipFill>
        <p:spPr>
          <a:xfrm>
            <a:off x="3929040" y="21420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kostum_0"/>
          <p:cNvPicPr/>
          <p:nvPr/>
        </p:nvPicPr>
        <p:blipFill>
          <a:blip r:embed="rId2"/>
          <a:stretch/>
        </p:blipFill>
        <p:spPr>
          <a:xfrm>
            <a:off x="1357200" y="3643200"/>
            <a:ext cx="3829320" cy="260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p25_f3"/>
          <p:cNvPicPr/>
          <p:nvPr/>
        </p:nvPicPr>
        <p:blipFill>
          <a:blip r:embed="rId3"/>
          <a:stretch/>
        </p:blipFill>
        <p:spPr>
          <a:xfrm>
            <a:off x="6000840" y="3357720"/>
            <a:ext cx="2571840" cy="3138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043"/>
          <p:cNvPicPr/>
          <p:nvPr/>
        </p:nvPicPr>
        <p:blipFill>
          <a:blip r:embed="rId4"/>
          <a:stretch/>
        </p:blipFill>
        <p:spPr>
          <a:xfrm>
            <a:off x="714240" y="214200"/>
            <a:ext cx="25718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30" name="Содержимое 3" descr="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41860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3929040"/>
            <a:ext cx="442908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ка «Братство, солидарность, гармония, согласие, истина, справедливость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Рисунок 3" descr=""/>
          <p:cNvPicPr/>
          <p:nvPr/>
        </p:nvPicPr>
        <p:blipFill>
          <a:blip r:embed="rId1"/>
          <a:srcRect l="0" t="4503" r="30620" b="11221"/>
          <a:stretch/>
        </p:blipFill>
        <p:spPr>
          <a:xfrm>
            <a:off x="1214280" y="714240"/>
            <a:ext cx="3000600" cy="31435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4" descr=""/>
          <p:cNvPicPr/>
          <p:nvPr/>
        </p:nvPicPr>
        <p:blipFill>
          <a:blip r:embed="rId2"/>
          <a:srcRect l="0" t="4514" r="42248" b="26280"/>
          <a:stretch/>
        </p:blipFill>
        <p:spPr>
          <a:xfrm>
            <a:off x="5357880" y="857160"/>
            <a:ext cx="3238560" cy="312444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5357880" y="39290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и будем величие род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rcRect l="34892" t="45137" r="25402" b="6721"/>
          <a:stretch/>
        </p:blipFill>
        <p:spPr>
          <a:xfrm>
            <a:off x="500040" y="714240"/>
            <a:ext cx="3976560" cy="38577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857160" y="478620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зн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6" descr=""/>
          <p:cNvPicPr/>
          <p:nvPr/>
        </p:nvPicPr>
        <p:blipFill>
          <a:blip r:embed="rId2"/>
          <a:srcRect l="33691" t="42129" r="21791" b="3709"/>
          <a:stretch/>
        </p:blipFill>
        <p:spPr>
          <a:xfrm>
            <a:off x="5072040" y="642960"/>
            <a:ext cx="3803760" cy="37148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214960" y="478620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, тепло 1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43" name="Рисунок 7" descr=""/>
          <p:cNvPicPr/>
          <p:nvPr/>
        </p:nvPicPr>
        <p:blipFill>
          <a:blip r:embed="rId1"/>
          <a:srcRect l="34892" t="43631" r="21791" b="3709"/>
          <a:stretch/>
        </p:blipFill>
        <p:spPr>
          <a:xfrm>
            <a:off x="642960" y="785880"/>
            <a:ext cx="3673440" cy="3571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800" y="3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214200" y="457524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, тепло 2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3" descr=""/>
          <p:cNvPicPr/>
          <p:nvPr/>
        </p:nvPicPr>
        <p:blipFill>
          <a:blip r:embed="rId2"/>
          <a:srcRect l="2406" t="4514" r="43449" b="26280"/>
          <a:stretch/>
        </p:blipFill>
        <p:spPr>
          <a:xfrm>
            <a:off x="5143680" y="1000080"/>
            <a:ext cx="3206520" cy="32860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5214960" y="436104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а сил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динство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50" name="Рисунок 8" descr=""/>
          <p:cNvPicPr/>
          <p:nvPr/>
        </p:nvPicPr>
        <p:blipFill>
          <a:blip r:embed="rId1"/>
          <a:srcRect l="26471" t="36109" r="26604" b="5215"/>
          <a:stretch/>
        </p:blipFill>
        <p:spPr>
          <a:xfrm>
            <a:off x="500040" y="1285920"/>
            <a:ext cx="3714840" cy="3730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786200" y="1935000"/>
            <a:ext cx="4143600" cy="26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лфетк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, гармония, согласи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4:25:53Z</dcterms:created>
  <dc:creator>Настя</dc:creator>
  <dc:description/>
  <dc:language>en-US</dc:language>
  <cp:lastModifiedBy>User</cp:lastModifiedBy>
  <dcterms:modified xsi:type="dcterms:W3CDTF">2018-10-29T19:05:56Z</dcterms:modified>
  <cp:revision>29</cp:revision>
  <dc:subject/>
  <dc:title>Презентация PowerPoint</dc:title>
</cp:coreProperties>
</file>