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083-602D-4EB7-B28E-62175DA8C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7A0-4B46-4145-8DBD-C2D8E92D2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836-FF14-430B-BC40-EB7F2A27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5E3-5ED9-4CDA-A10F-6673EFF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302-7FE5-46FD-ACD3-A019F16F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777-7AFE-442C-A82F-9E2780C8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8E9-2FA9-4CE1-8411-BBCCA603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AB2-2597-4E96-91A3-17BBD005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A358-BBDC-4909-9246-1057464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0D3-BDB0-4567-94AF-41071A1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8AE4-4BC4-4003-8795-EC975C83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2F3A-15F6-49B1-9C95-7AE21FB4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B92-4847-4C3A-8895-07BE237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8D9-7032-4024-937F-67FEC32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6B7-B464-4D6C-9B0E-EDD1C3B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4801-589E-42BA-93FB-6F6FC56D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6F33-D8FD-4DF7-8DD2-67AE81C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5B57-93EF-4177-A656-77365BDF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7E0-656E-4A8D-A138-F8FE994E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B888-02C3-4FD5-8F0D-6A5BC98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E65A-D19B-48A2-9BF2-A6935637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20CB-C405-49AD-8FC1-AC62D40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1A5A-58CF-4F69-888B-288CF8A1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4912-6D08-4135-963D-DCA6D44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6A7-B490-4286-81C4-7406322C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5E03-3BF9-4D41-9476-D928C03A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4C4A-0329-4C64-B63C-6FDDC48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16E0-29FC-49A4-B63A-F70529C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9C90-5236-4169-9781-60DAEB50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4996-2594-4AC6-B625-FB9F775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1DFE-F17C-4728-A516-5C5C90F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EE90-7585-41FB-BA56-2F49FD4E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257E8-1BD7-4138-9E1F-9F3C3437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055C-BAED-4951-B974-2E94BCBF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EC17-B914-410D-A771-9A59CB17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ACD-B8BE-4BA5-93CD-5AE4B85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79AC-4AE0-4209-B5C6-33ED542F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1583-067A-4EEB-A97B-6456433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1DDD-1723-440D-8E59-7390D827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0BFE-924C-4623-B773-A4C4334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4D1B-C39E-4FB8-BA17-D1D5E5A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4E89-5B1F-48C8-8D4E-8DB85BB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F2BD-0C5F-42F1-A7A9-0783D912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438C-2BF3-4F6C-9F61-C5702780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E8CA-C4F0-477D-BB7E-045E682F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6803-357E-4D7A-BE21-178348A7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37A-A5B2-4CA2-9FDC-27F8C47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5BE5-3C72-47B3-A326-3419856C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7C44-51E0-4E76-A90A-9048AA8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1C43-F4D5-45FD-9D04-4F0AE3D9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4CBE-2202-431B-A8BD-189B0FE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A2625-B985-4005-AAE4-42A2FDF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157C-85A8-4C7E-98B9-E3A80976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93C1-39D5-44EB-A71B-38AB0AB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90E7-8E9A-4F63-A001-3903879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5FE4-C55F-48B3-ADB1-FE52FFC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FC7C-1DB3-4F95-B5F0-DE8F53AD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905-ED5E-43F5-AEB1-D18E7FEC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F67C-F004-4012-9731-9211C69D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972E1-C4CD-4F90-9CEF-E21E58AB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E9D4-188E-4C52-901A-DBDAA0C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4418-A2C7-40BA-AAAD-862B5CA7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FFD5A-369D-4CA3-9F69-AFCBEA1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BE6B-C976-4B6F-BC71-CF141E9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1DCC-0C8C-4CAF-87D0-2B6D84B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E634-AF38-48FF-AB4F-CCB1A7A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4D1F-1F51-477C-B3C4-D1F44DF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0694D-8148-4D8E-9064-2B87B59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FF8-92A2-4D16-92BD-0A09CF5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4368-648D-4C5F-8D1C-0B2DB32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B576-6E02-4B42-9D7D-5657DF4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D98C2-B318-4439-9E71-ECDC4658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681-EC39-4EDE-A9E1-29318C6B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130-0680-4B57-B044-A9BF33F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19C7-59D0-48A7-9A9B-08106B57314F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613-19D7-430A-B9AC-BCF615D2B5D3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C76-8086-4CF2-8D05-B68EE51728C4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E90-9602-4A99-938A-0ECE67968EF2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FFCC-2613-4651-B63B-14B439025437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5C51-E555-47BA-8E59-E45D63002F39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0" y="21420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tretch/>
        </p:blipFill>
        <p:spPr>
          <a:xfrm>
            <a:off x="0" y="414324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3"/>
          <a:stretch/>
        </p:blipFill>
        <p:spPr>
          <a:xfrm>
            <a:off x="8675640" y="142920"/>
            <a:ext cx="468360" cy="251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4"/>
          <a:stretch/>
        </p:blipFill>
        <p:spPr>
          <a:xfrm>
            <a:off x="8675640" y="414324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"/>
          <p:cNvPicPr/>
          <p:nvPr/>
        </p:nvPicPr>
        <p:blipFill>
          <a:blip r:embed="rId5"/>
          <a:stretch/>
        </p:blipFill>
        <p:spPr>
          <a:xfrm>
            <a:off x="8675640" y="1643040"/>
            <a:ext cx="468360" cy="251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6"/>
          <a:stretch/>
        </p:blipFill>
        <p:spPr>
          <a:xfrm>
            <a:off x="0" y="1643040"/>
            <a:ext cx="468360" cy="2519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749160"/>
            <a:ext cx="864396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br>
              <a:rPr sz="9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№35 с углубленным изучением отдельных предметов"</a:t>
            </a:r>
            <a:br>
              <a:rPr sz="9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а Чебоксары ЧР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9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российский  конкурс «мой лучший сценарий»</a:t>
            </a:r>
            <a:endParaRPr b="0" lang="en-US" sz="1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642840" y="4857840"/>
            <a:ext cx="50007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ванова Ирина Михайловна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071720" y="2933640"/>
            <a:ext cx="73580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и с чувашскими узорам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3071880" y="62866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Чебоксары, 201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13" name="Содержимое 3" descr="СЃРІР°РґСЊР±Р°.jpg"/>
          <p:cNvPicPr/>
          <p:nvPr/>
        </p:nvPicPr>
        <p:blipFill>
          <a:blip r:embed="rId1"/>
          <a:stretch/>
        </p:blipFill>
        <p:spPr>
          <a:xfrm>
            <a:off x="2286000" y="785880"/>
            <a:ext cx="4292640" cy="28573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" descr="орол.jpeg"/>
          <p:cNvPicPr/>
          <p:nvPr/>
        </p:nvPicPr>
        <p:blipFill>
          <a:blip r:embed="rId2"/>
          <a:stretch/>
        </p:blipFill>
        <p:spPr>
          <a:xfrm>
            <a:off x="285840" y="3000240"/>
            <a:ext cx="1903320" cy="32864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5" descr="рр.jpeg"/>
          <p:cNvPicPr/>
          <p:nvPr/>
        </p:nvPicPr>
        <p:blipFill>
          <a:blip r:embed="rId3"/>
          <a:stretch/>
        </p:blipFill>
        <p:spPr>
          <a:xfrm>
            <a:off x="6929280" y="2857680"/>
            <a:ext cx="2033640" cy="37684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0vknnjLyhMQ.jpg"/>
          <p:cNvPicPr/>
          <p:nvPr/>
        </p:nvPicPr>
        <p:blipFill>
          <a:blip r:embed="rId4"/>
          <a:stretch/>
        </p:blipFill>
        <p:spPr>
          <a:xfrm>
            <a:off x="214200" y="357120"/>
            <a:ext cx="2021040" cy="24289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7" descr="ол.jpeg"/>
          <p:cNvPicPr/>
          <p:nvPr/>
        </p:nvPicPr>
        <p:blipFill>
          <a:blip r:embed="rId5"/>
          <a:stretch/>
        </p:blipFill>
        <p:spPr>
          <a:xfrm>
            <a:off x="2928960" y="3857760"/>
            <a:ext cx="3657600" cy="20476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8" descr="83606254.jpg"/>
          <p:cNvPicPr/>
          <p:nvPr/>
        </p:nvPicPr>
        <p:blipFill>
          <a:blip r:embed="rId6"/>
          <a:stretch/>
        </p:blipFill>
        <p:spPr>
          <a:xfrm>
            <a:off x="6643800" y="21420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0" name="Picture 9" descr="DSC02872"/>
          <p:cNvPicPr/>
          <p:nvPr/>
        </p:nvPicPr>
        <p:blipFill>
          <a:blip r:embed="rId1"/>
          <a:stretch/>
        </p:blipFill>
        <p:spPr>
          <a:xfrm>
            <a:off x="1066680" y="6094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DSC02875"/>
          <p:cNvPicPr/>
          <p:nvPr/>
        </p:nvPicPr>
        <p:blipFill>
          <a:blip r:embed="rId2"/>
          <a:stretch/>
        </p:blipFill>
        <p:spPr>
          <a:xfrm>
            <a:off x="5105520" y="6858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DSC02879"/>
          <p:cNvPicPr/>
          <p:nvPr/>
        </p:nvPicPr>
        <p:blipFill>
          <a:blip r:embed="rId3"/>
          <a:stretch/>
        </p:blipFill>
        <p:spPr>
          <a:xfrm>
            <a:off x="1066680" y="3706920"/>
            <a:ext cx="3429000" cy="235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DSC02877"/>
          <p:cNvPicPr/>
          <p:nvPr/>
        </p:nvPicPr>
        <p:blipFill>
          <a:blip r:embed="rId4"/>
          <a:stretch/>
        </p:blipFill>
        <p:spPr>
          <a:xfrm>
            <a:off x="5181480" y="3759120"/>
            <a:ext cx="33530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5" name="Picture 15" descr="IMG_1933"/>
          <p:cNvPicPr/>
          <p:nvPr/>
        </p:nvPicPr>
        <p:blipFill>
          <a:blip r:embed="rId1"/>
          <a:stretch/>
        </p:blipFill>
        <p:spPr>
          <a:xfrm>
            <a:off x="3929040" y="21420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kostum_0"/>
          <p:cNvPicPr/>
          <p:nvPr/>
        </p:nvPicPr>
        <p:blipFill>
          <a:blip r:embed="rId2"/>
          <a:stretch/>
        </p:blipFill>
        <p:spPr>
          <a:xfrm>
            <a:off x="1357200" y="3643200"/>
            <a:ext cx="3829320" cy="260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p25_f3"/>
          <p:cNvPicPr/>
          <p:nvPr/>
        </p:nvPicPr>
        <p:blipFill>
          <a:blip r:embed="rId3"/>
          <a:stretch/>
        </p:blipFill>
        <p:spPr>
          <a:xfrm>
            <a:off x="6000840" y="3357720"/>
            <a:ext cx="2571840" cy="3138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043"/>
          <p:cNvPicPr/>
          <p:nvPr/>
        </p:nvPicPr>
        <p:blipFill>
          <a:blip r:embed="rId4"/>
          <a:stretch/>
        </p:blipFill>
        <p:spPr>
          <a:xfrm>
            <a:off x="714240" y="214200"/>
            <a:ext cx="25718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30" name="Содержимое 3" descr="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41860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3929040"/>
            <a:ext cx="442908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ка «Братство, солидарность, гармония, согласие, истина, справедливость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Рисунок 3" descr=""/>
          <p:cNvPicPr/>
          <p:nvPr/>
        </p:nvPicPr>
        <p:blipFill>
          <a:blip r:embed="rId1"/>
          <a:srcRect l="0" t="4503" r="30620" b="11221"/>
          <a:stretch/>
        </p:blipFill>
        <p:spPr>
          <a:xfrm>
            <a:off x="1214280" y="714240"/>
            <a:ext cx="3000600" cy="31435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4" descr=""/>
          <p:cNvPicPr/>
          <p:nvPr/>
        </p:nvPicPr>
        <p:blipFill>
          <a:blip r:embed="rId2"/>
          <a:srcRect l="0" t="4514" r="42248" b="26280"/>
          <a:stretch/>
        </p:blipFill>
        <p:spPr>
          <a:xfrm>
            <a:off x="5357880" y="857160"/>
            <a:ext cx="3238560" cy="312444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5357880" y="39290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и будем величие род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rcRect l="34892" t="45137" r="25402" b="6721"/>
          <a:stretch/>
        </p:blipFill>
        <p:spPr>
          <a:xfrm>
            <a:off x="500040" y="714240"/>
            <a:ext cx="3976560" cy="38577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857160" y="47862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зн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6" descr=""/>
          <p:cNvPicPr/>
          <p:nvPr/>
        </p:nvPicPr>
        <p:blipFill>
          <a:blip r:embed="rId2"/>
          <a:srcRect l="33691" t="42129" r="21791" b="3709"/>
          <a:stretch/>
        </p:blipFill>
        <p:spPr>
          <a:xfrm>
            <a:off x="5072040" y="642960"/>
            <a:ext cx="3803760" cy="37148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214960" y="478620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, тепло 1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43" name="Рисунок 7" descr=""/>
          <p:cNvPicPr/>
          <p:nvPr/>
        </p:nvPicPr>
        <p:blipFill>
          <a:blip r:embed="rId1"/>
          <a:srcRect l="34892" t="43631" r="21791" b="3709"/>
          <a:stretch/>
        </p:blipFill>
        <p:spPr>
          <a:xfrm>
            <a:off x="642960" y="785880"/>
            <a:ext cx="3673440" cy="3571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800" y="3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214200" y="457524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, тепло 2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3" descr=""/>
          <p:cNvPicPr/>
          <p:nvPr/>
        </p:nvPicPr>
        <p:blipFill>
          <a:blip r:embed="rId2"/>
          <a:srcRect l="2406" t="4514" r="43449" b="26280"/>
          <a:stretch/>
        </p:blipFill>
        <p:spPr>
          <a:xfrm>
            <a:off x="5143680" y="1000080"/>
            <a:ext cx="3206520" cy="32860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5214960" y="436104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а сил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динство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50" name="Рисунок 8" descr=""/>
          <p:cNvPicPr/>
          <p:nvPr/>
        </p:nvPicPr>
        <p:blipFill>
          <a:blip r:embed="rId1"/>
          <a:srcRect l="26471" t="36109" r="26604" b="5215"/>
          <a:stretch/>
        </p:blipFill>
        <p:spPr>
          <a:xfrm>
            <a:off x="500040" y="1285920"/>
            <a:ext cx="3714840" cy="3730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786200" y="1935000"/>
            <a:ext cx="4143600" cy="26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, гармония, согласи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4:25:53Z</dcterms:created>
  <dc:creator>Настя</dc:creator>
  <dc:description/>
  <dc:language>en-US</dc:language>
  <cp:lastModifiedBy>User</cp:lastModifiedBy>
  <dcterms:modified xsi:type="dcterms:W3CDTF">2018-10-29T19:05:56Z</dcterms:modified>
  <cp:revision>29</cp:revision>
  <dc:subject/>
  <dc:title>Презентация PowerPoint</dc:title>
</cp:coreProperties>
</file>