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29A9-BC65-4FE2-A931-6A005A957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5B34-FBF8-40AB-B374-FBD3BC99DAA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BC40-ED06-42FF-84D3-88955EE3E6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E25C-A534-4C40-A9E5-D7AA3911846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0E8-9D0B-4134-8564-4DC1A18258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373-8AAA-4D1C-89FF-44134086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62E-C4B0-41B3-8148-7D8D9BF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BB4-C4E7-4DF6-9338-EBB17F49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529-E47A-4FA4-B24C-72FCA308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543-E73D-4DB2-9F8A-F347D838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9C9-EF13-4942-88E5-3C6FD8F9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7FD-D5E7-449D-B79C-6593370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776-8562-47DD-8CA8-1D2FC79E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0DF-7912-41AE-95DC-E397CB17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A62-1022-4036-B5A7-F3ED8CCE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4DF-AF41-45D8-BF9A-CEDF0D5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25A-AC9C-4F12-908F-C704E31D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BCF7-7B36-4AB1-9801-39F75B5AAB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073160" y="212760"/>
            <a:ext cx="714384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8001000" cy="3233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85840" y="564372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подготовлена учащимися 7б кла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сный руководитель Л. В. Лабу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238400" y="15840"/>
            <a:ext cx="6667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4356000" y="148428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оргиевская лен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чально появилась с Императорским Военным орденом Святого Великомученика и Победоносца Георгия — высшей военной наградой Российской империи. Данн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был учреждён императрицей Екатериной II в 1769 году для отличия офицеров за заслуги на поле бо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1241118698_soldatskij-georgij-4-st..jpg"/>
          <p:cNvPicPr/>
          <p:nvPr/>
        </p:nvPicPr>
        <p:blipFill>
          <a:blip r:embed="rId1"/>
          <a:stretch/>
        </p:blipFill>
        <p:spPr>
          <a:xfrm>
            <a:off x="900000" y="2041560"/>
            <a:ext cx="28195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D:\РАЗНЫЕ КАРТИНКИ\открытки\9 мая\1 степень.jpg"/>
          <p:cNvPicPr/>
          <p:nvPr/>
        </p:nvPicPr>
        <p:blipFill>
          <a:blip r:embed="rId1"/>
          <a:stretch/>
        </p:blipFill>
        <p:spPr>
          <a:xfrm>
            <a:off x="214200" y="214200"/>
            <a:ext cx="242568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D:\РАЗНЫЕ КАРТИНКИ\открытки\9 мая\2 степень.jpg"/>
          <p:cNvPicPr/>
          <p:nvPr/>
        </p:nvPicPr>
        <p:blipFill>
          <a:blip r:embed="rId2"/>
          <a:stretch/>
        </p:blipFill>
        <p:spPr>
          <a:xfrm>
            <a:off x="2786040" y="214200"/>
            <a:ext cx="2000160" cy="344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РАЗНЫЕ КАРТИНКИ\открытки\9 мая\3 степень.jpg"/>
          <p:cNvPicPr/>
          <p:nvPr/>
        </p:nvPicPr>
        <p:blipFill>
          <a:blip r:embed="rId3"/>
          <a:stretch/>
        </p:blipFill>
        <p:spPr>
          <a:xfrm>
            <a:off x="4929120" y="214200"/>
            <a:ext cx="2143080" cy="190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:\РАЗНЫЕ КАРТИНКИ\открытки\9 мая\4 степень.jpg"/>
          <p:cNvPicPr/>
          <p:nvPr/>
        </p:nvPicPr>
        <p:blipFill>
          <a:blip r:embed="rId4"/>
          <a:stretch/>
        </p:blipFill>
        <p:spPr>
          <a:xfrm>
            <a:off x="7143840" y="214200"/>
            <a:ext cx="1785960" cy="3357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:\РАЗНЫЕ КАРТИНКИ\открытки\9 мая\геор медаль за храбрость 1913 г.jpg"/>
          <p:cNvPicPr/>
          <p:nvPr/>
        </p:nvPicPr>
        <p:blipFill>
          <a:blip r:embed="rId5"/>
          <a:stretch/>
        </p:blipFill>
        <p:spPr>
          <a:xfrm>
            <a:off x="357120" y="3786120"/>
            <a:ext cx="177804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РАЗНЫЕ КАРТИНКИ\открытки\9 мая\sg_roz.jpg"/>
          <p:cNvPicPr/>
          <p:nvPr/>
        </p:nvPicPr>
        <p:blipFill>
          <a:blip r:embed="rId6"/>
          <a:stretch/>
        </p:blipFill>
        <p:spPr>
          <a:xfrm>
            <a:off x="2928960" y="4071960"/>
            <a:ext cx="54291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РАЗНЫЕ КАРТИНКИ\открытки\9 мая\4-31271328027.jpg"/>
          <p:cNvPicPr/>
          <p:nvPr/>
        </p:nvPicPr>
        <p:blipFill>
          <a:blip r:embed="rId2"/>
          <a:stretch/>
        </p:blipFill>
        <p:spPr>
          <a:xfrm>
            <a:off x="6134040" y="428760"/>
            <a:ext cx="27957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ÐÐ°ÑÑÐ¸Ð½ÐºÐ¸ Ð¿Ð¾ Ð·Ð°Ð¿ÑÐ¾ÑÑ Ð³ÐµÐ¾ÑÐ³Ð¸ÐµÐ²ÑÐºÐ°Ñ Ð»ÐµÐ½ÑÐ° Ð½Ð° Ð³ÑÑÐ´Ð¸"/>
          <p:cNvPicPr/>
          <p:nvPr/>
        </p:nvPicPr>
        <p:blipFill>
          <a:blip r:embed="rId1"/>
          <a:stretch/>
        </p:blipFill>
        <p:spPr>
          <a:xfrm>
            <a:off x="324000" y="476280"/>
            <a:ext cx="3743280" cy="266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ÐÐ°ÑÑÐ¸Ð½ÐºÐ¸ Ð¿Ð¾ Ð·Ð°Ð¿ÑÐ¾ÑÑ Ð³ÐµÐ¾ÑÐ³Ð¸ÐµÐ²ÑÐºÐ°Ñ Ð»ÐµÐ½ÑÐ° Ð½Ð° Ð³ÑÑÐ´Ð¸"/>
          <p:cNvPicPr/>
          <p:nvPr/>
        </p:nvPicPr>
        <p:blipFill>
          <a:blip r:embed="rId2"/>
          <a:stretch/>
        </p:blipFill>
        <p:spPr>
          <a:xfrm>
            <a:off x="4572000" y="476280"/>
            <a:ext cx="3816360" cy="2665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ÐÐ°ÑÑÐ¸Ð½ÐºÐ¸ Ð¿Ð¾ Ð·Ð°Ð¿ÑÐ¾ÑÑ Ð³ÐµÐ¾ÑÐ³Ð¸ÐµÐ²ÑÐºÐ°Ñ Ð»ÐµÐ½ÑÐ° Ð½Ð° Ð³ÑÑÐ´Ð¸"/>
          <p:cNvPicPr/>
          <p:nvPr/>
        </p:nvPicPr>
        <p:blipFill>
          <a:blip r:embed="rId3"/>
          <a:stretch/>
        </p:blipFill>
        <p:spPr>
          <a:xfrm>
            <a:off x="1979640" y="3645000"/>
            <a:ext cx="561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592956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 канун празднования Дня Победы проведения акции каждый участник надевает себе на лацкан одежды,  Георгиевскую ленточку в знак памяти о героическом прошлом, выражая уважение к ветеранам, отдавая дань памяти павшим на поле боя, благодарность людям, отдавшим всё для фронта в годы Великой отечественной вой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D:\РАЗНЫЕ КАРТИНКИ\открытки\9 мая\big_20090505075910.jpg"/>
          <p:cNvPicPr/>
          <p:nvPr/>
        </p:nvPicPr>
        <p:blipFill>
          <a:blip r:embed="rId1"/>
          <a:stretch/>
        </p:blipFill>
        <p:spPr>
          <a:xfrm>
            <a:off x="6215040" y="285840"/>
            <a:ext cx="278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D:\РАЗНЫЕ КАРТИНКИ\открытки\9 мая\9may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48:35Z</dcterms:created>
  <dc:creator>ДАНКОВ</dc:creator>
  <dc:description/>
  <dc:language>en-US</dc:language>
  <cp:lastModifiedBy>Лабутина Лариса Владимировна</cp:lastModifiedBy>
  <dcterms:modified xsi:type="dcterms:W3CDTF">2023-03-04T05:38:23Z</dcterms:modified>
  <cp:revision>27</cp:revision>
  <dc:subject/>
  <dc:title>Слайд 1</dc:title>
</cp:coreProperties>
</file>