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BE4-6135-409B-A0B0-F5E37843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844-9C9E-4D22-8EF8-34E08F2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333-8716-49FF-8C61-21B4E283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EB6-A4D0-46B4-951C-AC7E67A2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46F-406E-415E-B791-AB18DE81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CEB-71FF-41F7-9938-1B5E5EC9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4C9-E3D6-4287-BE6F-748BDF74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A23-85FE-4A31-80DA-135CB4AE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7FC-C351-4CFC-8AD3-87D999E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866-8D41-436C-B03A-BBE53D4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4C4-4DBC-498D-83A8-EE52CD7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867-658F-4910-A147-6FE3E4A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B4AC45-AA82-4969-B798-1E61B1763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40880" y="466200"/>
            <a:ext cx="8605800" cy="63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«Муму» как протест 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отив рабств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(урок по рассказу И.С. Тургенева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«Муму»)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р: Дмитриева Марина Юрьевна,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,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«Родинская средняя школа №1»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динского района Алтайского края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198a8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176720" y="290520"/>
            <a:ext cx="1942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1154160"/>
            <a:ext cx="92901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Р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таруха (вдова, помещ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динокая, властная (причудливая, капризная, своенравная, богатая, жестокая, несправедлив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азывает, командует, наказ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споряжается судьбами своих дворовых («отбывает остаток последних дней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Эксплуататор (бездушие, крепостное пра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9120" y="3481560"/>
            <a:ext cx="6681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7120" y="3311640"/>
            <a:ext cx="88059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А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вор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Глухонемой, одинокий (трудолюбивый, надёжный, страдающий, крепостн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ботает, заботится, ух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отестует против крепостного права («славный он был мужик»; «любил во всём поряд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Личность (достоин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5480" y="5398920"/>
            <a:ext cx="182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0200" y="5398920"/>
            <a:ext cx="549252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ЕПОСТ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.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2. Безжалостное, несправедли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. Подчиняет, наказывает, прода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4. Калечит судьбы всех 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5. Раб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9640" y="45720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048360" y="1476360"/>
            <a:ext cx="367200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льшой, глуб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вает, учит, воспит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60720" y="324000"/>
            <a:ext cx="604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уму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6360" y="1825920"/>
            <a:ext cx="46083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Я не мог дышать одним воздухом, оставаться рядом с тем, что я возненавидел... В моих глазах враг этот имел определённый образ, носил известное имя: враг этот был — крепостное право. Под этим именем я собрал и сосредоточил всё, против чего я решил бороться до конца — с чем я поклялся никогда не примиряться... Это была моя Аннибалова кля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7640" y="684360"/>
            <a:ext cx="3505320" cy="4529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44560" y="5364000"/>
            <a:ext cx="318780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18 – 18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0000" y="684360"/>
            <a:ext cx="5140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пособен ли я к чему-нибудь большому, спокойному? Дадутся ли мне простые, ясные лини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985080" y="2771640"/>
            <a:ext cx="280836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74720" y="6748560"/>
            <a:ext cx="981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5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21080" y="250920"/>
            <a:ext cx="50385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Муму» как прот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тив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61080" y="3924360"/>
            <a:ext cx="4103640" cy="340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256360" y="1258920"/>
            <a:ext cx="48243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на выезжала редко и уединённо доживала  последние годы  своей скупой   и скучающей старости. День её, нерадостный и ненастный, давно прошёл; но и  вечер её был чернее ноч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С. Тургенев. «Му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5292720"/>
            <a:ext cx="511344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Впрочем, она скоро сама после того умерла; а наследникам ее было не до Герасима: они и остальных-то матушкиных людей распустили по оброк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С. Тургенев. «Му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3280" y="1187280"/>
            <a:ext cx="4554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87640" y="1979640"/>
            <a:ext cx="655308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9640" y="324000"/>
            <a:ext cx="8424720" cy="13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осковское поместье («двор»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модель крепостническ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87640" y="1403280"/>
            <a:ext cx="187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Ы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28000" y="1476360"/>
            <a:ext cx="1800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А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87640" y="6516720"/>
            <a:ext cx="158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88360" y="6516720"/>
            <a:ext cx="1224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65400" y="324000"/>
            <a:ext cx="46386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 В  СОБАЧКЕ  ЛИ  ВСЁ  ДЕЛ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84720" y="133200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00360" y="5003640"/>
            <a:ext cx="554364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— Экой чудной этот Герасим! — пропищала толстая прачка, — можно ли эдак из-за собаки проклажаться!.. Право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С. Тургенев. «Му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60360" y="1187280"/>
            <a:ext cx="3046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92720" y="2700360"/>
            <a:ext cx="1726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69440" y="1835280"/>
            <a:ext cx="1092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ы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63640" y="1835280"/>
            <a:ext cx="8236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52720" y="3708360"/>
            <a:ext cx="1735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р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7800" y="3564000"/>
            <a:ext cx="11455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4032360" y="2340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72000" y="234000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744720" y="3132000"/>
            <a:ext cx="1150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5080" y="3132000"/>
            <a:ext cx="1079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44720" y="4140360"/>
            <a:ext cx="2403360" cy="3184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3280" y="539640"/>
            <a:ext cx="237636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201080" y="539640"/>
            <a:ext cx="2447640" cy="2016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264360" y="4211640"/>
            <a:ext cx="3529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42000" y="2954160"/>
            <a:ext cx="2625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ПОСТН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49280" y="2235240"/>
            <a:ext cx="997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66680" y="2162160"/>
            <a:ext cx="1082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3817800"/>
            <a:ext cx="2689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я, челя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62000" y="3817800"/>
            <a:ext cx="756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2200" y="287280"/>
            <a:ext cx="4124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000" y="324000"/>
            <a:ext cx="828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стые, ясные линии человеческих суд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5005440"/>
            <a:ext cx="4248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852 г.  - написан рассказ «Му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96000" y="6227640"/>
            <a:ext cx="4465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861 г. – отмена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72000" y="2556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472000" y="255600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68720" y="3348000"/>
            <a:ext cx="180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544720" y="3274560"/>
            <a:ext cx="13669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6000" y="250920"/>
            <a:ext cx="3097080" cy="432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16360" y="395280"/>
            <a:ext cx="5761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ТЕСТ – решительное воз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тив че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73280" y="2556000"/>
            <a:ext cx="2932200" cy="390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496200" y="2843280"/>
            <a:ext cx="3368520" cy="451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079640" y="4140360"/>
            <a:ext cx="24476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31640" y="870480"/>
            <a:ext cx="4537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«Одарённый необычайной силой, он работал за четвер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легая огромными ладонями на соху, казалось, один, без помощи лошадёнки, взрезывал упругую грудь зем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Петров день так сокрушительно действовал косой, что хоть бы молодой берёзовый лесок смахивать с корней до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3867480"/>
            <a:ext cx="4176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овыми обязанностями дворника Герасим справлялся шутя, за полча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16720" y="907920"/>
            <a:ext cx="4176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росался лицом на землю и по целым часам лежат на груди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как пойманный звер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8000" y="3702960"/>
            <a:ext cx="4032360" cy="101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тчужденный несчастьем своим от сообщества людей, он вырос немой и могучий,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как дерево растет на 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земле...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16720" y="1952280"/>
            <a:ext cx="40320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ерасим скучал и недоумевал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как недоумевает молодой, здоровый бык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который только что пасся на ниве, где росла сочная трава, но его поставили в вагон железной дороги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88000" y="4959360"/>
            <a:ext cx="4176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пор так и звенит у него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как сте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»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4955040"/>
            <a:ext cx="4608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о пудов можно было положить на неё — не погнулась б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796000"/>
            <a:ext cx="244944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96000" y="6012000"/>
            <a:ext cx="266544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4200" y="324000"/>
            <a:ext cx="6932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ства выраз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Marina</cp:lastModifiedBy>
  <dcterms:modified xsi:type="dcterms:W3CDTF">2018-08-25T12:56:28Z</dcterms:modified>
  <cp:revision>139</cp:revision>
  <dc:subject/>
  <dc:title>Особенности преподавания предметов гуманитарного цикла в условиях введения новых стандартов В.А.Доманский, заведующий кафедрой филологического образования и межпредметной интеграции ЛОИРО</dc:title>
</cp:coreProperties>
</file>