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4F5-D779-4645-9982-FBD9B596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BBB-86B2-4430-8549-EA5112E9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6F1-D6AE-421D-83D1-F71075C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EAA-60B7-4BBC-928C-BB73EC93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7C05-3929-4694-B264-D5FAF3F4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4AFE-BF66-4E34-A712-467A15F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29D8-DB23-45CE-94F3-1E15F48F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348B-DABA-42FF-BB19-2347A8DD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020D-C37C-49C8-A808-FE1386BF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D484-797B-4E96-A74F-494AB8B0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DD94-CAFC-4D68-8FA4-0512AB04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4D1-6159-4185-A3CF-F769BD32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5402-A25D-4DEA-B285-CB8BA6DA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672F-D852-4109-909C-04F8D6FC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B8C6-D709-4586-A022-A7A721F0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E909-6E29-42BF-B0E0-815E6981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E0B-79CC-41DB-AC0F-A797CDE9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CA9-C669-4CBB-A7DC-05A0E664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68C-0B1E-4779-9E7E-44AFD17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BE5-C2F8-4B85-9645-D69CE636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9BC-7372-4E0D-9A8C-537B46F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7BE-2AA4-4F08-ADBA-684A156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9DD-3833-4F8F-84BE-1A22E876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72A-C513-42BE-83E7-6BBAAAB0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6504-2AFE-4663-8657-95454B36B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8DDC-7836-4080-A68B-011D5F3AD8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очинение по картине В.Г.Перова «Трой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11280" y="2637000"/>
            <a:ext cx="792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развития речи  в 4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МАОУ НОШ №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Южно-Сахалин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ирнова Е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 rot="21026400">
            <a:off x="4211280" y="4149720"/>
            <a:ext cx="7192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viuga 1.mp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766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тройка Перов"/>
          <p:cNvPicPr/>
          <p:nvPr/>
        </p:nvPicPr>
        <p:blipFill>
          <a:blip r:embed="rId1"/>
          <a:srcRect l="23637" t="31549" r="40169" b="31549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28" name="viuga 1.mp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тройка Перов"/>
          <p:cNvPicPr/>
          <p:nvPr/>
        </p:nvPicPr>
        <p:blipFill>
          <a:blip r:embed="rId1"/>
          <a:srcRect l="57570" t="26087" r="0" b="19221"/>
          <a:stretch/>
        </p:blipFill>
        <p:spPr>
          <a:xfrm>
            <a:off x="0" y="-1251000"/>
            <a:ext cx="9144000" cy="8686800"/>
          </a:xfrm>
          <a:prstGeom prst="rect">
            <a:avLst/>
          </a:prstGeom>
          <a:ln w="0">
            <a:noFill/>
          </a:ln>
        </p:spPr>
      </p:pic>
      <p:pic>
        <p:nvPicPr>
          <p:cNvPr id="230" name="viuga 1.mp3" descr=""/>
          <p:cNvPicPr/>
          <p:nvPr/>
        </p:nvPicPr>
        <p:blipFill>
          <a:blip r:embed="rId2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тройка Перов"/>
          <p:cNvPicPr/>
          <p:nvPr/>
        </p:nvPicPr>
        <p:blipFill>
          <a:blip r:embed="rId1"/>
          <a:srcRect l="6149" t="42810" r="63603" b="11933"/>
          <a:stretch/>
        </p:blipFill>
        <p:spPr>
          <a:xfrm>
            <a:off x="0" y="-3267000"/>
            <a:ext cx="9182160" cy="10125000"/>
          </a:xfrm>
          <a:prstGeom prst="rect">
            <a:avLst/>
          </a:prstGeom>
          <a:ln w="0">
            <a:noFill/>
          </a:ln>
        </p:spPr>
      </p:pic>
      <p:pic>
        <p:nvPicPr>
          <p:cNvPr id="232" name="viuga 1.mp3" descr=""/>
          <p:cNvPicPr/>
          <p:nvPr/>
        </p:nvPicPr>
        <p:blipFill>
          <a:blip r:embed="rId2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viuga 1.mp3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третьяковская"/>
          <p:cNvPicPr/>
          <p:nvPr/>
        </p:nvPicPr>
        <p:blipFill>
          <a:blip r:embed="rId1"/>
          <a:srcRect l="0" t="5249" r="0" b="0"/>
          <a:stretch/>
        </p:blipFill>
        <p:spPr>
          <a:xfrm>
            <a:off x="1871640" y="189000"/>
            <a:ext cx="5400720" cy="341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третьяковская 5"/>
          <p:cNvPicPr/>
          <p:nvPr/>
        </p:nvPicPr>
        <p:blipFill>
          <a:blip r:embed="rId2"/>
          <a:stretch/>
        </p:blipFill>
        <p:spPr>
          <a:xfrm>
            <a:off x="324000" y="378612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третьяковская 4"/>
          <p:cNvPicPr/>
          <p:nvPr/>
        </p:nvPicPr>
        <p:blipFill>
          <a:blip r:embed="rId3"/>
          <a:stretch/>
        </p:blipFill>
        <p:spPr>
          <a:xfrm>
            <a:off x="5076720" y="3789360"/>
            <a:ext cx="3745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11280" y="141300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Можешь ли ты назвать себя счастливым ребенко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буклет1"/>
          <p:cNvPicPr/>
          <p:nvPr/>
        </p:nvPicPr>
        <p:blipFill>
          <a:blip r:embed="rId1"/>
          <a:stretch/>
        </p:blipFill>
        <p:spPr>
          <a:xfrm>
            <a:off x="179280" y="189000"/>
            <a:ext cx="5292720" cy="374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буклет2"/>
          <p:cNvPicPr/>
          <p:nvPr/>
        </p:nvPicPr>
        <p:blipFill>
          <a:blip r:embed="rId2"/>
          <a:stretch/>
        </p:blipFill>
        <p:spPr>
          <a:xfrm>
            <a:off x="4067280" y="3157560"/>
            <a:ext cx="49687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611280" y="1484280"/>
            <a:ext cx="81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Сочинение по карти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В. Перова «Тройк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47640" y="37162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анализировать произвед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буклет для музе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84360" y="476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Запись в букле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меречный морозный вечер. Снежная мгла бьёт в лицо. Встречный ветер срывает одежду. Трое ребят, изнемогая, тащат в гору сани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799308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нализ содержания карт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6360" y="1267920"/>
            <a:ext cx="79912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9920" indent="-3488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время года изображено на картине? Какая стоит пог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920" indent="-3488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изображен на картине? Что тащат трое ребя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58920" y="2835360"/>
            <a:ext cx="842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находится в санях? Какая бочка? С ч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можно сказать о детях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выражают их л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решил облегчить нелегкий труд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 колорит картины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мысли и чувства вызывает карт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му художник решил её напис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547640" y="907920"/>
          <a:ext cx="6480360" cy="4324320"/>
        </p:xfrm>
        <a:graphic>
          <a:graphicData uri="http://schemas.openxmlformats.org/drawingml/2006/table">
            <a:tbl>
              <a:tblPr/>
              <a:tblGrid>
                <a:gridCol w="2086200"/>
                <a:gridCol w="4394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силенные, обездоленны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дальческие, горестны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тхая, грязная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ость, презрени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омная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1258920" y="1052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14560" y="2421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25892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219640" y="119700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сли и чув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96000" y="400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324000" y="333360"/>
          <a:ext cx="8569080" cy="6002280"/>
        </p:xfrm>
        <a:graphic>
          <a:graphicData uri="http://schemas.openxmlformats.org/drawingml/2006/table">
            <a:tbl>
              <a:tblPr/>
              <a:tblGrid>
                <a:gridCol w="2068200"/>
                <a:gridCol w="650088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вшие, г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дные, измуч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 тяжким трудом обессил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, обездол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ожд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, безучастные к окружающему, страдальческие, горестны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тхая, рваная, грязная, не по погод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радание, жалость, сочувствие, возмущение,  презр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дяная, невыносимо тяжёлая, огромна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WordArt 43"/>
          <p:cNvSpPr txBox="1"/>
          <p:nvPr/>
        </p:nvSpPr>
        <p:spPr>
          <a:xfrm>
            <a:off x="826920" y="836640"/>
            <a:ext cx="1038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WordArt 45"/>
          <p:cNvSpPr txBox="1"/>
          <p:nvPr/>
        </p:nvSpPr>
        <p:spPr>
          <a:xfrm>
            <a:off x="826920" y="2060640"/>
            <a:ext cx="1086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ц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WordArt 47"/>
          <p:cNvSpPr txBox="1"/>
          <p:nvPr/>
        </p:nvSpPr>
        <p:spPr>
          <a:xfrm>
            <a:off x="539640" y="3255840"/>
            <a:ext cx="165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WordArt 49"/>
          <p:cNvSpPr txBox="1"/>
          <p:nvPr/>
        </p:nvSpPr>
        <p:spPr>
          <a:xfrm>
            <a:off x="552600" y="4114800"/>
            <a:ext cx="171900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сли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увств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WordArt 52"/>
          <p:cNvSpPr txBox="1"/>
          <p:nvPr/>
        </p:nvSpPr>
        <p:spPr>
          <a:xfrm>
            <a:off x="712800" y="547056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067520" cy="5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Garamond"/>
              </a:rPr>
              <a:t>Орфографическая подготов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5000"/>
              </a:lnSpc>
              <a:spcBef>
                <a:spcPts val="137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…дяная, …дежда, л…цо, м…роз, т…жёлая, с…бака, пр…хожий, сочу…ствие, горес…ные, безучас…ны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619280" y="1827360"/>
            <a:ext cx="576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282920" y="18622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380360" y="184932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055520" y="28954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6300720" y="289080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332000" y="396252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76720" y="291636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5292720" y="393372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233440" y="50086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554880" y="501804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25520" y="476280"/>
            <a:ext cx="8291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1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о находится в санях? Какая бочка? С ч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акими изображены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2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Какие лица у де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акой взгля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3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Во что одеты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Какие мысли и чувства вызывает карт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дети1 Перов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17680" y="189000"/>
            <a:ext cx="4506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тройка Перов"/>
          <p:cNvPicPr/>
          <p:nvPr/>
        </p:nvPicPr>
        <p:blipFill>
          <a:blip r:embed="rId1"/>
          <a:stretch/>
        </p:blipFill>
        <p:spPr>
          <a:xfrm>
            <a:off x="-190440" y="-81000"/>
            <a:ext cx="952488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55640" y="40428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оизведениями изобразительного искусства человек живет не только в залах картинных галерей и музеев. Как ценен молчаливый разговор с самим собой, когда полотна и статуи оживают в сердце. Надо только не закрывать перед собой двери в храм красоты, не обкрадывать себя, а постепенно тренировать свой вкус так же, как и мускулы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й Тимофеевич Конен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дети Перов"/>
          <p:cNvPicPr/>
          <p:nvPr/>
        </p:nvPicPr>
        <p:blipFill>
          <a:blip r:embed="rId1"/>
          <a:stretch/>
        </p:blipFill>
        <p:spPr>
          <a:xfrm>
            <a:off x="2465280" y="189000"/>
            <a:ext cx="419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Спящие дети Перов"/>
          <p:cNvPicPr/>
          <p:nvPr/>
        </p:nvPicPr>
        <p:blipFill>
          <a:blip r:embed="rId1"/>
          <a:stretch/>
        </p:blipFill>
        <p:spPr>
          <a:xfrm>
            <a:off x="1187280" y="453960"/>
            <a:ext cx="6769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Последний путь Перов"/>
          <p:cNvPicPr/>
          <p:nvPr/>
        </p:nvPicPr>
        <p:blipFill>
          <a:blip r:embed="rId1"/>
          <a:stretch/>
        </p:blipFill>
        <p:spPr>
          <a:xfrm>
            <a:off x="468360" y="324000"/>
            <a:ext cx="8157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дети1 Перо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117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дети Перов"/>
          <p:cNvPicPr/>
          <p:nvPr/>
        </p:nvPicPr>
        <p:blipFill>
          <a:blip r:embed="rId2"/>
          <a:stretch/>
        </p:blipFill>
        <p:spPr>
          <a:xfrm>
            <a:off x="6066000" y="3429000"/>
            <a:ext cx="209700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Спящие дети Перов"/>
          <p:cNvPicPr/>
          <p:nvPr/>
        </p:nvPicPr>
        <p:blipFill>
          <a:blip r:embed="rId3"/>
          <a:stretch/>
        </p:blipFill>
        <p:spPr>
          <a:xfrm>
            <a:off x="468360" y="3503520"/>
            <a:ext cx="3672000" cy="3229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Последний путь Перов"/>
          <p:cNvPicPr/>
          <p:nvPr/>
        </p:nvPicPr>
        <p:blipFill>
          <a:blip r:embed="rId4"/>
          <a:stretch/>
        </p:blipFill>
        <p:spPr>
          <a:xfrm>
            <a:off x="4788000" y="189000"/>
            <a:ext cx="41972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Перов"/>
          <p:cNvPicPr/>
          <p:nvPr/>
        </p:nvPicPr>
        <p:blipFill>
          <a:blip r:embed="rId1"/>
          <a:stretch/>
        </p:blipFill>
        <p:spPr>
          <a:xfrm>
            <a:off x="2500200" y="189000"/>
            <a:ext cx="4098960" cy="518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403280" y="5445000"/>
            <a:ext cx="6193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силий Григорь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6600" y="1052280"/>
            <a:ext cx="7930800" cy="41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ccecff"/>
                </a:solidFill>
                <a:latin typeface="Arial"/>
              </a:rPr>
              <a:t>ТРОЙКА</a:t>
            </a:r>
            <a:endParaRPr b="0" lang="en-US" sz="12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1:27:13Z</dcterms:created>
  <dc:creator>User</dc:creator>
  <dc:description/>
  <dc:language>en-US</dc:language>
  <cp:lastModifiedBy>Елена</cp:lastModifiedBy>
  <dcterms:modified xsi:type="dcterms:W3CDTF">2018-10-27T09:51:09Z</dcterms:modified>
  <cp:revision>10</cp:revision>
  <dc:subject/>
  <dc:title>Сочинение по картине В.Г.Перова «Тройка»</dc:title>
</cp:coreProperties>
</file>