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C99-5E8B-44F0-9D42-DA65829BF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A9A0-5B8D-401B-82D0-AB450DBBD0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DF2-BD61-487E-9A09-7970F7EE02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323-23DF-4121-93D1-354A89E5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DD3-05B8-4123-A8B9-EE81046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B2B-93F7-443D-8545-C64AAFFC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CB7-D149-4735-A5BE-3A8320B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9D6-A160-4A0C-8490-48E36C81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E59-57B8-45FF-ABE3-85944AF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F4E-F8F7-4134-B0DE-9EA7815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C2F-6275-4268-A946-173ACFAE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DD3-B502-4667-A9CD-00D809D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0A7-EAB4-44C9-ADB5-58F5504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DF7-8688-469C-BF9D-36E14EB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3AD-8674-4F16-BAB6-10253D2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685-B75E-43D0-A66C-3C2432EAF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FAB6-3538-4910-AED8-D784DEF4C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2697120"/>
            <a:ext cx="78901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класс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?»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280" y="6023880"/>
            <a:ext cx="669636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Picture 5" descr="H:\Documents and Settings\Aida\Рабочий стол\текстуры и фоны, клипарты\idpencil.jpg"/>
          <p:cNvPicPr/>
          <p:nvPr/>
        </p:nvPicPr>
        <p:blipFill>
          <a:blip r:embed="rId2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 на уро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9806-C97E-4EDF-B96B-ACFDAF6F1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272-B1E6-4F4C-9BB5-095DB3E5B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57360" y="3222720"/>
          <a:ext cx="6029280" cy="1280880"/>
        </p:xfrm>
        <a:graphic>
          <a:graphicData uri="http://schemas.openxmlformats.org/drawingml/2006/table">
            <a:tbl>
              <a:tblPr/>
              <a:tblGrid>
                <a:gridCol w="560520"/>
                <a:gridCol w="1822320"/>
                <a:gridCol w="1822320"/>
                <a:gridCol w="1824120"/>
              </a:tblGrid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Calibri"/>
                        </a:rPr>
                        <a:t>урок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Calibri"/>
                        </a:rPr>
                        <a:t>я на уро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Calibri"/>
                        </a:rPr>
                        <a:t>ит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интерес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аботал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онял матери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ку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тдых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омогал други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езразли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омогал други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е поня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1"/>
          <p:cNvSpPr/>
          <p:nvPr/>
        </p:nvSpPr>
        <p:spPr>
          <a:xfrm>
            <a:off x="155736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773360"/>
          <a:ext cx="7775280" cy="4671720"/>
        </p:xfrm>
        <a:graphic>
          <a:graphicData uri="http://schemas.openxmlformats.org/drawingml/2006/table">
            <a:tbl>
              <a:tblPr/>
              <a:tblGrid>
                <a:gridCol w="722160"/>
                <a:gridCol w="2085840"/>
                <a:gridCol w="2374920"/>
                <a:gridCol w="259236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шё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урок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л материа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01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чно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а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л больше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зна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различно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л другим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я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</a:tbl>
          </a:graphicData>
        </a:graphic>
      </p:graphicFrame>
      <p:sp>
        <p:nvSpPr>
          <p:cNvPr id="117" name="Rectangle 2"/>
          <p:cNvSpPr/>
          <p:nvPr/>
        </p:nvSpPr>
        <p:spPr>
          <a:xfrm>
            <a:off x="155736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« Математика – это то,                посредством     чего     человек управляет  природой  и  собой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D79-AECD-44FA-A855-3BD87CB9A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2F03-3882-4019-86BA-B1A021B51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находим-вычисляем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формул для нее мы знае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й же митинги, парады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улять по ней всегда мы рады.</a:t>
            </a:r>
            <a:br>
              <a:rPr sz="2800"/>
            </a:b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www.eastkorr.net/sites/default/files/news_images/post-30-1278929573_thumb.jpg"/>
          <p:cNvPicPr/>
          <p:nvPr/>
        </p:nvPicPr>
        <p:blipFill>
          <a:blip r:embed="rId2"/>
          <a:stretch/>
        </p:blipFill>
        <p:spPr>
          <a:xfrm>
            <a:off x="4284720" y="2421000"/>
            <a:ext cx="4405320" cy="3313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971640" y="3141720"/>
            <a:ext cx="2305080" cy="1655640"/>
          </a:xfrm>
          <a:prstGeom prst="rect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 b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3"/>
          <a:stretch/>
        </p:blipFill>
        <p:spPr>
          <a:xfrm>
            <a:off x="2341440" y="5297400"/>
            <a:ext cx="41086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2697120"/>
            <a:ext cx="78901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 :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              площадей»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47280" y="6023880"/>
            <a:ext cx="669636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0" name="Picture 5" descr="H:\Documents and Settings\Aida\Рабочий стол\текстуры и фоны, клипарты\idpencil.jpg"/>
          <p:cNvPicPr/>
          <p:nvPr/>
        </p:nvPicPr>
        <p:blipFill>
          <a:blip r:embed="rId2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8"/>
          <p:cNvSpPr/>
          <p:nvPr/>
        </p:nvSpPr>
        <p:spPr>
          <a:xfrm>
            <a:off x="1077840" y="3894120"/>
            <a:ext cx="1584360" cy="1657440"/>
          </a:xfrm>
          <a:prstGeom prst="rect">
            <a:avLst/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E4D-B996-4C06-B69F-B3F52DCF08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2"/>
          <p:cNvSpPr/>
          <p:nvPr/>
        </p:nvSpPr>
        <p:spPr>
          <a:xfrm>
            <a:off x="6526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A74-E46A-4F35-8F38-01A7271BD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116000" y="1628640"/>
            <a:ext cx="1800360" cy="863640"/>
          </a:xfrm>
          <a:prstGeom prst="rect">
            <a:avLst/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859280" y="1773360"/>
            <a:ext cx="2141640" cy="645840"/>
          </a:xfrm>
          <a:prstGeom prst="rect">
            <a:avLst/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ый треугольник 6"/>
          <p:cNvSpPr/>
          <p:nvPr/>
        </p:nvSpPr>
        <p:spPr>
          <a:xfrm>
            <a:off x="7380360" y="3716280"/>
            <a:ext cx="936720" cy="1584360"/>
          </a:xfrm>
          <a:prstGeom prst="rtTriangle">
            <a:avLst/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ый треугольник 7"/>
          <p:cNvSpPr/>
          <p:nvPr/>
        </p:nvSpPr>
        <p:spPr>
          <a:xfrm rot="10800000">
            <a:off x="7381800" y="3633480"/>
            <a:ext cx="936720" cy="15843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Фигура, имеющая форму буквы L 9"/>
          <p:cNvSpPr/>
          <p:nvPr/>
        </p:nvSpPr>
        <p:spPr>
          <a:xfrm>
            <a:off x="5235480" y="4745160"/>
            <a:ext cx="1079640" cy="1441440"/>
          </a:xfrm>
          <a:prstGeom prst="pie">
            <a:avLst/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421080" y="5229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1468800" y="2573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5508720" y="2492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7"/>
          <p:cNvSpPr/>
          <p:nvPr/>
        </p:nvSpPr>
        <p:spPr>
          <a:xfrm>
            <a:off x="6608160" y="4068720"/>
            <a:ext cx="758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8"/>
          <p:cNvSpPr/>
          <p:nvPr/>
        </p:nvSpPr>
        <p:spPr>
          <a:xfrm>
            <a:off x="4211640" y="17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дм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9"/>
          <p:cNvSpPr/>
          <p:nvPr/>
        </p:nvSpPr>
        <p:spPr>
          <a:xfrm>
            <a:off x="4482720" y="5203800"/>
            <a:ext cx="758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0"/>
          <p:cNvSpPr/>
          <p:nvPr/>
        </p:nvSpPr>
        <p:spPr>
          <a:xfrm>
            <a:off x="7471080" y="31179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1"/>
          <p:cNvSpPr/>
          <p:nvPr/>
        </p:nvSpPr>
        <p:spPr>
          <a:xfrm>
            <a:off x="250920" y="19162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2"/>
          <p:cNvSpPr/>
          <p:nvPr/>
        </p:nvSpPr>
        <p:spPr>
          <a:xfrm>
            <a:off x="6320160" y="57117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3"/>
          <p:cNvSpPr/>
          <p:nvPr/>
        </p:nvSpPr>
        <p:spPr>
          <a:xfrm>
            <a:off x="5780520" y="51721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4"/>
          <p:cNvSpPr/>
          <p:nvPr/>
        </p:nvSpPr>
        <p:spPr>
          <a:xfrm>
            <a:off x="5210280" y="42609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д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5"/>
          <p:cNvSpPr/>
          <p:nvPr/>
        </p:nvSpPr>
        <p:spPr>
          <a:xfrm flipV="1">
            <a:off x="2387520" y="50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1476360" y="35323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д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город имеет форму прямоугольника, длина которого  18 м, ширина – 9 м. Его нужно со  всех  сторон обнести изгородью и засадить картоф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ой длины изгородь предстоит построи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 килограммов  картофеля     надо приготовить  для  посадки, если  на  1 квадратный метр огорода высаживается 500 г картофел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вартире 7 дверей. Ширина каждой двери 1м, а высота - 2 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колько потребуется  белил, чтобы покрасить двери с двух сторон, если на 1 квадратный   метр   поверхности   надо расходовать 110 граммов бели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  дайте  в  килограммах   и граммах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Трапеция 6"/>
          <p:cNvSpPr/>
          <p:nvPr/>
        </p:nvSpPr>
        <p:spPr>
          <a:xfrm>
            <a:off x="1851120" y="2395440"/>
            <a:ext cx="3432240" cy="2940120"/>
          </a:xfrm>
          <a:custGeom>
            <a:avLst/>
            <a:gdLst/>
            <a:ahLst/>
            <a:rect l="l" t="t" r="r" b="b"/>
            <a:pathLst>
              <a:path w="3432971" h="2940712">
                <a:moveTo>
                  <a:pt x="0" y="2940712"/>
                </a:moveTo>
                <a:lnTo>
                  <a:pt x="735178" y="0"/>
                </a:lnTo>
                <a:lnTo>
                  <a:pt x="2697793" y="0"/>
                </a:lnTo>
                <a:lnTo>
                  <a:pt x="3432971" y="2940712"/>
                </a:lnTo>
                <a:lnTo>
                  <a:pt x="0" y="2940712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28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ему равна площадь данной фигур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255840" y="2492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 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876320" y="53784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 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4553640" y="536256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 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2700360" y="3897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 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 flipH="1">
            <a:off x="2568240" y="2387520"/>
            <a:ext cx="3240" cy="294480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1"/>
          <p:cNvSpPr/>
          <p:nvPr/>
        </p:nvSpPr>
        <p:spPr>
          <a:xfrm flipH="1">
            <a:off x="4500720" y="2365200"/>
            <a:ext cx="1440" cy="29703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7"/>
          <p:cNvSpPr/>
          <p:nvPr/>
        </p:nvSpPr>
        <p:spPr>
          <a:xfrm flipV="1">
            <a:off x="1851120" y="2352600"/>
            <a:ext cx="1440" cy="29433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8"/>
          <p:cNvSpPr/>
          <p:nvPr/>
        </p:nvSpPr>
        <p:spPr>
          <a:xfrm flipV="1">
            <a:off x="5283360" y="2365200"/>
            <a:ext cx="0" cy="29433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9"/>
          <p:cNvSpPr/>
          <p:nvPr/>
        </p:nvSpPr>
        <p:spPr>
          <a:xfrm flipV="1">
            <a:off x="1785960" y="2387520"/>
            <a:ext cx="3583080" cy="79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Заголовок 14" descr=""/>
          <p:cNvPicPr/>
          <p:nvPr/>
        </p:nvPicPr>
        <p:blipFill>
          <a:blip r:embed="rId2"/>
          <a:stretch/>
        </p:blipFill>
        <p:spPr>
          <a:xfrm>
            <a:off x="6480" y="-347760"/>
            <a:ext cx="8845560" cy="860400"/>
          </a:xfrm>
          <a:prstGeom prst="rect">
            <a:avLst/>
          </a:prstGeom>
          <a:ln w="0">
            <a:noFill/>
          </a:ln>
        </p:spPr>
      </p:pic>
      <p:sp>
        <p:nvSpPr>
          <p:cNvPr id="99" name="Загнутый угол 15"/>
          <p:cNvSpPr/>
          <p:nvPr/>
        </p:nvSpPr>
        <p:spPr>
          <a:xfrm>
            <a:off x="5940360" y="3284640"/>
            <a:ext cx="1513080" cy="647640"/>
          </a:xfrm>
          <a:prstGeom prst="foldedCorner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36 м</a:t>
            </a:r>
            <a:r>
              <a:rPr b="1" lang="en-US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3564000" y="476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вощеводческом хозяйстве агроном составляет план посадки овощей. По плану в 5 равных по площади теплицах  надо  посадить следующие  овощные  культуры:  огурцы, томаты, морковь, салат, петрушку. Сколько различных   вариантов   распределения    этих культур  по  разным  теплицам     он  может состав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479C-F066-49FE-A7F8-69D3470E7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DC7D-7BC2-46E6-9E60-F90277CC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B10-54A3-49BA-BC4E-3E2CF5327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1EC-9C08-4DD8-B943-009D9C667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находим-вычисляем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формул для нее мы знае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й же митинги, парады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улять по ней всегда мы рады.</a:t>
            </a:r>
            <a:br>
              <a:rPr sz="2800"/>
            </a:b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http://www.eastkorr.net/sites/default/files/news_images/post-30-1278929573_thumb.jpg"/>
          <p:cNvPicPr/>
          <p:nvPr/>
        </p:nvPicPr>
        <p:blipFill>
          <a:blip r:embed="rId2"/>
          <a:stretch/>
        </p:blipFill>
        <p:spPr>
          <a:xfrm>
            <a:off x="4284720" y="2421000"/>
            <a:ext cx="4405320" cy="3313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971640" y="3141720"/>
            <a:ext cx="2305080" cy="1655640"/>
          </a:xfrm>
          <a:prstGeom prst="rect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 b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2341440" y="5297400"/>
            <a:ext cx="41086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12:03:39Z</dcterms:created>
  <dc:creator>Наталия</dc:creator>
  <dc:description>http://aida.ucoz.ru</dc:description>
  <dc:language>en-US</dc:language>
  <cp:lastModifiedBy>Kirill</cp:lastModifiedBy>
  <dcterms:modified xsi:type="dcterms:W3CDTF">2023-02-15T16:31:12Z</dcterms:modified>
  <cp:revision>87</cp:revision>
  <dc:subject/>
  <dc:title>Урок по математике Площадь.</dc:title>
</cp:coreProperties>
</file>