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944-F9B5-4AA1-A430-6159DA34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BB5-AB0F-44EC-8520-C84FFE8F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71E-28C6-4C34-BBB1-71294705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981-54D6-4146-B7D6-9F11AA1D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46FB-CD1A-4AE2-AA9B-3D2122D0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11DB-6E51-4307-9C9C-54B2F754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3910-3D3F-4EBF-82DC-81EE3D35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F5B2-466D-4A6C-BCD0-1F52C7C3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0B3C-D4BA-46A2-BBD4-67C536F6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C7D0-0941-449B-B177-808592C8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4760-929C-44AA-A2E8-599F6D0C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33C-2DB9-45AD-8AB6-6681FA52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DE34-CCF8-4687-8EF5-B25E6F78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87D8-DA80-4187-ACD7-B9FAAB69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3172-B3E7-4E21-A613-B9E8B7AC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9428-29B9-4BB1-90BA-37EFDA4E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28C9-F5AD-45B0-AFEA-04964C27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664-DCDF-4037-B9E1-E979D4E4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944-6D2D-4BA6-B1D9-6FBE2A24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9D8-3C6A-47DF-AC0D-652DDFC5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B09-4F10-4DB4-AE3D-18FC121A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A65-B408-4070-B392-062C139B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34D-6343-4FC1-86F5-5B3A097D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FCB-7F2A-433F-97B0-D74E072C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D41C-C11E-4339-A6E3-E5D10A12E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5CFC-2F95-4A32-8334-47F09B0CB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 Black"/>
              </a:rPr>
              <a:t>ЧЕЛОВЕК КАК ДУХОВНОЕ СУЩЕСТ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ОБЩЕСТВОЗН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&amp;Kcy;&amp;acy;&amp;rcy;&amp;tcy;&amp;icy;&amp;ncy;&amp;kcy;&amp;icy; &amp;pcy;&amp;ocy; &amp;zcy;&amp;acy;&amp;pcy;&amp;rcy;&amp;ocy;&amp;scy;&amp;ucy; &amp;kcy;&amp;acy;&amp;rcy;&amp;tcy;&amp;icy;&amp;ncy;&amp;kcy;&amp;icy; &amp;chcy;&amp;iecy;&amp;lcy;&amp;ocy;&amp;vcy;&amp;iecy;&amp;chcy;&amp;kcy;&amp;icy; 3d &amp;Zcy;&amp;Acy;&amp;Pcy;&amp;Rcy;&amp;IEcy;&amp;Tcy;&amp;Ycy;"/>
          <p:cNvPicPr/>
          <p:nvPr/>
        </p:nvPicPr>
        <p:blipFill>
          <a:blip r:embed="rId1"/>
          <a:stretch/>
        </p:blipFill>
        <p:spPr>
          <a:xfrm>
            <a:off x="250920" y="333360"/>
            <a:ext cx="2809800" cy="3743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19640" y="333360"/>
            <a:ext cx="5256000" cy="934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РАЛЬНЫЕ ЗАПРЕТЫ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1484280"/>
            <a:ext cx="5543280" cy="4969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е убива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е вороват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могать в бед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говорить правд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ять обещ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се времена осуждалис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аднос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усость, обман, лицемерие, жестокос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ви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, напротив, одобрялис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вобода, любовь, честнос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еликодушие, доброта, трудолюб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кромность, верность, милосерд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492360" y="692280"/>
            <a:ext cx="52819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ральные установки личности исследовались крупнейшими философами. Один из них — И. Кант. Он сформулировал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категорический императив мора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следование которому весьма важно для реализации нравственных ориентиров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&amp;Kcy;&amp;acy;&amp;rcy;&amp;tcy;&amp;icy;&amp;ncy;&amp;kcy;&amp;icy; &amp;pcy;&amp;ocy; &amp;zcy;&amp;acy;&amp;pcy;&amp;rcy;&amp;ocy;&amp;scy;&amp;ucy; &amp;kcy;&amp;acy;&amp;ncy;&amp;tcy; &amp;icy;&amp;mcy;&amp;mcy;&amp;acy;&amp;ncy;&amp;ucy;&amp;icy;&amp;lcy;"/>
          <p:cNvPicPr/>
          <p:nvPr/>
        </p:nvPicPr>
        <p:blipFill>
          <a:blip r:embed="rId1"/>
          <a:stretch/>
        </p:blipFill>
        <p:spPr>
          <a:xfrm>
            <a:off x="468360" y="836640"/>
            <a:ext cx="3030480" cy="3960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5013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ществует,  только один категорический императи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«поступай всегда согласно такой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максиме,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всеобщности котор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 качестве закона ты в то же время можешь желать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Максима — высший принцип, высшее правил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260280"/>
            <a:ext cx="8207280" cy="23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тегорический императи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— это безусло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удительное требование (повеление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допускающее возражений, обязательное для все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юдей, независимо от их происхождения, полож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стоятель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068640"/>
            <a:ext cx="8064360" cy="3097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егорический императив, как и «золотое правило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верждает личную ответственность человека 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ершенные им деяния, учит не делать другому тог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го не желаешь себ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овательно, эти положения, как и нрав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целом, по своей природе гуманистич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бо «другой» выступает как Др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63640" y="260280"/>
            <a:ext cx="5616720" cy="692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Ы И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125360"/>
            <a:ext cx="8136000" cy="2737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это совершенство, высшая це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ческого стремления, представление о высш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альных требованиях, о наиболее возвышенном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е. Эти представления о лучшем, ценном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чественном некоторые ученые назыв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оделированием желаемого будущего», котор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чает интересам и потребностя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4076640"/>
            <a:ext cx="8137440" cy="25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Ценност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— это то, что наиболее дорого, свято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ак для одного человека, так и для всего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человечества. Ценности отражают отношение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человека к действительности (к тем или иным фактам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обытиям, явлениям), к другим людям, к самому себ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Отношения эти могут быть различными в разных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ультурах и у разных народов или социальных групп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26920" y="476280"/>
            <a:ext cx="7777440" cy="23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ИЦ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речь идет об отрицательном отноше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дей к тем или иным явлениям, о том, что 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ргается, нередко используются терми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антиценности» или «отрицательные ценност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&amp;Kcy;&amp;acy;&amp;rcy;&amp;tcy;&amp;icy;&amp;ncy;&amp;kcy;&amp;icy; &amp;pcy;&amp;ocy; &amp;zcy;&amp;acy;&amp;pcy;&amp;rcy;&amp;ocy;&amp;scy;&amp;ucy; &amp;kcy;&amp;acy;&amp;rcy;&amp;tcy;&amp;icy;&amp;ncy;&amp;kcy;&amp;icy; &amp;chcy;&amp;iecy;&amp;lcy;&amp;ocy;&amp;vcy;&amp;iecy;&amp;chcy;&amp;kcy;&amp;icy; 3d"/>
          <p:cNvPicPr/>
          <p:nvPr/>
        </p:nvPicPr>
        <p:blipFill>
          <a:blip r:embed="rId1"/>
          <a:stretch/>
        </p:blipFill>
        <p:spPr>
          <a:xfrm>
            <a:off x="2627280" y="285264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353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основе ценностей, которые люди принимают и исповедуют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троятся человеческие отнош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пределяются приоритеты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ыдвигаются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це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ажнейшие нравственные ценности составляют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истему ценностно-моральной ориентации челове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неразрывно связанную с категориями морали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2276640"/>
            <a:ext cx="7344000" cy="1584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ности могут быть правовыми, политически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лигиозными, художественны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ессиональны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равствен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549360"/>
            <a:ext cx="849636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ральные категории носят парносоотносите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биполярный) харак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2060640"/>
            <a:ext cx="3240360" cy="223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2133720"/>
            <a:ext cx="3095640" cy="20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508640"/>
            <a:ext cx="3311640" cy="213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РОДЕ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4365720"/>
            <a:ext cx="3240360" cy="213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Р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3059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Категория «</a:t>
            </a:r>
            <a:r>
              <a:rPr b="0" lang="en-US" sz="2900" spc="-1" strike="noStrike">
                <a:solidFill>
                  <a:srgbClr val="ffff66"/>
                </a:solidFill>
                <a:latin typeface="Arial"/>
              </a:rPr>
              <a:t>добро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», в свою очередь, также служит системообразующим началом нравственных понятий. Этическая традиция гласит: «</a:t>
            </a:r>
            <a:r>
              <a:rPr b="0" lang="en-US" sz="2900" spc="-1" strike="noStrike">
                <a:solidFill>
                  <a:srgbClr val="ffff66"/>
                </a:solidFill>
                <a:latin typeface="Arial"/>
              </a:rPr>
              <a:t>Все, что считается моральным, нравственно должным, является добром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»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В понятии «</a:t>
            </a:r>
            <a:r>
              <a:rPr b="0" lang="en-US" sz="2900" spc="-1" strike="noStrike">
                <a:solidFill>
                  <a:srgbClr val="ffff66"/>
                </a:solidFill>
                <a:latin typeface="Arial"/>
              </a:rPr>
              <a:t>зло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» сконцентрировано собирательное значение </a:t>
            </a:r>
            <a:r>
              <a:rPr b="0" lang="en-US" sz="2900" spc="-1" strike="noStrike">
                <a:solidFill>
                  <a:srgbClr val="ffff66"/>
                </a:solidFill>
                <a:latin typeface="Arial"/>
              </a:rPr>
              <a:t>аморального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, противостоящего нравственно-ценному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Наряду с понятием «добро» упоминается и понятие «</a:t>
            </a:r>
            <a:r>
              <a:rPr b="0" lang="en-US" sz="2900" spc="-1" strike="noStrike">
                <a:solidFill>
                  <a:srgbClr val="ffff66"/>
                </a:solidFill>
                <a:latin typeface="Arial"/>
              </a:rPr>
              <a:t>добродетель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» (делать добро), служащее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обобщенной характеристикой устойчиво положительных моральных качеств личности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900" spc="-1" strike="noStrike">
                <a:solidFill>
                  <a:srgbClr val="ffffb7"/>
                </a:solidFill>
                <a:latin typeface="Arial"/>
              </a:rPr>
              <a:t>Добродетельный человек — это активно действующая, нравственная личность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lack"/>
              </a:rPr>
              <a:t>СОВЕ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же одной из важнейших моральных категорий является совесть. Совесть — 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это способность личности познавать этические ценности и руководствоваться ими во всех жизненных ситуациях, самостоятельно формулировать свои нравственные обязанности, осуществлять моральный самоконтроль, осознавать свой долг перед другими людь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 совести нет нравственности. Совесть — внутренний суд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который человек вершит над самим собой. «Угрызения сове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— писал Адам Смит более двух веков назад,—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амое ужасное из чувств, посещавших сердце челове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ТРИОТИЗ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числу важнейших ценностных ориентиров относится и патриотизм. Этим понятием обозначается ценностное отношение человека к своему Отечеству, преданность и лю­бовь к Родине, своему народу. Патриотически настроенный человек привержен национальным традициям, общественному и политическому устройству, языку и вере своего народа. Патриотизм проявляется в гордости за достижения родной страны, в сопереживании ее неудачам и бедам, в уважении к ее историческому прошлому, к народной памяти, культу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&amp;Kcy;&amp;acy;&amp;rcy;&amp;tcy;&amp;icy;&amp;ncy;&amp;kcy;&amp;icy; &amp;pcy;&amp;ocy; &amp;zcy;&amp;acy;&amp;pcy;&amp;rcy;&amp;ocy;&amp;scy;&amp;ucy; &amp;Rcy;&amp;Icy;&amp;Scy;&amp;Ucy;&amp;Ncy;&amp;Ocy;&amp;Kcy; &amp;Pcy;&amp;Acy;&amp;Tcy;&amp;Rcy;&amp;Icy;&amp;Ocy;&amp;Tcy;&amp;Acy; PNG"/>
          <p:cNvPicPr/>
          <p:nvPr/>
        </p:nvPicPr>
        <p:blipFill>
          <a:blip r:embed="rId1"/>
          <a:stretch/>
        </p:blipFill>
        <p:spPr>
          <a:xfrm>
            <a:off x="5724360" y="4761000"/>
            <a:ext cx="25210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как духовное . суще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ловек, взрослея, все чаще задумывается о жизненном пути, стремится относиться к самому себе сознательно, саморазвиваться, самовоспитываться. Этот процесс один из философов назвал «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человеческим самостроительств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». Объект такого строительства — духовный мир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&amp;Kcy;&amp;acy;&amp;rcy;&amp;tcy;&amp;icy;&amp;ncy;&amp;kcy;&amp;icy; &amp;pcy;&amp;ocy; &amp;zcy;&amp;acy;&amp;pcy;&amp;rcy;&amp;ocy;&amp;scy;&amp;ucy; &amp;chcy;&amp;iecy;&amp;lcy;&amp;ocy;&amp;vcy;&amp;iecy;&amp;kcy; &amp;dcy;&amp;ucy;&amp;khcy;&amp;ocy;&amp;vcy;&amp;ncy;&amp;ocy;&amp;iecy; &amp;scy;&amp;ucy;&amp;shchcy;&amp;iecy;&amp;scy;&amp;tcy;&amp;vcy;&amp;ocy; &amp;chcy;&amp;iecy;&amp;lcy;&amp;ocy;&amp;vcy;&amp;iecy;&amp;chcy;&amp;icy;&amp;kcy;&amp;icy;"/>
          <p:cNvPicPr/>
          <p:nvPr/>
        </p:nvPicPr>
        <p:blipFill>
          <a:blip r:embed="rId1"/>
          <a:stretch/>
        </p:blipFill>
        <p:spPr>
          <a:xfrm>
            <a:off x="7254720" y="4365720"/>
            <a:ext cx="1675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502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нательный патриотизм как нравственный и социально-политический принцип предполагает трезвую оценку успехов и слабостей Отечества, а также уважительное отношение к другим народам, иной культуре. Отношение к другому народу является критерием, отличающим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атрио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националис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т. е. человека, стремящегося поставить свой собственный народ выше других. Патриотические чувства и идеи лишь тогда нравственно возвышают человека, когда они сопряжены с уважением к людям различных националь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атриотическими ориентира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человека связаны и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качест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гражданственно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Эти социально-психологические и нравственные качества личности сочетают в себе и чувство любви к Родине, и ответственность за нормальное развитие ее социальных и политических институтов, и осознание себя как полноправного гражданина, обладающего совокупностью прав и обязаннос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Гражданственность проявляется в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нии и способности использовать и защищать личные прав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ажении прав других граждан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людении Конституции и законов стран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укоснительном выполнении своих обязан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55640" y="333360"/>
            <a:ext cx="7704000" cy="194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истории философской и этической мыс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ова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чка зрения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гласно котор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альные качества присущи человеку с моме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ж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&amp;Kcy;&amp;acy;&amp;rcy;&amp;tcy;&amp;icy;&amp;ncy;&amp;kcy;&amp;icy; &amp;pcy;&amp;ocy; &amp;zcy;&amp;acy;&amp;pcy;&amp;rcy;&amp;ocy;&amp;scy;&amp;ucy; &amp;Rcy;&amp;Icy;&amp;Scy;&amp;Ucy;&amp;Ncy;&amp;Ocy;&amp;Kcy; &amp;mcy;&amp;lcy;&amp;acy;&amp;dcy;&amp;iecy;&amp;ncy;&amp;iecy;&amp;tscy;"/>
          <p:cNvPicPr/>
          <p:nvPr/>
        </p:nvPicPr>
        <p:blipFill>
          <a:blip r:embed="rId1"/>
          <a:stretch/>
        </p:blipFill>
        <p:spPr>
          <a:xfrm>
            <a:off x="3132000" y="2421000"/>
            <a:ext cx="2667240" cy="3743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6920" y="2637000"/>
            <a:ext cx="2305080" cy="3816360"/>
          </a:xfrm>
          <a:custGeom>
            <a:avLst/>
            <a:gdLst>
              <a:gd name="textAreaLeft" fmla="*/ 112320 w 2305080"/>
              <a:gd name="textAreaRight" fmla="*/ 2192760 w 2305080"/>
              <a:gd name="textAreaTop" fmla="*/ 112320 h 3816360"/>
              <a:gd name="textAreaBottom" fmla="*/ 3704040 h 3816360"/>
            </a:gdLst>
            <a:ahLst/>
            <a:rect l="textAreaLeft" t="textAreaTop" r="textAreaRight" b="textAreaBottom"/>
            <a:pathLst>
              <a:path w="21600" h="35759">
                <a:moveTo>
                  <a:pt x="3600" y="0"/>
                </a:moveTo>
                <a:arcTo wR="3600" hR="3600" stAng="16200000" swAng="-5400000"/>
                <a:lnTo>
                  <a:pt x="0" y="32159"/>
                </a:lnTo>
                <a:arcTo wR="3600" hR="3600" stAng="10800000" swAng="-5400000"/>
                <a:lnTo>
                  <a:pt x="18000" y="357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нцуз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вет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агали, ч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ловек п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ей приро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Б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2637000"/>
            <a:ext cx="2305080" cy="3816360"/>
          </a:xfrm>
          <a:custGeom>
            <a:avLst/>
            <a:gdLst>
              <a:gd name="textAreaLeft" fmla="*/ 112320 w 2305080"/>
              <a:gd name="textAreaRight" fmla="*/ 2192760 w 2305080"/>
              <a:gd name="textAreaTop" fmla="*/ 112320 h 3816360"/>
              <a:gd name="textAreaBottom" fmla="*/ 3704040 h 3816360"/>
            </a:gdLst>
            <a:ahLst/>
            <a:rect l="textAreaLeft" t="textAreaTop" r="textAreaRight" b="textAreaBottom"/>
            <a:pathLst>
              <a:path w="21600" h="35759">
                <a:moveTo>
                  <a:pt x="3600" y="0"/>
                </a:moveTo>
                <a:arcTo wR="3600" hR="3600" stAng="16200000" swAng="-5400000"/>
                <a:lnTo>
                  <a:pt x="0" y="32159"/>
                </a:lnTo>
                <a:arcTo wR="3600" hR="3600" stAng="10800000" swAng="-5400000"/>
                <a:lnTo>
                  <a:pt x="18000" y="357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котор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точ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лософ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читали, ч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ловек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оборот, п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ей приро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ол и явля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сител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502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оральные начал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не заложены в человеке от рождения, а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формируют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 семье на том примере, который находится у него перед глазами; в процессе общения с другими людьми, в период обучения и воспитания в школе, при восприятии таких памятников мировой культуры, которые позволяют как приобщиться к уже достигнутому уровню нравственного сознания, так и сформировать у себя на основе самовоспитания собственные моральные цен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9912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66"/>
                </a:solidFill>
                <a:latin typeface="Arial"/>
              </a:rPr>
              <a:t>Самовоспитание в сфере нравственности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— это прежде всего 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самоконтроль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, предъявление 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высоких требований к самому себе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по всем видам своей деятельности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Утверждению нравственности в сознании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, деятельности каждого человека способствует 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многократная реализац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положительных моральных норм каждой личностью, или, говоря иначе, </a:t>
            </a:r>
            <a:r>
              <a:rPr b="0" i="1" lang="en-US" sz="2500" spc="-1" strike="noStrike">
                <a:solidFill>
                  <a:srgbClr val="ffff66"/>
                </a:solidFill>
                <a:latin typeface="Arial"/>
              </a:rPr>
              <a:t>опыт добрых дел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сли такая 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многократность отсутствует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, то, как показывают исследования, «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портитс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» и «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ржавеет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» 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механиз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морального развит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, подрывается столь необходимая для деятельности способность личности к самостоятельным нравственным решениям, ее способность полагаться на себя и отвечать за себ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 Black"/>
              </a:rPr>
              <a:t>МИРОВОЗЗРЕНИЕ И ЕГО РОЛЬ В ЖИЗНИ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 самом простом, наиболее распространенном понимании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мировоззрени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— это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совокупность взглядов человека на мир, который его окружает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 Есть и другие близкие мировоззрению слова: </a:t>
            </a:r>
            <a:r>
              <a:rPr b="0" lang="en-US" sz="2200" spc="-1" strike="noStrike">
                <a:solidFill>
                  <a:srgbClr val="ffffb7"/>
                </a:solidFill>
                <a:latin typeface="Arial"/>
              </a:rPr>
              <a:t>миропонимание, миросозерцани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 Все они предполагают, с одной стороны, мир, который окружает человека, а с другой — то, что связано с деятельностью человека: его ощущение, созерцание, понимание, его воззрение, взгляд на ми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Мировоззрение отличается от других элементов духовного мира человека тем, что оно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о-первых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представляет собой взгляд человека не на какую-то отдельную сторону мира, а именно на мир в цел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о-вторых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мировоззрение отражает отношение человека к окружающему его миру: боится, страшится ли человек этого мира, или он живет в ладу, в гармонии с ним? Удовлетворен ли человек окру­жающим миром или стремится изменить его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3772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Мировоззре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это целостное представление о природе, обществе, человеке, находящее выражение в системе ценностей и идеалов личности, социальной группы, общ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 чего зависит то или иное мировоззрение? Прежде всего, отметим, что мировоззрение человека носит исторический характер: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каждой исторической эпохе присущи свой уровень знаний, свои проблемы, свои подходы к их решению, свои духовные ценно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&amp;Kcy;&amp;acy;&amp;rcy;&amp;tcy;&amp;icy;&amp;ncy;&amp;kcy;&amp;icy; &amp;pcy;&amp;ocy; &amp;zcy;&amp;acy;&amp;pcy;&amp;rcy;&amp;ocy;&amp;scy;&amp;ucy; &amp;kcy;&amp;acy;&amp;rcy;&amp;tcy;&amp;icy;&amp;ncy;&amp;kcy;&amp;icy; &amp;CHcy;&amp;IEcy;&amp;Lcy;&amp;Ocy;&amp;Vcy;&amp;IEcy;&amp;CHcy;&amp;Icy;&amp;Kcy;&amp;Icy; 3d PNG"/>
          <p:cNvPicPr/>
          <p:nvPr/>
        </p:nvPicPr>
        <p:blipFill>
          <a:blip r:embed="rId1"/>
          <a:stretch/>
        </p:blipFill>
        <p:spPr>
          <a:xfrm>
            <a:off x="2340000" y="3429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404640"/>
            <a:ext cx="806436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истории философии прослеживается несколь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выработке мировоззренческих установ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03280" y="2060640"/>
          <a:ext cx="6096240" cy="44607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ИОРИТЕТ БОГ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ЦЕНТ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ИОРИТЕТ ПРИРО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ОЦЕНТ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ИОРИТЕТ </a:t>
                      </a: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Ч</a:t>
                      </a:r>
                      <a:r>
                        <a:rPr b="1" lang="ru-RU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ЕЛОВЕК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ТРОПОЦЕНТ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ИОРИТЕТ ОБЩЕСТВ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ОЦЕНТ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ИОРИТЕТ ЗНАНИЯМ И НАУ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НИЕЦЕНТ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УКОЦЕНТ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95280" y="765000"/>
            <a:ext cx="8424000" cy="4212000"/>
            <a:chOff x="395280" y="765000"/>
            <a:chExt cx="8424000" cy="4212000"/>
          </a:xfrm>
        </p:grpSpPr>
        <p:cxnSp>
          <p:nvCxnSpPr>
            <p:cNvPr id="164" name="_s58380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659920" y="1396080"/>
              <a:ext cx="843120" cy="2949120"/>
            </a:xfrm>
            <a:prstGeom prst="bentConnector3">
              <a:avLst>
                <a:gd name="adj1" fmla="val 208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8379"/>
            <p:cNvCxnSpPr>
              <a:stCxn id="168" idx="0"/>
              <a:endCxn id="166" idx="2"/>
            </p:cNvCxnSpPr>
            <p:nvPr/>
          </p:nvCxnSpPr>
          <p:spPr>
            <a:xfrm flipV="1">
              <a:off x="4606920" y="2449440"/>
              <a:ext cx="3240" cy="84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8378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2711520" y="1396440"/>
              <a:ext cx="843120" cy="2949120"/>
            </a:xfrm>
            <a:prstGeom prst="bentConnector3">
              <a:avLst>
                <a:gd name="adj1" fmla="val 208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6" name="_s58374"/>
            <p:cNvSpPr/>
            <p:nvPr/>
          </p:nvSpPr>
          <p:spPr>
            <a:xfrm>
              <a:off x="3343680" y="765000"/>
              <a:ext cx="2527200" cy="1684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ИДЫ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МИРОВОЗЗР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8375"/>
            <p:cNvSpPr/>
            <p:nvPr/>
          </p:nvSpPr>
          <p:spPr>
            <a:xfrm>
              <a:off x="395280" y="3292200"/>
              <a:ext cx="2527200" cy="1684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ОБЫДЕННО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ЖИТЕЙСКОЕ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8376"/>
            <p:cNvSpPr/>
            <p:nvPr/>
          </p:nvSpPr>
          <p:spPr>
            <a:xfrm>
              <a:off x="3343680" y="3292200"/>
              <a:ext cx="2527200" cy="1684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ЕЛИГИОЗНО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8377"/>
            <p:cNvSpPr/>
            <p:nvPr/>
          </p:nvSpPr>
          <p:spPr>
            <a:xfrm>
              <a:off x="6292080" y="3292200"/>
              <a:ext cx="2527200" cy="1684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АУЧНО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66"/>
                </a:solidFill>
                <a:latin typeface="Arial"/>
              </a:rPr>
              <a:t>Обыденное мировоззрение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возникает в жизни человека в процессе его личной практической деятельности, поэтому его иногда называют </a:t>
            </a:r>
            <a:r>
              <a:rPr b="0" i="1" lang="en-US" sz="2300" spc="-1" strike="noStrike">
                <a:solidFill>
                  <a:srgbClr val="ffff66"/>
                </a:solidFill>
                <a:latin typeface="Arial"/>
              </a:rPr>
              <a:t>житейским мировоззрением.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Взгляды человека в этом случае не обосновываются религиозными доводами или данными науки. Такое мировоззрение 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формируется стихийно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особенно если человек не интересовался мировоззренческими вопросами в учебном заведении, не изучал самостоятельно философию, не знакомился с содержанием религиозных учений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Конечно, 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нельзя полностью исключить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влияние религии или 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достижений науки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ибо человек постоянно общается с другими людьми; ощутимо и влияние средств массовой информации, 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но преобладает житейская, обыденная основа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БЫДЕННОЕ МИРОВОЗЗ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Духовный мир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3428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же тако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уховный ми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человека? Начнем со слова «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ми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». Оно многозначно. В данном случае оно обозначает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внутреннюю, духовную жизнь челове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которая включает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нания, веру, чувства, стремления люд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учном обиходе понятие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духовная жизнь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люде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хватывает все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гатство чувств и достижений разума, объединяет усвоение человечеством накопленных духовных ценностей и творческое созидание новы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71640" y="404640"/>
            <a:ext cx="756108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ЫДЕННОЕ МИРОВОЗЗ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1844640"/>
            <a:ext cx="3672000" cy="23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1844640"/>
            <a:ext cx="3745080" cy="23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4581360"/>
            <a:ext cx="3527280" cy="201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ИРАЕТСЯ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ОСРЕДСТВ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ЕННЫЙ ОПЫ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ЛО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4581360"/>
            <a:ext cx="3527640" cy="201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ло использует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ругих людей, опыт нау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культуры, опы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лигиозного созн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 элемента мир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ЛИГИОЗНОЕ МИРОВОЗЗР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05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Религиозное мировоззр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— мировоззрение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осново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которого являются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религиозные уче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содержащиеся в таких памятниках мировой духовной культуры, как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Библ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Кора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вященные книги буддист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Талму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и ряде других. Напомним, в религии содержится определенная картина мира, учение о предназначении человека, заповеди, направленные на воспитание у него определенного образа жизни, на спасение души. Религиозное мировоззрение также имеет сильные и слабые стороны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&amp;Kcy;&amp;acy;&amp;rcy;&amp;tcy;&amp;icy;&amp;ncy;&amp;kcy;&amp;icy; &amp;pcy;&amp;ocy; &amp;zcy;&amp;acy;&amp;pcy;&amp;rcy;&amp;ocy;&amp;scy;&amp;ucy; &amp;rcy;&amp;iecy;&amp;lcy;&amp;icy;&amp;gcy;&amp;icy;&amp;ocy;&amp;zcy;&amp;ncy;&amp;ocy;&amp;iecy; &amp;mcy;&amp;icy;&amp;rcy;&amp;ocy;&amp;vcy;&amp;ocy;&amp;zcy;&amp;zcy;&amp;rcy;&amp;iecy;&amp;ncy;&amp;icy;&amp;iecy;"/>
          <p:cNvPicPr/>
          <p:nvPr/>
        </p:nvPicPr>
        <p:blipFill>
          <a:blip r:embed="rId1"/>
          <a:stretch/>
        </p:blipFill>
        <p:spPr>
          <a:xfrm>
            <a:off x="7451640" y="5438880"/>
            <a:ext cx="12970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00000" y="260280"/>
            <a:ext cx="7561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ЛИГИОЗНОЕ МИРОВОЗЗ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1484280"/>
            <a:ext cx="3672000" cy="23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6720" y="1413000"/>
            <a:ext cx="3745080" cy="23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АБ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3860640"/>
            <a:ext cx="3743280" cy="2737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сная связь с миров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льтурным наследие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иентацию на реш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блем, связанных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ховными потребностя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, стремление д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у веру в возмож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ижения поставленных ц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3860640"/>
            <a:ext cx="3527640" cy="2737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бые стороны религиоз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овоззрения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являющаяся иног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имиримость к друг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зненным позиция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достаточное вним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достижениям нау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подчас и их игнорир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УЧНОЕ МИРОВОЗЗР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80074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Научное мировоззрени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является законным наследником того направления мировой философской мысли, которое в своем развитии постоянно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опиралось на достижения наук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 Оно включает в себя научную картину мира, обобщенные итоги достижений человеческого познания, прин­ципы взаимоотношения человека с естественной и искусственной средой обит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&amp;Kcy;&amp;acy;&amp;rcy;&amp;tcy;&amp;icy;&amp;ncy;&amp;kcy;&amp;icy; &amp;pcy;&amp;ocy; &amp;zcy;&amp;acy;&amp;pcy;&amp;rcy;&amp;ocy;&amp;scy;&amp;ucy; &amp;ncy;&amp;acy;&amp;ucy;&amp;chcy;&amp;ncy;&amp;ocy;&amp;iecy; &amp;mcy;&amp;icy;&amp;rcy;&amp;ocy;&amp;vcy;&amp;ocy;&amp;zcy;&amp;zcy;&amp;rcy;&amp;iecy;&amp;ncy;&amp;icy;&amp;iecy;"/>
          <p:cNvPicPr/>
          <p:nvPr/>
        </p:nvPicPr>
        <p:blipFill>
          <a:blip r:embed="rId1"/>
          <a:stretch/>
        </p:blipFill>
        <p:spPr>
          <a:xfrm>
            <a:off x="2124000" y="4005360"/>
            <a:ext cx="5114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Но научное мировоззрение также имеет достоинства и недостатки. К его 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достоинствам относятся прочная научная обоснованность, реальность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содержащихся в нем целей и идеалов, органическая связь с производственной и социальной деятельностью людей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Однако нельзя закрывать глаза и на то, что 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человек еще не занял в научном мировоззрении подобающего ему места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Человек, человечество, человечность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— это поистине 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глобальная проблема настоящего и будущего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 Разработка данной 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триады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— задача неисчерпаемая неисчерпаемая, но ее неисчерпаемость требует не отстране­ния, а настойчивости в ее решении. Это и является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 доминантой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современного научного поиска, призванного обогащать мировоззрени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оворот науки к проблеме человека может стать решающим «облагораживающим» фактором для всех типов мировоззрения, главной общей чертой которых станет гуманистическая направленность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00000" y="260280"/>
            <a:ext cx="7561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УЧНОЕ МИРОВОЗЗ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1484280"/>
            <a:ext cx="3672000" cy="23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СТОИН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76720" y="1413000"/>
            <a:ext cx="3745080" cy="23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3860640"/>
            <a:ext cx="3743280" cy="2737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чная нау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снованность, реаль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ержащихся в нем це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идеалов, органическая связ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производственной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ьной деятель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д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3860640"/>
            <a:ext cx="3527640" cy="2737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ловек еще не занял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чном мировоззре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обающего ему ме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47640" y="476280"/>
            <a:ext cx="6264360" cy="1728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ШИЕ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ДИВ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2421000"/>
            <a:ext cx="223200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З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141720"/>
            <a:ext cx="2232000" cy="201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2492280"/>
            <a:ext cx="2232000" cy="2016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ОЛЬ МИРОВОЗЗРЕНИЯ В ЖИЗНИ ЛЮД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66"/>
                </a:solidFill>
                <a:latin typeface="Arial"/>
              </a:rPr>
              <a:t>Во-первых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именно мировоззрение дает человеку ориентиры и цели для всей его практической и теоретической деятельности.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66"/>
                </a:solidFill>
                <a:latin typeface="Arial"/>
              </a:rPr>
              <a:t>Во-вторых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именно мировоззрение через свою философскую «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сердцевину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» позволяет людям понять, как лучше достичь намеченных ориентиров и целей, вооружает их методами познания и деятельности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66"/>
                </a:solidFill>
                <a:latin typeface="Arial"/>
              </a:rPr>
              <a:t>В-третьих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на основании содержащихся в мировоззрении ценностных ориентаций человек получает возможность определять </a:t>
            </a: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истинные ценности жизни и культуры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отличать действительно важное для деятельности человека в достижении им поставленных целей от того, что реального значения не имеет, носит ложный или иллюзорный характе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РАКТИЧЕСКИЕ ВЫ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Духовная жиз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это то, что возвышает человека, наполняет его деятельность глубоким смыслом,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пособствует выбору верных ориентир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Она требует постоянного обогащения путем общения и особенно путем обращения к произведениям русских и зарубежных философов, священным книгам мировых религий, шедеврам отечественной и мировой художественной литературы, музыки, живопис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Нравственное самовоспита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значает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единство сознания и поведения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еуклонную реализацию нравственных норм в жизни и деятельности. Только в опыте добрых дел и противостоянии злу можно сознательно осуществлять нравственное самосовершенств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8007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ловек, у которого высоко развита духовная жизнь, обладает, как правило, важным личностным качеством: его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уховность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означает стремление к высоте идеалов и помыслов, определяющих направленность всей деятельно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поэтому некоторые исследователи характеризуют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уховность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как нравственно сориентированные волю и разум челове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Духовное характеризует не только сознание, но и прак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ротив, человек, у которого духовная жизнь мало развита,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бездуховен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е способен увидеть и почувствовать все многообразие и красоту окружающе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&amp;Kcy;&amp;acy;&amp;rcy;&amp;tcy;&amp;icy;&amp;ncy;&amp;kcy;&amp;icy; &amp;pcy;&amp;ocy; &amp;zcy;&amp;acy;&amp;pcy;&amp;rcy;&amp;ocy;&amp;scy;&amp;ucy; &amp;chcy;&amp;iecy;&amp;lcy;&amp;ocy;&amp;vcy;&amp;iecy;&amp;kcy; &amp;dcy;&amp;ucy;&amp;khcy;&amp;ocy;&amp;vcy;&amp;ncy;&amp;ocy;&amp;iecy; &amp;scy;&amp;ucy;&amp;shchcy;&amp;iecy;&amp;scy;&amp;tcy;&amp;vcy;&amp;ocy; &amp;chcy;&amp;iecy;&amp;lcy;&amp;ocy;&amp;vcy;&amp;iecy;&amp;chcy;&amp;icy;&amp;kcy;&amp;icy;"/>
          <p:cNvPicPr/>
          <p:nvPr/>
        </p:nvPicPr>
        <p:blipFill>
          <a:blip r:embed="rId1"/>
          <a:stretch/>
        </p:blipFill>
        <p:spPr>
          <a:xfrm>
            <a:off x="7093080" y="4941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е время позволяет человеку совершить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ировоззренческое самоопредел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Но следует помнить, что обыденное мировоззрение оставляет человека на уровне житейских забот и не дает ему достаточных оснований для ориентации в сложном и быстро меняющемся современном мире.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аждый сам выбирает то, что, по его мнению, помогает ему жи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ЩЕСТВОЗНАНИЕ. Учебник для учащихся 10 класса общеобразовательных учреждений. Базовый уровень. Под редакцией Л.Н. Боголюбова. «Просвещение», ОАО «Московские учебники». Москва, 200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404640"/>
            <a:ext cx="3744720" cy="2376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высший уров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саморегуляции зрел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ич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549360"/>
            <a:ext cx="3168720" cy="57600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ДУХОВ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476280"/>
            <a:ext cx="2016000" cy="24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ТИВ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ЗНЕ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МЫС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476280"/>
            <a:ext cx="2592360" cy="2448000"/>
          </a:xfrm>
          <a:prstGeom prst="ellipse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ВЫСШ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ЧЕЛОВЕ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997360"/>
            <a:ext cx="3240000" cy="158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ВО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797360"/>
            <a:ext cx="3598920" cy="180036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И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ДОБ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РАС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67280" y="4797360"/>
            <a:ext cx="3598920" cy="1800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ННОСТ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РИЕН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3772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ждый человек индивидуален и неповторим. Людей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объединя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ногое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одина, язык, положение в обществе, возрас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Но зачастую то,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что объединя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одновремен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разъединя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люди различаются и по языку, на котором говорят, и по возрасту, и по своему социальному положе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уховный мир также весьма разнообразен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у разных люд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разные духовные интерес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жизненные позиции, ценностные ориентации, уровень знаний. Изучение памятников духовной культуры человечества, так же как и исследования духовного мира наших современников, показывает, что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важнейшими элементами человеческой духовности являются ценности, мораль, мировоззр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Black"/>
              </a:rPr>
              <a:t>ДУХОВНЫЕ ОРИЕНТИРЫ ЛИЧНОСТИ: МОРАЛЬ, ЦЕННОСТИ, ИДЕАЛ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3428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Являясь существом обществен­ным, 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человек не может не подчиняться определенным правила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 Это — необходимое условие выживания человеческого рода, целостности общества, устойчивости его развития. В то же время установленные правила, или нормы, призваны защитить интересы и достоинство каждого отдельного человека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Важнейшими являются нормы морали. </a:t>
            </a:r>
            <a:r>
              <a:rPr b="0" lang="en-US" sz="2500" spc="-1" strike="noStrike">
                <a:solidFill>
                  <a:srgbClr val="ffff66"/>
                </a:solidFill>
                <a:latin typeface="Arial"/>
              </a:rPr>
              <a:t>Мораль — это система норм, правил, регулирующих общение и поведение людей, обеспечивающих единство общественных и личных интересов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Кто же устанавливает моральные нормы?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0074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вященных книгах многих религ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исано общеизвестное правил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торое в Библии звучит следующ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зом: «...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Во всем, как хотите, чтоб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 вами поступали люди, так поступай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и вы с ни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им образом, еще в глубокой древности был заложен фундамент главного общечеловеческого нормативного морального требования, которое потом назвал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«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золотым правилом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»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нравственно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Оно гласит: «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оступай по отношению к другим так, как ты бы хотел, чтобы другие по­ступали по отношению к теб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гласно другой точке зрения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нормы и правила морали формируются естественн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— историческим путем — и извлекаются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из массовой житейской прак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&amp;Kcy;&amp;acy;&amp;rcy;&amp;tcy;&amp;icy;&amp;ncy;&amp;kcy;&amp;icy; &amp;pcy;&amp;ocy; &amp;zcy;&amp;acy;&amp;pcy;&amp;rcy;&amp;ocy;&amp;scy;&amp;ucy; &amp;Bcy;&amp;Icy;&amp;Bcy;&amp;Lcy;&amp;Icy;&amp;YAcy; PNG"/>
          <p:cNvPicPr/>
          <p:nvPr/>
        </p:nvPicPr>
        <p:blipFill>
          <a:blip r:embed="rId1"/>
          <a:stretch/>
        </p:blipFill>
        <p:spPr>
          <a:xfrm>
            <a:off x="6588000" y="26028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&amp;Kcy;&amp;acy;&amp;rcy;&amp;tcy;&amp;icy;&amp;ncy;&amp;kcy;&amp;icy; &amp;pcy;&amp;ocy; &amp;zcy;&amp;acy;&amp;pcy;&amp;rcy;&amp;ocy;&amp;scy;&amp;ucy; &amp;Bcy;&amp;Icy;&amp;Bcy;&amp;Lcy;&amp;Icy;&amp;YAcy; PNG"/>
          <p:cNvPicPr/>
          <p:nvPr/>
        </p:nvPicPr>
        <p:blipFill>
          <a:blip r:embed="rId1"/>
          <a:stretch/>
        </p:blipFill>
        <p:spPr>
          <a:xfrm>
            <a:off x="5651640" y="333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333360"/>
            <a:ext cx="4967280" cy="2590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...Во всем, как хотите, чтоб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вами поступали люд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к поступайте  и вы с ним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&amp;Kcy;&amp;acy;&amp;rcy;&amp;tcy;&amp;icy;&amp;ncy;&amp;kcy;&amp;icy; &amp;pcy;&amp;ocy; &amp;zcy;&amp;acy;&amp;pcy;&amp;rcy;&amp;ocy;&amp;scy;&amp;ucy; &amp;chcy;&amp;iecy;&amp;lcy;&amp;ocy;&amp;vcy;&amp;iecy;&amp;chcy;&amp;kcy;&amp;icy; 3d &amp;scy;&amp;iecy;&amp;mcy;&amp;softcy;&amp;yacy;"/>
          <p:cNvPicPr/>
          <p:nvPr/>
        </p:nvPicPr>
        <p:blipFill>
          <a:blip r:embed="rId2"/>
          <a:stretch/>
        </p:blipFill>
        <p:spPr>
          <a:xfrm>
            <a:off x="5940360" y="3645000"/>
            <a:ext cx="2129040" cy="2663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3645000"/>
            <a:ext cx="4967280" cy="2590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ЗОЛОТОЕ ПРАВИ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НРАВСТВ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ступай по отношению к другим та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ты бы хотел, чтобы другие по­ступ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отношению к теб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4T15:33:23Z</dcterms:created>
  <dc:creator>Батаев Александр</dc:creator>
  <dc:description/>
  <dc:language>en-US</dc:language>
  <cp:lastModifiedBy>Батаев Александр</cp:lastModifiedBy>
  <dcterms:modified xsi:type="dcterms:W3CDTF">2016-09-24T19:42:10Z</dcterms:modified>
  <cp:revision>41</cp:revision>
  <dc:subject/>
  <dc:title>ЧЕЛОВЕК КАК ДУХОВНОЕ СУЩЕСТВО</dc:title>
</cp:coreProperties>
</file>