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5BC3-2892-44F2-99C0-1C3A130563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9ED9-20AD-4F6F-82A7-7D7D76EB73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3BD1-38DB-4280-9636-D0B91E5AF7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280F-7EA6-4940-9020-FA7F4A598E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C004-40E7-42D1-BA6A-FAC2808C45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526-015A-4B58-B5D1-0D455AED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468D-8688-4E5E-9804-81105397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B002-996D-44B4-84DE-6D1B5225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172-6B12-4961-8127-685DBC9D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3B4D-F40A-48E3-9DCB-86426BEA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5ADF-CA9F-49B1-98B4-E21160F6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4F82-2F74-4782-8A02-E3E85B88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39E7-4E2B-4EC3-B788-02380244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EB6B-7554-4CC5-9455-3914C72F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2EB0-6845-4492-AC62-2C25191B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6F48-E99B-48F9-9597-F3B7B869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E5A-7762-46B2-BE2F-A315D968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3743-2D05-4C88-8381-EC581DEF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9715-FA29-4375-ACA8-4BCA0DC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D06B-4D1E-46C1-8AB9-5032DF51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8422-3D36-4BF1-8B5A-4CFD60C2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17A4-4D42-4F1A-B448-8F6FA9D8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CC3B-7B9A-474F-B7EE-A36E4CAD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B0C1-A510-4129-8D50-6554F128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C491-D84D-496C-878E-680A3820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5436-C8D7-484B-A487-95B37563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02E2-5525-4F65-8176-FE6543EB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F8D-9B39-4466-8E9D-7B245B65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1C48-2795-4186-B172-F97F5E70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A28B-D9C9-485B-AB9C-248B56B9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0C9F-9C68-4468-82ED-8A79C033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FADD8-6DB9-46BB-8FAF-8AA18B40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C44D-E064-4AB8-A6C7-FCC5ABF9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5620-424E-4091-8005-B0FF260D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3593A-3F71-4253-AF2F-042E6D6B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C32D6-F8D6-47DE-836D-ACB3E1FC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3BA70-15B6-4736-A851-67DF1D3C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531E4-010B-413B-B3D3-4F253BFF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C6E-A3B7-4D18-9458-5B79E31A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9423-7B76-4043-B13C-96E17174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E9FE-7F2D-42CF-A581-DC441220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8F8F4-E0FB-4300-BF6B-C1CCB8DB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567DD-E431-49CF-97C2-5541F9D8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2BF4D-A99D-464C-8C0C-161FED78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D1C8E-5C4E-42B9-99B4-32C75B48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91B5-D810-4C2D-A70D-EA425BA2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ECA8A-6417-42D9-9CCE-0C575FF2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99B12-CF13-411A-AAAF-CB5DB6A6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3A4C-22CE-405F-ABC5-9879E807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A1B-B2C9-4C72-9C69-D22558E3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605B-7725-4C8A-A3A1-7425F732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D53-25E2-439B-9F1A-D023F2D0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30F-58DB-4DF9-9299-B4445258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9ABF-C4C9-48FF-83BC-8FFBFDBEBD2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43C0-BE58-4007-A560-81ECBE33AFA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E82A-52B9-4272-8537-67A8C8F1EC9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76ED-D585-4409-9D43-4FEA16CA283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334800" y="262080"/>
            <a:ext cx="8699760" cy="1950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050560" y="5013360"/>
            <a:ext cx="6769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типрахова   Елена  Юрьевна,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ДОУ «Центр      развития       ребёнка  –  детский сад  № 11»  </a:t>
            </a:r>
            <a:endParaRPr b="0" lang="en-US" sz="1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611280" y="2205000"/>
            <a:ext cx="820872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Цель: </a:t>
            </a: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стимулирование коммуникативной  деятельности детей с помощью  интеллект –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умение выражать эмоционально-положительное отношение к собеседнику с помощью  интеллект - ка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навыки ситуативно-делового 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связную диалогическую и монологическую 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3203640" y="6308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г</a:t>
            </a:r>
            <a:r>
              <a:rPr b="0" lang="ru-RU" sz="1600" spc="-1" strike="noStrike">
                <a:solidFill>
                  <a:srgbClr val="04617b"/>
                </a:solidFill>
                <a:latin typeface="Constantia"/>
              </a:rPr>
              <a:t>. Кунгур, 2023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Актуальность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Процесс социализации начинается у человека в детстве и продолжается всю жизнь. Достаточно хорошо известно, что своевременное развитие необходимых компонентов социального поведения у детей тормозится недостаточным уровнем развития речи, что способствует появлению у него эмоционально-личностных и поведенческих трудностей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Ребенок стремится к активной деятельности, и важно не дать этому стремлению угаснуть, важно способствовать его дальнейшему развитию. Чем полнее и разнообразнее детская деятельность, чем более она значима для ребенка и отвечает его природе, тем успешнее идет его развитие. Вот почему наиболее близки и естественны для дошкольника игры и активное общение с окружающими – со взрослыми и сверстниками,</a:t>
            </a:r>
            <a:r>
              <a:rPr b="1" lang="ru-RU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так как путь овладения социальными нормами поведения прежде всего связан с жизнью ребенка в коллективе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В поиске новых  идей я натолкнулась на новую эффективную форму  игровой деятельности  это  интеллектуальная карта. 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нтеллект-карта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Mind-maps (термин может переводиться как «интеллект карты», «карты ума», «карты мыслей», «карты мышления», «карты памяти»  или «карты разума») – информация, изображаемая в графическом виде на листе бумаг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 процессе общения дети обмениваются информацией, организуют совместную деятельность, распределяют обязанности и действия. Выделяются дети-лидеры, которым подражают другие ребята. Однако нередко в группах бывают не принятые  дети. Задача взрослых  с помощью игры  безынициативным  детям помочь  вступить в различные отношения с другими детьми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308800" cy="646200"/>
          </a:xfrm>
          <a:prstGeom prst="rect">
            <a:avLst/>
          </a:prstGeom>
          <a:ln w="0">
            <a:noFill/>
          </a:ln>
        </p:spPr>
      </p:pic>
      <p:grpSp>
        <p:nvGrpSpPr>
          <p:cNvPr id="209" name="Прямоугольник 2"/>
          <p:cNvGrpSpPr/>
          <p:nvPr/>
        </p:nvGrpSpPr>
        <p:grpSpPr>
          <a:xfrm>
            <a:off x="92160" y="658800"/>
            <a:ext cx="3376440" cy="2925720"/>
            <a:chOff x="92160" y="658800"/>
            <a:chExt cx="3376440" cy="2925720"/>
          </a:xfrm>
        </p:grpSpPr>
        <p:pic>
          <p:nvPicPr>
            <p:cNvPr id="210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92160" y="658800"/>
              <a:ext cx="3376440" cy="29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79280" y="692280"/>
              <a:ext cx="3219480" cy="27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1. Дети  работают по схеме интеллект  - карты, составленной  педагого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Рассматривается интеллект – карта.  Разбираются  непонятные  слова  для  детей.  Задаются вопросы  по  тексту,  дети  с  помощью  интеллект - карты  отвечают  на  вопросы  полными предложениями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оугольник 3"/>
          <p:cNvGrpSpPr/>
          <p:nvPr/>
        </p:nvGrpSpPr>
        <p:grpSpPr>
          <a:xfrm>
            <a:off x="3114720" y="1816200"/>
            <a:ext cx="2975040" cy="2243160"/>
            <a:chOff x="3114720" y="1816200"/>
            <a:chExt cx="2975040" cy="2243160"/>
          </a:xfrm>
        </p:grpSpPr>
        <p:pic>
          <p:nvPicPr>
            <p:cNvPr id="213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3114720" y="1816200"/>
              <a:ext cx="2975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203640" y="1844640"/>
              <a:ext cx="280836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2. Дети с помощью педагога составляют интеллект - карты по теме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Рассматривается интеллект – карта. Разбираются  непонятные  слова  для  детей.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оугольник 4"/>
          <p:cNvGrpSpPr/>
          <p:nvPr/>
        </p:nvGrpSpPr>
        <p:grpSpPr>
          <a:xfrm>
            <a:off x="5273640" y="3382920"/>
            <a:ext cx="2730600" cy="1665360"/>
            <a:chOff x="5273640" y="3382920"/>
            <a:chExt cx="2730600" cy="1665360"/>
          </a:xfrm>
        </p:grpSpPr>
        <p:pic>
          <p:nvPicPr>
            <p:cNvPr id="216" name="Прямоугольник 4" descr=""/>
            <p:cNvPicPr/>
            <p:nvPr/>
          </p:nvPicPr>
          <p:blipFill>
            <a:blip r:embed="rId4"/>
            <a:stretch/>
          </p:blipFill>
          <p:spPr>
            <a:xfrm>
              <a:off x="5273640" y="3382920"/>
              <a:ext cx="273060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364000" y="3416400"/>
              <a:ext cx="2521080" cy="15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3. Дети  самостоятельно  составляют  интеллект - карты  на заданную тему, а затем составляют рассказ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Прямоугольник 5"/>
          <p:cNvGrpSpPr/>
          <p:nvPr/>
        </p:nvGrpSpPr>
        <p:grpSpPr>
          <a:xfrm>
            <a:off x="6692760" y="4552920"/>
            <a:ext cx="2384640" cy="2073240"/>
            <a:chOff x="6692760" y="4552920"/>
            <a:chExt cx="2384640" cy="2073240"/>
          </a:xfrm>
        </p:grpSpPr>
        <p:pic>
          <p:nvPicPr>
            <p:cNvPr id="219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6692760" y="4552920"/>
              <a:ext cx="238464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804000" y="4586400"/>
              <a:ext cx="2160720" cy="19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4. </a:t>
              </a: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Дети самостоятельно, составляют рассказ и одновременн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onstantia"/>
                </a:rPr>
                <a:t>моделируют  его  по  частя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1" name="Picture 2" descr="E:\DCIM\Camera\IMG_20170928_074439.jpg"/>
          <p:cNvPicPr/>
          <p:nvPr/>
        </p:nvPicPr>
        <p:blipFill>
          <a:blip r:embed="rId6"/>
          <a:stretch/>
        </p:blipFill>
        <p:spPr>
          <a:xfrm>
            <a:off x="3067200" y="4164120"/>
            <a:ext cx="1865160" cy="24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E:\DCIM\Camera\IMG_20170928_101646.jpg"/>
          <p:cNvPicPr/>
          <p:nvPr/>
        </p:nvPicPr>
        <p:blipFill>
          <a:blip r:embed="rId7"/>
          <a:stretch/>
        </p:blipFill>
        <p:spPr>
          <a:xfrm>
            <a:off x="6059520" y="749160"/>
            <a:ext cx="2944800" cy="2213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E:\DCIM\Camera\IMG_20170928_103631.jpg"/>
          <p:cNvPicPr/>
          <p:nvPr/>
        </p:nvPicPr>
        <p:blipFill>
          <a:blip r:embed="rId8"/>
          <a:stretch/>
        </p:blipFill>
        <p:spPr>
          <a:xfrm>
            <a:off x="249120" y="3749760"/>
            <a:ext cx="2232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179280" y="189000"/>
            <a:ext cx="842508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Положительные момент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5395"/>
                </a:solidFill>
                <a:latin typeface="Constantia"/>
              </a:rPr>
              <a:t>в работе с интеллект – кар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0" y="5010120"/>
            <a:ext cx="2243160" cy="156204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" descr="IMG_20151207_144723.jpg"/>
          <p:cNvPicPr/>
          <p:nvPr/>
        </p:nvPicPr>
        <p:blipFill>
          <a:blip r:embed="rId2"/>
          <a:stretch/>
        </p:blipFill>
        <p:spPr>
          <a:xfrm>
            <a:off x="2266920" y="5010120"/>
            <a:ext cx="2244600" cy="1562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G:\листы достижения\лист дост. апрель - июнь 2016г\IMG_20160427_180554.jpg"/>
          <p:cNvPicPr/>
          <p:nvPr/>
        </p:nvPicPr>
        <p:blipFill>
          <a:blip r:embed="rId3"/>
          <a:stretch/>
        </p:blipFill>
        <p:spPr>
          <a:xfrm>
            <a:off x="4572000" y="5010120"/>
            <a:ext cx="2414520" cy="1573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G:\листы достижения\лист дост январь - март 2016г\безопасность.jpg"/>
          <p:cNvPicPr/>
          <p:nvPr/>
        </p:nvPicPr>
        <p:blipFill>
          <a:blip r:embed="rId4"/>
          <a:stretch/>
        </p:blipFill>
        <p:spPr>
          <a:xfrm>
            <a:off x="6900840" y="5010120"/>
            <a:ext cx="2243160" cy="15429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3" descr=""/>
          <p:cNvPicPr/>
          <p:nvPr/>
        </p:nvPicPr>
        <p:blipFill>
          <a:blip r:embed="rId5"/>
          <a:stretch/>
        </p:blipFill>
        <p:spPr>
          <a:xfrm>
            <a:off x="109440" y="1060560"/>
            <a:ext cx="4376880" cy="398772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4" descr=""/>
          <p:cNvPicPr/>
          <p:nvPr/>
        </p:nvPicPr>
        <p:blipFill>
          <a:blip r:embed="rId6"/>
          <a:stretch/>
        </p:blipFill>
        <p:spPr>
          <a:xfrm>
            <a:off x="4505400" y="963720"/>
            <a:ext cx="4589280" cy="18460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8" descr=""/>
          <p:cNvPicPr/>
          <p:nvPr/>
        </p:nvPicPr>
        <p:blipFill>
          <a:blip r:embed="rId7"/>
          <a:stretch/>
        </p:blipFill>
        <p:spPr>
          <a:xfrm>
            <a:off x="4468680" y="2871720"/>
            <a:ext cx="463248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5:28:14Z</dcterms:created>
  <dc:creator>User</dc:creator>
  <dc:description/>
  <dc:language>en-US</dc:language>
  <cp:lastModifiedBy>Admin</cp:lastModifiedBy>
  <dcterms:modified xsi:type="dcterms:W3CDTF">2023-02-09T10:51:56Z</dcterms:modified>
  <cp:revision>29</cp:revision>
  <dc:subject/>
  <dc:title>Интеллект – карта как средство организации деятельности по социально – личностному развитию детей дошкольного возраста</dc:title>
</cp:coreProperties>
</file>