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1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04D8-0E97-4126-910D-5A8F3889C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71BF-DFEE-4E77-A378-F4F7E32D3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7D53-5B7B-453F-892E-EF5CB10A7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EB0A-0677-440E-BA40-F182827C5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FDF4-CD7F-482E-ADF9-A90B59526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7309-FE8B-49C8-AE78-D8E85DDAC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03A7-F112-4841-8B9F-782111CF0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91D6-D5BA-4FD7-9A6F-FC6B23C12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9649-324B-49BD-9CE1-B238E0555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6252-F1B4-43CA-A71C-918D021E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977B-BAFF-42A5-8E0C-1D0B3CAF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20EC-04A3-43CC-81E0-8D00F02D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582B6-68B2-42B7-A552-E9C1A735672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8;-34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defendingrussia.ru/people/tankovyj_as_lavrinenko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02920" y="475920"/>
            <a:ext cx="6691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Подвиги танкистов на Т-34 в годы 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Великой отечественной вой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71680" y="3428640"/>
            <a:ext cx="367668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аботу выполнили  воспитанники МБДОУ-д/с №3 ст. Старовеличковск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оспитатель Карпусенко Ирина Ивано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2340000" y="59500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5" descr="0kSME4-R8H8"/>
          <p:cNvPicPr/>
          <p:nvPr/>
        </p:nvPicPr>
        <p:blipFill>
          <a:blip r:embed="rId1"/>
          <a:stretch/>
        </p:blipFill>
        <p:spPr>
          <a:xfrm>
            <a:off x="571680" y="2286000"/>
            <a:ext cx="4394160" cy="392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25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Жизнь – подвиг. Наша исследовательская работа помогла этим словам обрести реальный смысл..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зучая эту тему, мы можем сказать точно, что наше предположение подтвердилось - Танк Т-34 лучший танк второй мировой войны, так как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2" descr="Похожее изображение"/>
          <p:cNvPicPr/>
          <p:nvPr/>
        </p:nvPicPr>
        <p:blipFill>
          <a:blip r:embed="rId1"/>
          <a:stretch/>
        </p:blipFill>
        <p:spPr>
          <a:xfrm>
            <a:off x="2643120" y="3357720"/>
            <a:ext cx="4248360" cy="2738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49968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1. В  конструкции танка было всё: простота, удобство в эксплуатации и техническом обслуживании, бронезащита, маневренность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2. Танк Т-34 самый массовый танк второй мировой войны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3. Экипажи танков  Т-34 героически проявили себя в боях во время ВОВ. Эти машины первыми ворвались в Берлин, сделав последний выстрел по врагу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4. За четыре года боев танки Т-34 завоевали себе славу лучших танков Второй мировой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42960" y="2071800"/>
            <a:ext cx="82296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3" descr="Картинки по запросу танк т34"/>
          <p:cNvPicPr/>
          <p:nvPr/>
        </p:nvPicPr>
        <p:blipFill>
          <a:blip r:embed="rId1"/>
          <a:stretch/>
        </p:blipFill>
        <p:spPr>
          <a:xfrm>
            <a:off x="500040" y="3857760"/>
            <a:ext cx="3889440" cy="2449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Похожее изображение"/>
          <p:cNvPicPr/>
          <p:nvPr/>
        </p:nvPicPr>
        <p:blipFill>
          <a:blip r:embed="rId2"/>
          <a:stretch/>
        </p:blipFill>
        <p:spPr>
          <a:xfrm>
            <a:off x="5286240" y="3786120"/>
            <a:ext cx="309744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Великий подвиг танкистов в Великой Отечественной войне 1941-1945 гг.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 ознаменование боевых заслуг советских танкистов в Великой Отечественной войне Указом Президиума Верховного Совета СССР установлен праздник - День танкиста, который ежегодно отмечается во второе воскресенье сентябр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2" descr="C:\Users\Acer\Desktop\материалы по ВОВ к 70-летию\0_88d24_391e841b_XL.png"/>
          <p:cNvPicPr/>
          <p:nvPr/>
        </p:nvPicPr>
        <p:blipFill>
          <a:blip r:embed="rId1"/>
          <a:stretch/>
        </p:blipFill>
        <p:spPr>
          <a:xfrm>
            <a:off x="2357280" y="4071960"/>
            <a:ext cx="3857760" cy="25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015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8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12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6" descr="Похожее изображение"/>
          <p:cNvPicPr/>
          <p:nvPr/>
        </p:nvPicPr>
        <p:blipFill>
          <a:blip r:embed="rId1"/>
          <a:stretch/>
        </p:blipFill>
        <p:spPr>
          <a:xfrm>
            <a:off x="2286000" y="3357720"/>
            <a:ext cx="4444920" cy="2938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539640" y="691920"/>
            <a:ext cx="7818480" cy="26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 древних времен человечество постоянно изобретало и совершенствовало оружие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 помощью которого можно было защитить себя и уничтожить врага. Нашу страну по праву  можно назвать родиной мирового танкостроен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6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8000" y="765000"/>
            <a:ext cx="447516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тором первого российского проекта танка стал Василий Дмитриевич Менделеев (1886 – 1922), сын Дмитрия Ивановича Менделеев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изводство Т-34 было развёрнуто на мощных машиностроительных заводах Урала и Сибири и продолжалось в послевоенные год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6" descr="IGkZOJjBtus"/>
          <p:cNvPicPr/>
          <p:nvPr/>
        </p:nvPicPr>
        <p:blipFill>
          <a:blip r:embed="rId1"/>
          <a:stretch/>
        </p:blipFill>
        <p:spPr>
          <a:xfrm>
            <a:off x="5219640" y="907920"/>
            <a:ext cx="3311640" cy="2764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4" name="Picture 12" descr="Взлет-и-падение-«танкового-бога»1"/>
          <p:cNvPicPr/>
          <p:nvPr/>
        </p:nvPicPr>
        <p:blipFill>
          <a:blip r:embed="rId2"/>
          <a:stretch/>
        </p:blipFill>
        <p:spPr>
          <a:xfrm>
            <a:off x="5148360" y="3860640"/>
            <a:ext cx="3529080" cy="2521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https://s3.amazonaws.com/photos.geni.com/p13/d8/46/e0/93/5344483bd0ea03f8/siw57tir_medium.jpg"/>
          <p:cNvPicPr/>
          <p:nvPr/>
        </p:nvPicPr>
        <p:blipFill>
          <a:blip r:embed="rId3"/>
          <a:stretch/>
        </p:blipFill>
        <p:spPr>
          <a:xfrm>
            <a:off x="1619280" y="3789360"/>
            <a:ext cx="1800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57708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ихаил Ильич Кошкин — советский конструктор, создавший знаменитый танк </a:t>
            </a: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  <a:hlinkClick r:id="rId1"/>
              </a:rPr>
              <a:t>Т-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Содержимое 3" descr="Koshkin,_1898-1940"/>
          <p:cNvPicPr/>
          <p:nvPr/>
        </p:nvPicPr>
        <p:blipFill>
          <a:blip r:embed="rId2"/>
          <a:stretch/>
        </p:blipFill>
        <p:spPr>
          <a:xfrm>
            <a:off x="5651640" y="3933720"/>
            <a:ext cx="2995560" cy="242424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4" descr="Int-13"/>
          <p:cNvPicPr/>
          <p:nvPr/>
        </p:nvPicPr>
        <p:blipFill>
          <a:blip r:embed="rId3"/>
          <a:stretch/>
        </p:blipFill>
        <p:spPr>
          <a:xfrm>
            <a:off x="6156360" y="692280"/>
            <a:ext cx="1866960" cy="28573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7" descr="образы.jpg"/>
          <p:cNvPicPr/>
          <p:nvPr/>
        </p:nvPicPr>
        <p:blipFill>
          <a:blip r:embed="rId4"/>
          <a:stretch/>
        </p:blipFill>
        <p:spPr>
          <a:xfrm>
            <a:off x="971640" y="2421000"/>
            <a:ext cx="41050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20000"/>
                </a:solidFill>
                <a:latin typeface="Times New Roman"/>
              </a:rPr>
              <a:t>Тридцатьчетвер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11280" y="3786120"/>
            <a:ext cx="7704000" cy="25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т множества бронированных машин в период Великой Отечественной войны средний танк отличало то, что, пройдя всю ее от самого первого дня и до Победы, он не устарел морально. Одним из его наиболее важных качеств были почти фантастические ремонтопригодность и восстанавливаемость после боевых повреждени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н сыграл решающую роль в сражениях под Москвой, Сталинградом, на Курской дуге, под Берлином и других боевых операция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2" descr="Рисунок, танк, т-34 обои, фото, картинки"/>
          <p:cNvPicPr/>
          <p:nvPr/>
        </p:nvPicPr>
        <p:blipFill>
          <a:blip r:embed="rId1"/>
          <a:stretch/>
        </p:blipFill>
        <p:spPr>
          <a:xfrm>
            <a:off x="5357880" y="1428840"/>
            <a:ext cx="3529080" cy="2232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"/>
          <p:cNvPicPr/>
          <p:nvPr/>
        </p:nvPicPr>
        <p:blipFill>
          <a:blip r:embed="rId2"/>
          <a:stretch/>
        </p:blipFill>
        <p:spPr>
          <a:xfrm>
            <a:off x="357120" y="1285920"/>
            <a:ext cx="3235320" cy="262728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5"/>
          <p:cNvSpPr/>
          <p:nvPr/>
        </p:nvSpPr>
        <p:spPr>
          <a:xfrm>
            <a:off x="1000080" y="981000"/>
            <a:ext cx="721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Танк был принят на вооруж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19 декабря 1939 г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8920" y="285480"/>
            <a:ext cx="743904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Технические характеристики Т-34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42960" y="750960"/>
          <a:ext cx="4572000" cy="5846760"/>
        </p:xfrm>
        <a:graphic>
          <a:graphicData uri="http://schemas.openxmlformats.org/drawingml/2006/table">
            <a:tbl>
              <a:tblPr/>
              <a:tblGrid>
                <a:gridCol w="2284560"/>
                <a:gridCol w="2287440"/>
              </a:tblGrid>
              <a:tr h="335880">
                <a:tc>
                  <a:txBody>
                    <a:bodyPr lIns="7920" rIns="7920" tIns="7920" bIns="792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ип та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792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000">
                <a:tc>
                  <a:txBody>
                    <a:bodyPr lIns="7920" rIns="7920" tIns="7920" bIns="792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д выпус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40-1944 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000">
                <a:tc>
                  <a:txBody>
                    <a:bodyPr lIns="7920" rIns="7920" tIns="7920" bIns="792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 произведе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929ш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7920" rIns="7920" tIns="7920" bIns="792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кипаж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792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7920" rIns="7920" tIns="7920" bIns="792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оевая масса, 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792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7920" rIns="7920" tIns="7920" bIns="792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ина,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792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7920" rIns="7920" tIns="7920" bIns="792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ирина,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792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7920" rIns="7920" tIns="7920" bIns="792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та,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792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7920" rIns="7920" tIns="7920" bIns="792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пушек/калибр, 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792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7920" rIns="7920" tIns="7920" bIns="792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пулеметов/калибр, 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792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/7,62 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7920" rIns="7920" tIns="7920" bIns="792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роня лобовая, 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792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7920" rIns="7920" tIns="7920" bIns="792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роня бортовая, 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792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7920" rIns="7920" tIns="7920" bIns="792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вига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792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-2-34, дизельный, мощностью 450 л. с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7920" rIns="7920" tIns="7920" bIns="792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имальная скор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792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 км/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7920" rIns="7920" tIns="7920" bIns="792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пас хода, к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792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7" name="Picture 7" descr=""/>
          <p:cNvPicPr/>
          <p:nvPr/>
        </p:nvPicPr>
        <p:blipFill>
          <a:blip r:embed="rId1"/>
          <a:stretch/>
        </p:blipFill>
        <p:spPr>
          <a:xfrm>
            <a:off x="6000840" y="1285920"/>
            <a:ext cx="2658960" cy="1863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4" descr=""/>
          <p:cNvPicPr/>
          <p:nvPr/>
        </p:nvPicPr>
        <p:blipFill>
          <a:blip r:embed="rId2"/>
          <a:stretch/>
        </p:blipFill>
        <p:spPr>
          <a:xfrm>
            <a:off x="5764320" y="3857760"/>
            <a:ext cx="29620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7640" y="47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Танковый ас Дмитрий Лавриненк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арший лейтенант </a:t>
            </a:r>
            <a:r>
              <a:rPr b="0" lang="ru-RU" sz="1800" spc="-1" strike="noStrike" u="sng">
                <a:solidFill>
                  <a:srgbClr val="800000"/>
                </a:solidFill>
                <a:uFillTx/>
                <a:latin typeface="Times New Roman"/>
                <a:hlinkClick r:id="rId1"/>
              </a:rPr>
              <a:t>Дмитрий Лавриненко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 считается самым результативным советским танковым асом, на его счету 52 боевые машины противника. В ноябре 1941г.  молодой офицер провел уникальный бой с танковой группой противника, прорвавшей советский тыл. Лавриненко выставил свой Т-34 навстречу вражеской колонне вблизи шоссе, идущего на Шишкино. Танк находился в засаде прямо посреди поля. Выкрашенный белилами, он был не виден врагу на заснеженной местности. В этом бою Лавриненко уничтожил шесть из 18 танк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2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4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10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12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4" descr="Картинки по запросу дмитрий лавриненко танк т 34"/>
          <p:cNvPicPr/>
          <p:nvPr/>
        </p:nvPicPr>
        <p:blipFill>
          <a:blip r:embed="rId2"/>
          <a:stretch/>
        </p:blipFill>
        <p:spPr>
          <a:xfrm>
            <a:off x="642960" y="3506760"/>
            <a:ext cx="3286080" cy="2565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6" name="Picture 16" descr="Картинки по запросу дмитрий лавриненко танк т 34"/>
          <p:cNvPicPr/>
          <p:nvPr/>
        </p:nvPicPr>
        <p:blipFill>
          <a:blip r:embed="rId3"/>
          <a:stretch/>
        </p:blipFill>
        <p:spPr>
          <a:xfrm>
            <a:off x="4857840" y="3395520"/>
            <a:ext cx="3429000" cy="2843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Подвиг танкиста А.А. Жедяевског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95280" y="126828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Рисунок 3" descr="http://tatfrontu.ru/sites/default/files/styles/medium/public/img/2016/06/20/zhedyaevskiyaa-1364150164.jpg?itok=HcyWtpm0"/>
          <p:cNvPicPr/>
          <p:nvPr/>
        </p:nvPicPr>
        <p:blipFill>
          <a:blip r:embed="rId1"/>
          <a:stretch/>
        </p:blipFill>
        <p:spPr>
          <a:xfrm>
            <a:off x="2143080" y="1143000"/>
            <a:ext cx="4519800" cy="500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8588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елиск воинам – освободителям станицы Старовеличковской на месте гибели танкового экипажа под командованием старшего лейтенанта А.А. Жедяевского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95280" y="126828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Рисунок 5" descr=""/>
          <p:cNvPicPr/>
          <p:nvPr/>
        </p:nvPicPr>
        <p:blipFill>
          <a:blip r:embed="rId1"/>
          <a:srcRect l="16407" t="0" r="5870" b="18163"/>
          <a:stretch/>
        </p:blipFill>
        <p:spPr>
          <a:xfrm>
            <a:off x="1928880" y="2143080"/>
            <a:ext cx="514332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4T01:24:37Z</dcterms:created>
  <dc:creator>Елена</dc:creator>
  <dc:description/>
  <dc:language>en-US</dc:language>
  <cp:lastModifiedBy>Windows User</cp:lastModifiedBy>
  <dcterms:modified xsi:type="dcterms:W3CDTF">2018-04-04T16:18:09Z</dcterms:modified>
  <cp:revision>127</cp:revision>
  <dc:subject/>
  <dc:title>Слайд 1</dc:title>
</cp:coreProperties>
</file>