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F532-2957-461F-8AB3-C1633C8615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AFDB-0224-4979-9538-75512E42FE6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A447-1517-4542-88DA-BF7EA556FA9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C6E4-54A6-4F8B-996B-FC003E963F1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779E-5C10-4A0F-BA5E-EFBCDDD3DEA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CE08-8A71-4688-924B-D1F034F4132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3FED-D65A-4ACB-8707-F55B0A46BC7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D368-D8D7-4CB8-8E84-FC98315347F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E272-006D-44A8-86BE-181CF4A30A0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89F2-7429-41D8-802C-E1C716380E9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2A41-C6B5-43F1-921A-4708A321552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25BB-B297-4DE2-9AA7-24D4CD07BAD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9AEE-D205-4EB4-BA12-C03D100076A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6670-D065-4378-9DC3-63EE05A8154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8671-B41B-4338-8AC8-7316E22D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E2A7-B44E-4267-B837-23DEDFAF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0F8-30FF-4EA9-BECE-2A25B6C8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6D7D-052D-4CE7-9D3B-203090E2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B4D4-71DD-44FB-8952-5B0951A9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B726-DD12-4ADC-A03B-99FC3418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32BF-2DB3-4B21-A233-C6F95CAE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AD06-1A4F-47E4-B42E-9C294B48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DD58-1199-4C34-893D-28325D37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669E-883D-4245-B5C6-645AEB76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DF47-94E1-4B1D-824B-2A69EB07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D6FC-9A1A-43E0-BBFA-A774C190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4D9D-956C-4CCA-A31C-7E0A7F0F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401C-97E1-437C-9A79-24634E22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05E3-F54A-4495-A78A-931707E5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8A28-1162-482F-8885-46421C00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86A7-9DC2-4A8C-9D45-79EAFD7C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FAC4-F0B6-4AD5-8489-28357BB8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7CE1-775C-480C-B286-E3B29889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2377-3C5E-4A54-ACC0-957B4734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7D3C-A211-43CC-B7E7-F66297BB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5987-A462-41B8-8FD3-80ADAB0C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1D6A-5DF4-45D6-ADF0-CEDE185D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5E5C-7BAF-45F4-89B3-4BDD2CF3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05D5-ECE9-4298-BD5F-749ED79F911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4192-6C87-4420-94D5-9BB5C6F9B01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gs01.mp3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ВЕСЕННя капель.wma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3"/>
          <p:cNvSpPr/>
          <p:nvPr/>
        </p:nvSpPr>
        <p:spPr>
          <a:xfrm>
            <a:off x="826920" y="0"/>
            <a:ext cx="77058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Библиотечно-библиографическое    занятие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«От  живой  книге  до   виртуального читального зала»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0786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604735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3"/>
          <p:cNvSpPr/>
          <p:nvPr/>
        </p:nvSpPr>
        <p:spPr>
          <a:xfrm>
            <a:off x="155520" y="-1973160"/>
            <a:ext cx="28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55520" y="-1973160"/>
            <a:ext cx="28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155520" y="-1973160"/>
            <a:ext cx="28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1"/>
          <p:cNvSpPr/>
          <p:nvPr/>
        </p:nvSpPr>
        <p:spPr>
          <a:xfrm>
            <a:off x="4118040" y="5364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" descr="http://5literatura.net/datas/literatura/Istorija-pojavlenija-knigi/0007-007-Berestjanaja-kniga.jpg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3"/>
          <p:cNvSpPr/>
          <p:nvPr/>
        </p:nvSpPr>
        <p:spPr>
          <a:xfrm>
            <a:off x="155520" y="-1973160"/>
            <a:ext cx="28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155520" y="-1973160"/>
            <a:ext cx="28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155520" y="-1973160"/>
            <a:ext cx="28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1"/>
          <p:cNvSpPr/>
          <p:nvPr/>
        </p:nvSpPr>
        <p:spPr>
          <a:xfrm>
            <a:off x="4118040" y="5364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2" descr="untitled"/>
          <p:cNvPicPr/>
          <p:nvPr/>
        </p:nvPicPr>
        <p:blipFill>
          <a:blip r:embed="rId2"/>
          <a:stretch/>
        </p:blipFill>
        <p:spPr>
          <a:xfrm>
            <a:off x="423720" y="1125360"/>
            <a:ext cx="4681800" cy="4680000"/>
          </a:xfrm>
          <a:prstGeom prst="rect">
            <a:avLst/>
          </a:prstGeom>
          <a:ln w="0">
            <a:noFill/>
          </a:ln>
        </p:spPr>
      </p:pic>
      <p:sp>
        <p:nvSpPr>
          <p:cNvPr id="150" name="Oval 10"/>
          <p:cNvSpPr/>
          <p:nvPr/>
        </p:nvSpPr>
        <p:spPr>
          <a:xfrm>
            <a:off x="5364000" y="1628640"/>
            <a:ext cx="3780000" cy="3600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иртуальный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читальны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зал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3"/>
          <p:cNvSpPr/>
          <p:nvPr/>
        </p:nvSpPr>
        <p:spPr>
          <a:xfrm>
            <a:off x="155520" y="-1973160"/>
            <a:ext cx="28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155520" y="-1973160"/>
            <a:ext cx="28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155520" y="-1973160"/>
            <a:ext cx="28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оугольник 1"/>
          <p:cNvSpPr/>
          <p:nvPr/>
        </p:nvSpPr>
        <p:spPr>
          <a:xfrm>
            <a:off x="4118040" y="5364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6404040" cy="3600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3"/>
          <a:stretch/>
        </p:blipFill>
        <p:spPr>
          <a:xfrm>
            <a:off x="3013200" y="3411360"/>
            <a:ext cx="6130800" cy="34466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3"/>
          <p:cNvSpPr/>
          <p:nvPr/>
        </p:nvSpPr>
        <p:spPr>
          <a:xfrm>
            <a:off x="155520" y="-1973160"/>
            <a:ext cx="28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155520" y="-1973160"/>
            <a:ext cx="28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155520" y="-1973160"/>
            <a:ext cx="28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1"/>
          <p:cNvSpPr/>
          <p:nvPr/>
        </p:nvSpPr>
        <p:spPr>
          <a:xfrm>
            <a:off x="4118040" y="5364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971640" y="1557360"/>
            <a:ext cx="6045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33ea9"/>
                </a:solidFill>
                <a:latin typeface="Arial"/>
              </a:rPr>
              <a:t>       </a:t>
            </a:r>
            <a:r>
              <a:rPr b="0" lang="ru-RU" sz="5400" spc="-1" strike="noStrike">
                <a:solidFill>
                  <a:srgbClr val="533ea9"/>
                </a:solidFill>
                <a:latin typeface="Arial"/>
              </a:rPr>
              <a:t>Я желаю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33ea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533ea9"/>
                </a:solidFill>
                <a:latin typeface="Arial"/>
              </a:rPr>
              <a:t>вам всем успеха!        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3" descr="1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gs01.mp3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604735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b1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img-2007-06.photosight.ru/13/2143682.jpg"/>
          <p:cNvPicPr/>
          <p:nvPr/>
        </p:nvPicPr>
        <p:blipFill>
          <a:blip r:embed="rId1"/>
          <a:stretch/>
        </p:blipFill>
        <p:spPr>
          <a:xfrm>
            <a:off x="182520" y="444600"/>
            <a:ext cx="4768920" cy="61434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4"/>
          <p:cNvSpPr/>
          <p:nvPr/>
        </p:nvSpPr>
        <p:spPr>
          <a:xfrm>
            <a:off x="1658160" y="127008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2137320" y="1738440"/>
            <a:ext cx="69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язык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2193120" y="84132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3290400" y="171468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нами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оугольник 8"/>
          <p:cNvSpPr/>
          <p:nvPr/>
        </p:nvSpPr>
        <p:spPr>
          <a:xfrm>
            <a:off x="1620360" y="207180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9"/>
          <p:cNvSpPr/>
          <p:nvPr/>
        </p:nvSpPr>
        <p:spPr>
          <a:xfrm>
            <a:off x="3288600" y="250020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10"/>
          <p:cNvSpPr/>
          <p:nvPr/>
        </p:nvSpPr>
        <p:spPr>
          <a:xfrm>
            <a:off x="2074320" y="178596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11"/>
          <p:cNvSpPr/>
          <p:nvPr/>
        </p:nvSpPr>
        <p:spPr>
          <a:xfrm>
            <a:off x="1880640" y="1461960"/>
            <a:ext cx="10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 с корешком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13"/>
          <p:cNvSpPr/>
          <p:nvPr/>
        </p:nvSpPr>
        <p:spPr>
          <a:xfrm>
            <a:off x="3360600" y="1000080"/>
            <a:ext cx="85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то  это?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5"/>
          <p:cNvSpPr/>
          <p:nvPr/>
        </p:nvSpPr>
        <p:spPr>
          <a:xfrm>
            <a:off x="192600" y="770040"/>
            <a:ext cx="9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 шля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6"/>
          <p:cNvSpPr/>
          <p:nvPr/>
        </p:nvSpPr>
        <p:spPr>
          <a:xfrm>
            <a:off x="2142720" y="92556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 с полями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7"/>
          <p:cNvSpPr/>
          <p:nvPr/>
        </p:nvSpPr>
        <p:spPr>
          <a:xfrm>
            <a:off x="1136880" y="1893960"/>
            <a:ext cx="102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 цвет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9"/>
          <p:cNvSpPr/>
          <p:nvPr/>
        </p:nvSpPr>
        <p:spPr>
          <a:xfrm>
            <a:off x="774720" y="175104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рпеливым язык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говарива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"/>
          <p:cNvSpPr/>
          <p:nvPr/>
        </p:nvSpPr>
        <p:spPr>
          <a:xfrm>
            <a:off x="2310480" y="249696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1353240" y="103680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н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5148360" y="1612800"/>
            <a:ext cx="399564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Хоть не шляпа, а с полями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Не цветок, а с корешком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Разговаривает с нам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Терпеливым языком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-Что  это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1593000" y="1700280"/>
            <a:ext cx="5159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ffff"/>
                </a:solidFill>
                <a:latin typeface="Arial"/>
              </a:rPr>
              <a:t>Книга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3"/>
          <p:cNvSpPr/>
          <p:nvPr/>
        </p:nvSpPr>
        <p:spPr>
          <a:xfrm>
            <a:off x="155520" y="-1973160"/>
            <a:ext cx="28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155520" y="-1973160"/>
            <a:ext cx="28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155520" y="-1973160"/>
            <a:ext cx="28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18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2997360" cy="4032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"/>
          <p:cNvPicPr/>
          <p:nvPr/>
        </p:nvPicPr>
        <p:blipFill>
          <a:blip r:embed="rId3"/>
          <a:stretch/>
        </p:blipFill>
        <p:spPr>
          <a:xfrm>
            <a:off x="3895560" y="2708280"/>
            <a:ext cx="4822920" cy="33876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3"/>
          <p:cNvSpPr/>
          <p:nvPr/>
        </p:nvSpPr>
        <p:spPr>
          <a:xfrm>
            <a:off x="155520" y="-1973160"/>
            <a:ext cx="28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155520" y="-1973160"/>
            <a:ext cx="28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155520" y="-1973160"/>
            <a:ext cx="28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http://images.myshared.ru/5/466363/slide_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3"/>
          <p:cNvSpPr/>
          <p:nvPr/>
        </p:nvSpPr>
        <p:spPr>
          <a:xfrm>
            <a:off x="155520" y="-1973160"/>
            <a:ext cx="28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155520" y="-1973160"/>
            <a:ext cx="28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155520" y="-1973160"/>
            <a:ext cx="28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660240" y="536400"/>
            <a:ext cx="3191040" cy="4354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3"/>
          <a:stretch/>
        </p:blipFill>
        <p:spPr>
          <a:xfrm>
            <a:off x="6156360" y="3457440"/>
            <a:ext cx="2533680" cy="32101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1"/>
          <p:cNvSpPr/>
          <p:nvPr/>
        </p:nvSpPr>
        <p:spPr>
          <a:xfrm>
            <a:off x="4118040" y="5364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3881520" y="880920"/>
            <a:ext cx="480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  Индии 3 тыс. лет назад писали 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альмовых листья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3"/>
          <p:cNvSpPr/>
          <p:nvPr/>
        </p:nvSpPr>
        <p:spPr>
          <a:xfrm>
            <a:off x="155520" y="-1973160"/>
            <a:ext cx="28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55520" y="-1973160"/>
            <a:ext cx="28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155520" y="-1973160"/>
            <a:ext cx="28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1"/>
          <p:cNvSpPr/>
          <p:nvPr/>
        </p:nvSpPr>
        <p:spPr>
          <a:xfrm>
            <a:off x="4118040" y="5364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2" descr="https://fs00.infourok.ru/images/doc/228/49502/2/img6.jpg"/>
          <p:cNvPicPr/>
          <p:nvPr/>
        </p:nvPicPr>
        <p:blipFill>
          <a:blip r:embed="rId2"/>
          <a:stretch/>
        </p:blipFill>
        <p:spPr>
          <a:xfrm>
            <a:off x="0" y="0"/>
            <a:ext cx="929952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3"/>
          <p:cNvSpPr/>
          <p:nvPr/>
        </p:nvSpPr>
        <p:spPr>
          <a:xfrm>
            <a:off x="155520" y="-1973160"/>
            <a:ext cx="28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55520" y="-1973160"/>
            <a:ext cx="28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155520" y="-1973160"/>
            <a:ext cx="28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1"/>
          <p:cNvSpPr/>
          <p:nvPr/>
        </p:nvSpPr>
        <p:spPr>
          <a:xfrm>
            <a:off x="4118040" y="5364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808200" y="333360"/>
            <a:ext cx="3979800" cy="4027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4873680" y="2346480"/>
            <a:ext cx="3816360" cy="271908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2"/>
          <p:cNvSpPr/>
          <p:nvPr/>
        </p:nvSpPr>
        <p:spPr>
          <a:xfrm>
            <a:off x="4496760" y="5300640"/>
            <a:ext cx="40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Рукописная книга на пергамен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6:59:50Z</dcterms:created>
  <dc:creator>user</dc:creator>
  <dc:description/>
  <dc:language>en-US</dc:language>
  <cp:lastModifiedBy>Пользователь</cp:lastModifiedBy>
  <dcterms:modified xsi:type="dcterms:W3CDTF">2018-10-17T08:52:19Z</dcterms:modified>
  <cp:revision>81</cp:revision>
  <dc:subject/>
  <dc:title>Слайд 1</dc:title>
</cp:coreProperties>
</file>