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F32-B14C-4DC0-AB47-93BA0E35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F5F-BE20-4BC1-970B-E66D8E20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DC8-E2F8-4910-8B5C-40CDEF17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579-FF79-4B90-964A-4D3F8570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0D3-A405-4C98-B170-541CD27B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D96-593C-4C08-9B5C-8B73B963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71A-806D-4BEB-BC5F-B4EEB39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798-C3F2-4CC1-A792-4BE4C222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2F6-D11B-4486-B71D-25AFC5DF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77C-FE26-41D0-AE40-7EB3A2B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71D-CFBC-4DDC-976B-6276894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214-206B-45E4-93F1-A330692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06CB-330F-413D-A6C6-02E212F12A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1600" y="0"/>
            <a:ext cx="53276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Izhitsa"/>
              </a:rPr>
              <a:t>ПО ИОАСАФОВСКИМ МЕСТАМ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Izhitsa"/>
              </a:rPr>
              <a:t> СВЯТОГО БЕЛОГОРЬ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4" descr="IB"/>
          <p:cNvPicPr/>
          <p:nvPr/>
        </p:nvPicPr>
        <p:blipFill>
          <a:blip r:embed="rId1"/>
          <a:stretch/>
        </p:blipFill>
        <p:spPr>
          <a:xfrm>
            <a:off x="108000" y="404640"/>
            <a:ext cx="36003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спенско-Николаевский собор</a:t>
            </a:r>
            <a:br>
              <a:rPr sz="1800"/>
            </a:b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иколаевский собор 1701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38472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rcRect l="15358" t="17613" r="0" b="-998"/>
          <a:stretch/>
        </p:blipFill>
        <p:spPr>
          <a:xfrm>
            <a:off x="179280" y="40464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http://www.fio.vrn.ru/2004/13/belgorod/temples/uspenskiy/images/uspenskiy.jpg"/>
          <p:cNvPicPr/>
          <p:nvPr/>
        </p:nvPicPr>
        <p:blipFill>
          <a:blip r:embed="rId3"/>
          <a:srcRect l="2887" t="4889" r="5472" b="7202"/>
          <a:stretch/>
        </p:blipFill>
        <p:spPr>
          <a:xfrm>
            <a:off x="4572000" y="155736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333520" y="331920"/>
            <a:ext cx="4680000" cy="197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rcRect l="0" t="0" r="-418" b="6657"/>
          <a:stretch/>
        </p:blipFill>
        <p:spPr>
          <a:xfrm>
            <a:off x="1692360" y="2781360"/>
            <a:ext cx="6114960" cy="3303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3348000" y="5950080"/>
            <a:ext cx="36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моленский соб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10169" t="841" r="741" b="4594"/>
          <a:stretch/>
        </p:blipFill>
        <p:spPr>
          <a:xfrm>
            <a:off x="755640" y="692280"/>
            <a:ext cx="756144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381400" y="5661000"/>
            <a:ext cx="41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еображенский кафедральный соб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7720" y="4775040"/>
            <a:ext cx="3456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ка с мощами святителя Иоасафа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16237" t="988" r="0" b="4543"/>
          <a:stretch/>
        </p:blipFill>
        <p:spPr>
          <a:xfrm>
            <a:off x="468360" y="333360"/>
            <a:ext cx="3432240" cy="4278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384360" cy="424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5076720" y="4869000"/>
            <a:ext cx="33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кона Николая Рат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http://www.fio.vrn.ru/2004/13/belgorod/iosaf.files/image002.jpg"/>
          <p:cNvPicPr/>
          <p:nvPr/>
        </p:nvPicPr>
        <p:blipFill>
          <a:blip r:embed="rId1"/>
          <a:stretch/>
        </p:blipFill>
        <p:spPr>
          <a:xfrm>
            <a:off x="2700360" y="4968720"/>
            <a:ext cx="3456000" cy="184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521080" cy="3730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rcRect l="1620" t="664" r="18951" b="32656"/>
          <a:stretch/>
        </p:blipFill>
        <p:spPr>
          <a:xfrm>
            <a:off x="324000" y="189000"/>
            <a:ext cx="2519280" cy="3744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-1044720" y="40356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нтерье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иколо-Иоасафовск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об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418000" y="4035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дсаккосни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вятителя Иоаса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348000" y="4054320"/>
          <a:ext cx="2685960" cy="793800"/>
        </p:xfrm>
        <a:graphic>
          <a:graphicData uri="http://schemas.openxmlformats.org/drawingml/2006/table">
            <a:tbl>
              <a:tblPr/>
              <a:tblGrid>
                <a:gridCol w="2685960"/>
              </a:tblGrid>
              <a:tr h="793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аркофаг с камне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 пещерки святителя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оаса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4" descr=""/>
          <p:cNvPicPr/>
          <p:nvPr/>
        </p:nvPicPr>
        <p:blipFill>
          <a:blip r:embed="rId4"/>
          <a:srcRect l="16024" t="16760" r="1497" b="15763"/>
          <a:stretch/>
        </p:blipFill>
        <p:spPr>
          <a:xfrm>
            <a:off x="3348000" y="189000"/>
            <a:ext cx="25909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24000" y="6021360"/>
            <a:ext cx="2992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109" descr="http://belgorod.drugiegoroda.ru/files/2010/10/26841783_Duhovnoprosvetitelskiy_centr_vo_imya_svyatitelya_Ioasafa.jpg"/>
          <p:cNvPicPr/>
          <p:nvPr/>
        </p:nvPicPr>
        <p:blipFill>
          <a:blip r:embed="rId1"/>
          <a:stretch/>
        </p:blipFill>
        <p:spPr>
          <a:xfrm>
            <a:off x="2268360" y="1125360"/>
            <a:ext cx="2857680" cy="4772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rcRect l="38080" t="3461" r="35449" b="67282"/>
          <a:stretch/>
        </p:blipFill>
        <p:spPr>
          <a:xfrm>
            <a:off x="179280" y="189000"/>
            <a:ext cx="175284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364000" y="333360"/>
            <a:ext cx="3600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rcRect l="65704" t="3461" r="919" b="57915"/>
          <a:stretch/>
        </p:blipFill>
        <p:spPr>
          <a:xfrm>
            <a:off x="6167520" y="400536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-277920" y="221760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имско-католический кост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.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258920" y="6021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етский духовно-просветительский центр во имя святителя Иоаса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5435640" y="3141720"/>
            <a:ext cx="34383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Личные вещи святителя Иоаса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475160" y="5084640"/>
            <a:ext cx="42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щерка-скле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5" descr="Иоасаф Белгородский. Часовня"/>
          <p:cNvPicPr/>
          <p:nvPr/>
        </p:nvPicPr>
        <p:blipFill>
          <a:blip r:embed="rId1"/>
          <a:stretch/>
        </p:blipFill>
        <p:spPr>
          <a:xfrm>
            <a:off x="4092480" y="260280"/>
            <a:ext cx="4680000" cy="4464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765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роицкая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208" t="9676" r="9617" b="5142"/>
          <a:stretch/>
        </p:blipFill>
        <p:spPr>
          <a:xfrm>
            <a:off x="2843280" y="285264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rcRect l="390" t="9329" r="0" b="0"/>
          <a:stretch/>
        </p:blipFill>
        <p:spPr>
          <a:xfrm>
            <a:off x="250920" y="260280"/>
            <a:ext cx="3582720" cy="190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4067280" y="2276640"/>
            <a:ext cx="42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ид на Харьковскую гору сегод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920" y="2349360"/>
            <a:ext cx="206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ид на Харьковск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авровскую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р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1911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3568320" y="1890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0" y="1197000"/>
            <a:ext cx="90360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ятитель Иоасаф Белгородский прожил небольшую, но яркую жизнь, пройдя путь до всенародной известности и почитания, был причислен к лику свят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-прежнему множество паломников едет в г. Белгород с мольбами и просьбами к мощам чудотворца Иоаса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тюшк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оасаф уже в молодые годы обладал редкими дарами непрестанной молитвы, прозорливости и испове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ятитель Иоасаф - небесный покровитель Святого Белогорья, светоч православной христианской в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286000" y="2644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86374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262080" y="701640"/>
            <a:ext cx="8637480" cy="575964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412920" y="-100080"/>
            <a:ext cx="86374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ь полное представление о тех достопримечательностях и памятных местах Святого Белогорья, к которым имел непосредственное отношение святитель Иоаса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1792440" y="260280"/>
            <a:ext cx="55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Источники  иллюстр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569440" cy="552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86374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262080" y="701640"/>
            <a:ext cx="8637480" cy="575964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0" y="-846000"/>
            <a:ext cx="903600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духовные подвиги святителя Иоасаф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духовное наследие святителя Иоасафа Белгородско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с культурно – историческими объектами города, связанными со святителем Иоасаф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бережное отношение к памятным достопримечательностям города Белг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25600" y="333360"/>
            <a:ext cx="8439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оаки́м Андре́евич Горле́н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05 – 175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сентября - день Рождества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святой Богородиц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ние от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https://belfavor.ru/images/il2.jpg"/>
          <p:cNvPicPr/>
          <p:nvPr/>
        </p:nvPicPr>
        <p:blipFill>
          <a:blip r:embed="rId1"/>
          <a:stretch/>
        </p:blipFill>
        <p:spPr>
          <a:xfrm>
            <a:off x="179280" y="2060640"/>
            <a:ext cx="3313080" cy="424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3924360" y="2060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Иосаф Белгородский"/>
          <p:cNvPicPr/>
          <p:nvPr/>
        </p:nvPicPr>
        <p:blipFill>
          <a:blip r:embed="rId1"/>
          <a:stretch/>
        </p:blipFill>
        <p:spPr>
          <a:xfrm>
            <a:off x="324000" y="2432160"/>
            <a:ext cx="2485800" cy="428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Святитель Иоасаф Белгородский"/>
          <p:cNvPicPr/>
          <p:nvPr/>
        </p:nvPicPr>
        <p:blipFill>
          <a:blip r:embed="rId2"/>
          <a:stretch/>
        </p:blipFill>
        <p:spPr>
          <a:xfrm>
            <a:off x="5651640" y="189000"/>
            <a:ext cx="13078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Святитель Иоасаф Белгородский"/>
          <p:cNvPicPr/>
          <p:nvPr/>
        </p:nvPicPr>
        <p:blipFill>
          <a:blip r:embed="rId3"/>
          <a:stretch/>
        </p:blipFill>
        <p:spPr>
          <a:xfrm>
            <a:off x="4148280" y="1700280"/>
            <a:ext cx="153036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Святитель Иоасаф Белгородский"/>
          <p:cNvPicPr/>
          <p:nvPr/>
        </p:nvPicPr>
        <p:blipFill>
          <a:blip r:embed="rId4"/>
          <a:stretch/>
        </p:blipFill>
        <p:spPr>
          <a:xfrm>
            <a:off x="6959520" y="1627200"/>
            <a:ext cx="118764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Святитель  Иоасаф"/>
          <p:cNvPicPr/>
          <p:nvPr/>
        </p:nvPicPr>
        <p:blipFill>
          <a:blip r:embed="rId5"/>
          <a:stretch/>
        </p:blipFill>
        <p:spPr>
          <a:xfrm>
            <a:off x="7956720" y="115920"/>
            <a:ext cx="104760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Joasaph of Belgorod (GIM).jpg"/>
          <p:cNvPicPr/>
          <p:nvPr/>
        </p:nvPicPr>
        <p:blipFill>
          <a:blip r:embed="rId6"/>
          <a:stretch/>
        </p:blipFill>
        <p:spPr>
          <a:xfrm>
            <a:off x="6516720" y="3789360"/>
            <a:ext cx="2381040" cy="296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25240" y="33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ь к Б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IB"/>
          <p:cNvPicPr/>
          <p:nvPr/>
        </p:nvPicPr>
        <p:blipFill>
          <a:blip r:embed="rId7"/>
          <a:stretch/>
        </p:blipFill>
        <p:spPr>
          <a:xfrm>
            <a:off x="3348000" y="3763800"/>
            <a:ext cx="2376360" cy="296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, на котором находил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Троицкий кафедральный соб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17125" t="-476" r="0" b="0"/>
          <a:stretch/>
        </p:blipFill>
        <p:spPr>
          <a:xfrm>
            <a:off x="122400" y="155520"/>
            <a:ext cx="2831760" cy="475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959200" cy="207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30320" y="5017320"/>
            <a:ext cx="24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вято-Троицкий   Соб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3133800" y="3645000"/>
            <a:ext cx="6010200" cy="2203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3851280" y="5950080"/>
            <a:ext cx="457200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Территория, на которой находился Свято-Троицкий мужской монастыр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0" t="0" r="16702" b="12624"/>
          <a:stretch/>
        </p:blipFill>
        <p:spPr>
          <a:xfrm>
            <a:off x="3780000" y="620640"/>
            <a:ext cx="5040000" cy="561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rcRect l="0" t="0" r="60951" b="7267"/>
          <a:stretch/>
        </p:blipFill>
        <p:spPr>
          <a:xfrm>
            <a:off x="179280" y="54936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8920" y="4149720"/>
            <a:ext cx="2592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мператор Николай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пещерке у мощей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вятителя Иоаса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 мая 1904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292720" y="1159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рхиерейский д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788000" y="63817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ои Святителя Иоаса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013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щий вид Свято-Троицкого мужского монастыря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41975" t="2148" r="718" b="45523"/>
          <a:stretch/>
        </p:blipFill>
        <p:spPr>
          <a:xfrm>
            <a:off x="826920" y="620640"/>
            <a:ext cx="7201080" cy="4219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414360" y="620640"/>
            <a:ext cx="3213000" cy="504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83048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344520" y="5950080"/>
            <a:ext cx="35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амятник Святителю Иоасаф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519160" y="4076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вято-Троицкий бульва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7:11Z</dcterms:created>
  <dc:creator>Кабиева Шолпан</dc:creator>
  <dc:description/>
  <dc:language>en-US</dc:language>
  <cp:lastModifiedBy>Ирина</cp:lastModifiedBy>
  <dcterms:modified xsi:type="dcterms:W3CDTF">2023-01-11T08:36:11Z</dcterms:modified>
  <cp:revision>83</cp:revision>
  <dc:subject/>
  <dc:title>12 АПРЕЛЯ - ДЕНЬ КОСМОНАВТИКИ </dc:title>
</cp:coreProperties>
</file>