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B3D-6AB5-42FC-8603-6921D9F1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69D-AA85-48DA-B88F-3C3C5E1D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1D4-CBDC-4396-AE8F-7F25E256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726-FF6E-48B5-9E5C-1E51ABF5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1CA-9B80-410A-867C-D735BB50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38F-4AB3-4EA4-8281-BB67531D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874-1F01-4A0D-833C-B897329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9DE-0E23-48DF-A9EF-ED43308E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8D9-F146-499A-A777-39D7B79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CBF-2B9E-4B42-B2D4-013363F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266-58B9-4AED-94D7-26213CDB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6E7-5403-4153-82C5-E3C4DF4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8BE2-459F-497E-90C4-A79748F1E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нк\Desktop\к квесту Снимается кино\i.jpg"/>
          <p:cNvPicPr/>
          <p:nvPr/>
        </p:nvPicPr>
        <p:blipFill>
          <a:blip r:embed="rId1"/>
          <a:stretch/>
        </p:blipFill>
        <p:spPr>
          <a:xfrm>
            <a:off x="907920" y="914400"/>
            <a:ext cx="744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9903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нк\Desktop\к квесту Снимается кино\Моййдодыр.jpg"/>
          <p:cNvPicPr/>
          <p:nvPr/>
        </p:nvPicPr>
        <p:blipFill>
          <a:blip r:embed="rId1"/>
          <a:stretch/>
        </p:blipFill>
        <p:spPr>
          <a:xfrm>
            <a:off x="1295280" y="914400"/>
            <a:ext cx="6891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Arial Black"/>
                <a:ea typeface="바탕"/>
              </a:rPr>
              <a:t>«Мойдодыр»</a:t>
            </a:r>
            <a:r>
              <a:rPr b="1" lang="ru-RU" sz="80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нк\Desktop\к квесту Снимается кино\Котенок по имени Гав.jpg"/>
          <p:cNvPicPr/>
          <p:nvPr/>
        </p:nvPicPr>
        <p:blipFill>
          <a:blip r:embed="rId1"/>
          <a:stretch/>
        </p:blipFill>
        <p:spPr>
          <a:xfrm>
            <a:off x="1371600" y="838080"/>
            <a:ext cx="678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«Котёно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по имен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ГАВ»</a:t>
            </a: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Users\нк\Desktop\к квесту Снимается кино\Незнайка в Солнечном городе.jpg"/>
          <p:cNvPicPr/>
          <p:nvPr/>
        </p:nvPicPr>
        <p:blipFill>
          <a:blip r:embed="rId1"/>
          <a:stretch/>
        </p:blipFill>
        <p:spPr>
          <a:xfrm>
            <a:off x="1219320" y="912960"/>
            <a:ext cx="670536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«Незнай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в Солнечн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городе»</a:t>
            </a: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нк\Desktop\к квесту Снимается кино\Вовка в Тридевятом царстве.jpg"/>
          <p:cNvPicPr/>
          <p:nvPr/>
        </p:nvPicPr>
        <p:blipFill>
          <a:blip r:embed="rId1"/>
          <a:stretch/>
        </p:blipFill>
        <p:spPr>
          <a:xfrm>
            <a:off x="1447920" y="9478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«Вовка в Тридевятом царстве»</a:t>
            </a: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нк\Desktop\к квесту Снимается кино\7.jpg"/>
          <p:cNvPicPr/>
          <p:nvPr/>
        </p:nvPicPr>
        <p:blipFill>
          <a:blip r:embed="rId1"/>
          <a:stretch/>
        </p:blipFill>
        <p:spPr>
          <a:xfrm>
            <a:off x="1828800" y="914400"/>
            <a:ext cx="5850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«Приключ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ко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 Black"/>
                <a:ea typeface="바탕"/>
              </a:rPr>
              <a:t>Леопольда»</a:t>
            </a:r>
            <a:r>
              <a:rPr b="1" lang="ru-RU" sz="60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320" y="119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3" name="Picture 4" descr="C:\Users\нк\Desktop\к квесту Снимается кино\38 попугаев.jpg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нк\Desktop\к квесту Снимается кино\tryam.avi.image5.jpg"/>
          <p:cNvPicPr/>
          <p:nvPr/>
        </p:nvPicPr>
        <p:blipFill>
          <a:blip r:embed="rId1"/>
          <a:stretch/>
        </p:blipFill>
        <p:spPr>
          <a:xfrm>
            <a:off x="1117440" y="914400"/>
            <a:ext cx="660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Arial Black"/>
                <a:ea typeface="바탕"/>
              </a:rPr>
              <a:t>«Трям! Здравствуйте!»</a:t>
            </a:r>
            <a:r>
              <a:rPr b="1" lang="ru-RU" sz="72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нк\Desktop\к квесту Снимается кино\stsenariy-dnya-rozhdeniya-devochki-2-goda.jpg"/>
          <p:cNvPicPr/>
          <p:nvPr/>
        </p:nvPicPr>
        <p:blipFill>
          <a:blip r:embed="rId1"/>
          <a:stretch/>
        </p:blipFill>
        <p:spPr>
          <a:xfrm>
            <a:off x="798480" y="838080"/>
            <a:ext cx="7769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 Black"/>
                <a:ea typeface="바탕"/>
              </a:rPr>
              <a:t>«Паровози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 Black"/>
                <a:ea typeface="바탕"/>
              </a:rPr>
              <a:t>из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 Black"/>
                <a:ea typeface="바탕"/>
              </a:rPr>
              <a:t>Ромашково»</a:t>
            </a:r>
            <a:r>
              <a:rPr b="1" lang="ru-RU" sz="66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нк\Desktop\к квесту Снимается кино\Ну погоди1.jpg"/>
          <p:cNvPicPr/>
          <p:nvPr/>
        </p:nvPicPr>
        <p:blipFill>
          <a:blip r:embed="rId1"/>
          <a:stretch/>
        </p:blipFill>
        <p:spPr>
          <a:xfrm>
            <a:off x="990720" y="914400"/>
            <a:ext cx="720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Arial Black"/>
                <a:ea typeface="바탕"/>
              </a:rPr>
              <a:t>«Ну погоди!»</a:t>
            </a:r>
            <a:r>
              <a:rPr b="1" lang="ru-RU" sz="72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УЛЬТФИЛЬМ-БО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нк\Desktop\к квесту Снимается кино\Жил был пес.jpg"/>
          <p:cNvPicPr/>
          <p:nvPr/>
        </p:nvPicPr>
        <p:blipFill>
          <a:blip r:embed="rId1"/>
          <a:stretch/>
        </p:blipFill>
        <p:spPr>
          <a:xfrm>
            <a:off x="1447920" y="1523880"/>
            <a:ext cx="601956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 Black"/>
                <a:ea typeface="바탕"/>
              </a:rPr>
              <a:t>Мультфиль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Arial Black"/>
                <a:ea typeface="바탕"/>
              </a:rPr>
              <a:t>«Жил-был Пёс»</a:t>
            </a:r>
            <a:r>
              <a:rPr b="1" lang="ru-RU" sz="9600" spc="-1" strike="noStrike">
                <a:solidFill>
                  <a:srgbClr val="0070c0"/>
                </a:solidFill>
                <a:latin typeface="Arial Black"/>
                <a:ea typeface="바탕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70c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 Antiqua"/>
              </a:rPr>
              <a:t>МОЛОДЦЫ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 Antiqua"/>
              </a:rPr>
              <a:t>ВЫ СОБРАЛИ БЛЕСТЯЩИЙ АКТЕРСКИЙ СОСТАВ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 Antiqua"/>
              </a:rPr>
              <a:t>ПРИСТУПАЙТЕ К КИНОПРОБ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entury Schoolbook"/>
              </a:rPr>
              <a:t>Мультфиль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entury Schoolbook"/>
              </a:rPr>
              <a:t>«38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entury Schoolbook"/>
              </a:rPr>
              <a:t>попугаев»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Users\нк\Desktop\к квесту Снимается кино\Винни-Пух и все все все.jpg"/>
          <p:cNvPicPr/>
          <p:nvPr/>
        </p:nvPicPr>
        <p:blipFill>
          <a:blip r:embed="rId1"/>
          <a:stretch/>
        </p:blipFill>
        <p:spPr>
          <a:xfrm>
            <a:off x="1420920" y="914400"/>
            <a:ext cx="68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0492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70c0"/>
                </a:solidFill>
                <a:latin typeface="Century Schoolbook"/>
              </a:rPr>
              <a:t>Мультфиль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entury Schoolbook"/>
              </a:rPr>
              <a:t>«Винни-Пух и все, все, все…»</a:t>
            </a:r>
            <a:r>
              <a:rPr b="1" lang="ru-RU" sz="8000" spc="-1" strike="noStrike">
                <a:solidFill>
                  <a:srgbClr val="0070c0"/>
                </a:solidFill>
                <a:latin typeface="Century Schoolboo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нк\Desktop\к квесту Снимается кино\Бременские музыканты.jpg"/>
          <p:cNvPicPr/>
          <p:nvPr/>
        </p:nvPicPr>
        <p:blipFill>
          <a:blip r:embed="rId1"/>
          <a:stretch/>
        </p:blipFill>
        <p:spPr>
          <a:xfrm>
            <a:off x="1371600" y="914400"/>
            <a:ext cx="667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2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1" lang="ru-RU" sz="8000" spc="-1" strike="noStrike">
                <a:solidFill>
                  <a:srgbClr val="0070c0"/>
                </a:solidFill>
                <a:latin typeface="바탕"/>
                <a:ea typeface="바탕"/>
              </a:rPr>
              <a:t>Мультфиль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바탕"/>
                <a:ea typeface="바탕"/>
              </a:rPr>
              <a:t>«Бременские музыканты»</a:t>
            </a:r>
            <a:r>
              <a:rPr b="1" lang="ru-RU" sz="8000" spc="-1" strike="noStrike">
                <a:solidFill>
                  <a:srgbClr val="0070c0"/>
                </a:solidFill>
                <a:latin typeface="바탕"/>
                <a:ea typeface="바탕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нк\Desktop\к квесту Снимается кино\Крокодил Гена и Чебурашка.jpg"/>
          <p:cNvPicPr/>
          <p:nvPr/>
        </p:nvPicPr>
        <p:blipFill>
          <a:blip r:embed="rId1"/>
          <a:stretch/>
        </p:blipFill>
        <p:spPr>
          <a:xfrm>
            <a:off x="1066680" y="914400"/>
            <a:ext cx="73994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066680" y="99072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바탕"/>
                <a:ea typeface="바탕"/>
              </a:rPr>
              <a:t>Мультфиль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바탕"/>
                <a:ea typeface="바탕"/>
              </a:rPr>
              <a:t>«Крокодил Гена и Чебурашка»</a:t>
            </a:r>
            <a:r>
              <a:rPr b="1" lang="ru-RU" sz="7200" spc="-1" strike="noStrike">
                <a:solidFill>
                  <a:srgbClr val="0070c0"/>
                </a:solidFill>
                <a:latin typeface="바탕"/>
                <a:ea typeface="바탕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3:31:56Z</dcterms:created>
  <dc:creator>user</dc:creator>
  <dc:description/>
  <dc:language>en-US</dc:language>
  <cp:lastModifiedBy>нк</cp:lastModifiedBy>
  <dcterms:modified xsi:type="dcterms:W3CDTF">2016-06-28T02:43:2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