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E4D-BBD4-44C3-8902-9BF3C04C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E12-B09A-4ED5-A985-A7945B66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E1D-FD41-4540-89DE-0E0999F4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6112-FEF3-488D-B1C1-54166B48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2800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816-3B6B-4267-8B50-CCF07EF8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BD5-C56E-40E7-9D02-5412CB44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5EE-EC6D-4502-A5D7-E0BF2ED8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FB6-D9A0-4151-A4DA-A233CB4E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21932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3B3-2E4D-41A8-95C8-2214C7FE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87A-55D2-4CCD-B314-1B9F8329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6FF-956C-40B2-AEC6-2ADDC286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ED8-4798-4F5C-B0CE-E445FA8A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101621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6120" indent="-27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85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672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B9056F-94C8-4832-B72C-FE7D7B31D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  <p:pic>
        <p:nvPicPr>
          <p:cNvPr id="43" name="12.mp3" descr=""/>
          <p:cNvPicPr/>
          <p:nvPr/>
        </p:nvPicPr>
        <p:blipFill>
          <a:blip r:embed="rId2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497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videoplayback (12).mp4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680240" cy="57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е пение звучи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163080"/>
            <a:ext cx="626436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есное пение - многоголосное пение (от лат. слова partes – голос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2852280"/>
            <a:ext cx="8136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6040" indent="8088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16 веку в музыке происходит постепенный отход от одноголосного унисонного пения  к  трёхголос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040" indent="8088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получило названи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очное трёхголоси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и голоса – три строки, главный голос (путь) – средняя строка, крайние (верхники и нижники) – сопровождающ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040" indent="8088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 – четырехголосное п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040" indent="7272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ресение твое , Христе Спасе»  -  исполняет хор Свято-Троицкой Сергиевой Лав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Партесное пение - Воскресение.mp3" descr=""/>
          <p:cNvPicPr/>
          <p:nvPr/>
        </p:nvPicPr>
        <p:blipFill>
          <a:blip r:embed="rId1"/>
          <a:stretch/>
        </p:blipFill>
        <p:spPr>
          <a:xfrm>
            <a:off x="8223120" y="50576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SWAN\Desktop\ikona-2017-04-16-232x300.jpg"/>
          <p:cNvPicPr/>
          <p:nvPr/>
        </p:nvPicPr>
        <p:blipFill>
          <a:blip r:embed="rId2"/>
          <a:stretch/>
        </p:blipFill>
        <p:spPr>
          <a:xfrm>
            <a:off x="1835280" y="1100160"/>
            <a:ext cx="1198440" cy="15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540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68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ый концер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785520"/>
            <a:ext cx="763272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уховный концер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ногоголосное вокальное произведение для солистов и  хо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ся 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684360" y="3193920"/>
            <a:ext cx="1393560" cy="18367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3132000" y="3068640"/>
            <a:ext cx="59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елем жанра б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 Созонтович Берез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45 – 177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незаслуженно забыт и, спустя много лет после своей смерти, вновь открыт новым поколениям слуш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5688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вержи мене во время старост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9280" y="3998520"/>
            <a:ext cx="67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 одним из самых значительных произведений в этом жан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ён Березовским в возрасте 16-и лет (!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н на слова 70-го псалма Давида из «Ветхого Завет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SWAN\Desktop\s78871475.jpg"/>
          <p:cNvPicPr/>
          <p:nvPr/>
        </p:nvPicPr>
        <p:blipFill>
          <a:blip r:embed="rId1"/>
          <a:stretch/>
        </p:blipFill>
        <p:spPr>
          <a:xfrm>
            <a:off x="1187280" y="1125360"/>
            <a:ext cx="1872000" cy="27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ушание духовного конце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videoplayback (12).mp4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489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-11520" y="3068280"/>
            <a:ext cx="5148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характер мелод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а развивает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468360" y="115920"/>
            <a:ext cx="67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уховный концерт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. Берез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5372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360" y="115560"/>
            <a:ext cx="8893080" cy="16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38680" indent="7258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о не все сочинения на церковные тексты предназначены для исполнения в Церкв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8680" indent="7258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их из-за сложности композиторского замысла доступна лишь профессиональным коллектив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8680" indent="7258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82600" y="2014560"/>
            <a:ext cx="3843360" cy="1990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411800" y="3573360"/>
            <a:ext cx="4413240" cy="25671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36360" y="4226040"/>
            <a:ext cx="40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 Московского Сретенского монасты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4797360" y="32036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 братии Валаамского монасты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ы – лихи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зыкант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сёлые таланты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печатаем мы на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есёлый этот марш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А за нами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нструмент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ши им аплодисменты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жен каждый инструмент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 оркестре лишних н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После них шагают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от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у нот полно работы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узыки основа всей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оть всего их только сем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До-ре-ми-фа-соль-ля-си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лько ноты попрос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-ля-соль-фа-ми-ре-до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пыхнет музыка легко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викторина по группа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1d1d1b"/>
                </a:solidFill>
                <a:latin typeface="Times New Roman"/>
                <a:ea typeface="Times New Roman"/>
              </a:rPr>
              <a:t>1Кто является основателем русского духовного концер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d1d1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1d1d1b"/>
                </a:solidFill>
                <a:latin typeface="Times New Roman"/>
                <a:ea typeface="Times New Roman"/>
              </a:rPr>
              <a:t>Варианты ответа: Березовский; Чайковский; Глинка; Мусорг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1d1d1b"/>
                </a:solidFill>
                <a:latin typeface="Times New Roman"/>
                <a:ea typeface="Times New Roman"/>
              </a:rPr>
              <a:t>2.В каком году  была крещена Ру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1d1d1b"/>
                </a:solidFill>
                <a:latin typeface="Times New Roman"/>
                <a:ea typeface="Times New Roman"/>
              </a:rPr>
              <a:t>988г., 1015г., 823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d1d1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1d1d1b"/>
                </a:solidFill>
                <a:latin typeface="Times New Roman"/>
                <a:ea typeface="Times New Roman"/>
              </a:rPr>
              <a:t>Какую ценность принесла византийская культур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 каком веке появляется многоголось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 18, 19 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692280"/>
            <a:ext cx="5688000" cy="35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Есть музыка, которая к нам идёт,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и  другая, которая требует чтобы мы шли к не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2637720" y="561168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орогу осилит идущи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788000" y="530280"/>
            <a:ext cx="4086000" cy="307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1042920" y="3600360"/>
            <a:ext cx="4175280" cy="2924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1160" y="219240"/>
            <a:ext cx="411948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 всему классу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акие цели мы ставили в начале урока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правились мы с ними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нового вы узнали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се понравилось, поднимите зеленый смайли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нужно повторить материал, то красный  смайли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было не интересно, ничего не поднимайте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2133720"/>
            <a:ext cx="676908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Я узнал…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Я научился…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Я хочу узнать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539640" y="623880"/>
            <a:ext cx="2808360" cy="1941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3348000" y="2895480"/>
            <a:ext cx="2028960" cy="38991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515880" y="2798640"/>
            <a:ext cx="29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м тему урок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icture 5"/>
          <p:cNvSpPr/>
          <p:nvPr/>
        </p:nvSpPr>
        <p:spPr>
          <a:xfrm>
            <a:off x="5502240" y="-28440"/>
            <a:ext cx="376884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673520" y="203040"/>
            <a:ext cx="4470480" cy="34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981000"/>
            <a:ext cx="8136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лияние христианства на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усской народной и духовной музыки 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324000" y="458136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и духовная (церковная) музыка получила распространение вместе с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ятием  христианств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ее основе лежала византийская музыкальная куль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16000" y="270000"/>
            <a:ext cx="327672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ая рабо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1042920" y="1582560"/>
            <a:ext cx="748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оманда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аковы истоки русской духовной культуры, и в чем ее особенности?(уч.ст.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команда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сполнялось в древности церковное пение. Кто его исполнял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ч.ст.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оманда Как обозначалась и называлась древняя церковная музыка ?(уч.ст.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720" y="620280"/>
            <a:ext cx="33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460440" y="3314880"/>
            <a:ext cx="72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ное пение в древности было одноголосным, унисонным, муж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03640" y="0"/>
            <a:ext cx="3790800" cy="54421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4078440" y="270828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аковский     Певчие на клиро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446040" y="450864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тельная черта русской православной музыки  - пение без сопрово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capel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61920" y="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менный распев – сплав народной русской культуры с византийской церков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славянского слова знамя – зна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1332000" y="1482840"/>
            <a:ext cx="2663640" cy="34034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324000" y="5156280"/>
            <a:ext cx="65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городице Дево, радуйся»    -  знаменный распев  в исполнении мужского хора "Оптина пустын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наменый распев.mp3" descr=""/>
          <p:cNvPicPr/>
          <p:nvPr/>
        </p:nvPicPr>
        <p:blipFill>
          <a:blip r:embed="rId2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324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записи церковной музы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08000" y="1484280"/>
            <a:ext cx="84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ь музыки велась с помощью специальных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нак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-русски «знамя», «крюк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896760" y="2781360"/>
            <a:ext cx="2883240" cy="30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4932360" y="2705040"/>
            <a:ext cx="3024360" cy="3067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2518200" y="609300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юковая нотная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6:04:26Z</dcterms:created>
  <dc:creator>Ирина</dc:creator>
  <dc:description/>
  <dc:language>en-US</dc:language>
  <cp:lastModifiedBy>0023</cp:lastModifiedBy>
  <dcterms:modified xsi:type="dcterms:W3CDTF">2022-12-16T05:40:40Z</dcterms:modified>
  <cp:revision>153</cp:revision>
  <dc:subject/>
  <dc:title>Слайд 1</dc:title>
</cp:coreProperties>
</file>