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5.jpeg" ContentType="image/jpeg"/>
  <Override PartName="/ppt/media/image13.png" ContentType="image/png"/>
  <Override PartName="/ppt/media/chimes.wav" ContentType="audio/x-wav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BA3-51F4-488F-A8F5-3C304E7F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1E3-75F5-4FE4-A5E1-B48ADE2D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23A-B0FC-4A4B-B1E7-0076F17E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438-FDC5-4F9B-9CF7-FC055001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5BC-87BC-4933-A0E6-B5EF5792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578-0422-4C1B-8459-0C65CF12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CF6-1378-4BE3-A7A4-7087FDD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1D7-6087-41CD-BB61-08160ACA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2FD-7875-4108-8664-8BAD98D1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6B3-6E29-4D42-A521-014DFC57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092-1C02-4F51-96C3-F87FC3C1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F4D-22CF-42F1-B8C8-510D080D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174A-C410-44BB-BEB4-1E11E039E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2.xm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3419640"/>
                <a:gridCol w="1081080"/>
                <a:gridCol w="1150920"/>
                <a:gridCol w="1152360"/>
                <a:gridCol w="1152720"/>
                <a:gridCol w="1187280"/>
              </a:tblGrid>
              <a:tr h="15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йна в цифра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и Великой Отечественн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а-геро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ужие побе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79280" y="115920"/>
            <a:ext cx="87854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30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57160" y="51436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firstslide"/>
          </p:cNvPr>
          <p:cNvSpPr/>
          <p:nvPr/>
        </p:nvSpPr>
        <p:spPr>
          <a:xfrm>
            <a:off x="17928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428760" y="1539000"/>
            <a:ext cx="44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Какой подвиг совершил Николай Гастелл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2928960" y="421488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ройски погиб, направив свой подбитый самолет в скопление машин и танков против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679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50920" y="0"/>
            <a:ext cx="8678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40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Кто был Верховным Главнокомандующим Вооруженными Силами СССР в годы Великой Отечественной войны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71640" y="580536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132000" y="5877000"/>
            <a:ext cx="60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.В. Ста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firstslide"/>
          </p:cNvPr>
          <p:cNvSpPr/>
          <p:nvPr/>
        </p:nvSpPr>
        <p:spPr>
          <a:xfrm>
            <a:off x="324000" y="587700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76"/>
                </a:moveTo>
                <a:lnTo>
                  <a:pt x="13376" y="6487"/>
                </a:ln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lnTo>
                  <a:pt x="17763" y="10839"/>
                </a:lnTo>
                <a:lnTo>
                  <a:pt x="16109" y="10839"/>
                </a:lnTo>
                <a:lnTo>
                  <a:pt x="16109" y="18028"/>
                </a:lnTo>
                <a:lnTo>
                  <a:pt x="5491" y="18028"/>
                </a:lnTo>
                <a:lnTo>
                  <a:pt x="5491" y="10839"/>
                </a:lnTo>
                <a:lnTo>
                  <a:pt x="3837" y="10839"/>
                </a:lnTo>
                <a:close/>
              </a:path>
              <a:path fill="darkenLess" w="21600" h="21677">
                <a:moveTo>
                  <a:pt x="13376" y="6487"/>
                </a:move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close/>
              </a:path>
              <a:path fill="darkenLess" w="21600" h="21677">
                <a:moveTo>
                  <a:pt x="9877" y="14338"/>
                </a:moveTo>
                <a:lnTo>
                  <a:pt x="11723" y="14338"/>
                </a:lnTo>
                <a:lnTo>
                  <a:pt x="11723" y="18028"/>
                </a:lnTo>
                <a:lnTo>
                  <a:pt x="16109" y="18028"/>
                </a:lnTo>
                <a:lnTo>
                  <a:pt x="16109" y="10839"/>
                </a:lnTo>
                <a:lnTo>
                  <a:pt x="5491" y="10839"/>
                </a:lnTo>
                <a:lnTo>
                  <a:pt x="5491" y="18028"/>
                </a:lnTo>
                <a:lnTo>
                  <a:pt x="9877" y="18028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24000" y="692280"/>
            <a:ext cx="83739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50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шалы Советского Союза, участвовавшие в Великой Отечественной вой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приведите в соответствие цифры и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Жуков Георгий Константи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Малиновский Родион Яковл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Рокоссовский Константин Константи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Ворошилов Климент Ефрем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5734080"/>
            <a:ext cx="22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>
            <a:hlinkClick r:id="" action="ppaction://hlinkshowjump?jump=firstslide"/>
          </p:cNvPr>
          <p:cNvSpPr/>
          <p:nvPr/>
        </p:nvSpPr>
        <p:spPr>
          <a:xfrm>
            <a:off x="395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6" descr=""/>
          <p:cNvPicPr/>
          <p:nvPr/>
        </p:nvPicPr>
        <p:blipFill>
          <a:blip r:embed="rId1"/>
          <a:stretch/>
        </p:blipFill>
        <p:spPr>
          <a:xfrm>
            <a:off x="500040" y="328608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2"/>
          <a:stretch/>
        </p:blipFill>
        <p:spPr>
          <a:xfrm>
            <a:off x="2500200" y="3286080"/>
            <a:ext cx="192888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"/>
          <p:cNvPicPr/>
          <p:nvPr/>
        </p:nvPicPr>
        <p:blipFill>
          <a:blip r:embed="rId3"/>
          <a:stretch/>
        </p:blipFill>
        <p:spPr>
          <a:xfrm>
            <a:off x="4643280" y="3286080"/>
            <a:ext cx="1857600" cy="2214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"/>
          <p:cNvPicPr/>
          <p:nvPr/>
        </p:nvPicPr>
        <p:blipFill>
          <a:blip r:embed="rId4"/>
          <a:stretch/>
        </p:blipFill>
        <p:spPr>
          <a:xfrm>
            <a:off x="6715080" y="3286080"/>
            <a:ext cx="1857600" cy="22147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0"/>
          <p:cNvSpPr/>
          <p:nvPr/>
        </p:nvSpPr>
        <p:spPr>
          <a:xfrm>
            <a:off x="3286080" y="585792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-2, Б-4, В-1, Г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68360" y="3213000"/>
            <a:ext cx="35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2411280" y="32130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4575960" y="3284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6736680" y="3284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10: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Этот советский город фашисты так и не смогли захватить </a:t>
            </a:r>
            <a:br>
              <a:rPr sz="32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403280" y="4869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492360" y="4941720"/>
            <a:ext cx="51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енин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firstslide"/>
          </p:cNvPr>
          <p:cNvSpPr/>
          <p:nvPr/>
        </p:nvSpPr>
        <p:spPr>
          <a:xfrm>
            <a:off x="25092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5000760"/>
            <a:ext cx="80010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Моск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>
            <a:hlinkClick r:id="" action="ppaction://hlinkshowjump?jump=firstslide"/>
          </p:cNvPr>
          <p:cNvSpPr/>
          <p:nvPr/>
        </p:nvSpPr>
        <p:spPr>
          <a:xfrm>
            <a:off x="468360" y="5805360"/>
            <a:ext cx="790560" cy="71928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39" h="21600">
                <a:moveTo>
                  <a:pt x="0" y="0"/>
                </a:moveTo>
                <a:lnTo>
                  <a:pt x="23739" y="0"/>
                </a:lnTo>
                <a:lnTo>
                  <a:pt x="23739" y="21600"/>
                </a:lnTo>
                <a:lnTo>
                  <a:pt x="0" y="21600"/>
                </a:lnTo>
                <a:close/>
              </a:path>
              <a:path fill="lightenLess" w="23739" h="21600">
                <a:moveTo>
                  <a:pt x="0" y="0"/>
                </a:moveTo>
                <a:lnTo>
                  <a:pt x="23739" y="0"/>
                </a:lnTo>
                <a:lnTo>
                  <a:pt x="22339" y="1400"/>
                </a:lnTo>
                <a:lnTo>
                  <a:pt x="1400" y="1400"/>
                </a:lnTo>
                <a:close/>
              </a:path>
              <a:path fill="darken" w="23739" h="21600">
                <a:moveTo>
                  <a:pt x="23739" y="0"/>
                </a:moveTo>
                <a:lnTo>
                  <a:pt x="23739" y="21600"/>
                </a:lnTo>
                <a:lnTo>
                  <a:pt x="22339" y="20200"/>
                </a:lnTo>
                <a:lnTo>
                  <a:pt x="22339" y="1400"/>
                </a:lnTo>
                <a:close/>
              </a:path>
              <a:path fill="darkenLess" w="23739" h="21600">
                <a:moveTo>
                  <a:pt x="23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9" y="20200"/>
                </a:lnTo>
                <a:close/>
              </a:path>
              <a:path fill="lighten" w="23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9" h="21600">
                <a:moveTo>
                  <a:pt x="11870" y="3837"/>
                </a:moveTo>
                <a:lnTo>
                  <a:pt x="14446" y="6448"/>
                </a:lnTo>
                <a:lnTo>
                  <a:pt x="14446" y="4707"/>
                </a:lnTo>
                <a:lnTo>
                  <a:pt x="16222" y="4707"/>
                </a:lnTo>
                <a:lnTo>
                  <a:pt x="16222" y="8224"/>
                </a:lnTo>
                <a:lnTo>
                  <a:pt x="18833" y="10800"/>
                </a:lnTo>
                <a:lnTo>
                  <a:pt x="17179" y="10800"/>
                </a:lnTo>
                <a:lnTo>
                  <a:pt x="17179" y="17989"/>
                </a:lnTo>
                <a:lnTo>
                  <a:pt x="6560" y="17989"/>
                </a:lnTo>
                <a:lnTo>
                  <a:pt x="6560" y="10800"/>
                </a:lnTo>
                <a:lnTo>
                  <a:pt x="4907" y="10800"/>
                </a:lnTo>
                <a:close/>
              </a:path>
              <a:path fill="darkenLess" w="23739" h="21600">
                <a:moveTo>
                  <a:pt x="14446" y="6448"/>
                </a:moveTo>
                <a:lnTo>
                  <a:pt x="14446" y="4707"/>
                </a:lnTo>
                <a:lnTo>
                  <a:pt x="16222" y="4707"/>
                </a:lnTo>
                <a:lnTo>
                  <a:pt x="16222" y="8224"/>
                </a:lnTo>
                <a:close/>
              </a:path>
              <a:path fill="darkenLess" w="23739" h="21600">
                <a:moveTo>
                  <a:pt x="10947" y="14299"/>
                </a:moveTo>
                <a:lnTo>
                  <a:pt x="12792" y="14299"/>
                </a:lnTo>
                <a:lnTo>
                  <a:pt x="12792" y="17989"/>
                </a:lnTo>
                <a:lnTo>
                  <a:pt x="17179" y="17989"/>
                </a:lnTo>
                <a:lnTo>
                  <a:pt x="17179" y="10800"/>
                </a:lnTo>
                <a:lnTo>
                  <a:pt x="6560" y="10800"/>
                </a:lnTo>
                <a:lnTo>
                  <a:pt x="6560" y="17989"/>
                </a:lnTo>
                <a:lnTo>
                  <a:pt x="1094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79280" y="549360"/>
            <a:ext cx="8785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20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214200" y="1285920"/>
            <a:ext cx="8286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После</a:t>
            </a:r>
            <a:r>
              <a:rPr b="1" lang="ru-RU" sz="48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освобождения Орла и Белгорода по приказу И.В. Сталина был произведен первый победный салют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В каком городе он был дан?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571320"/>
            <a:ext cx="5607000" cy="38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30: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Символом и визитной карточкой какого города является одна из самых больших и известных в мире скульптур «Родина-мать»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57120" y="550080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вет: Волгоград (Сталинград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492360" y="6095880"/>
            <a:ext cx="56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>
            <a:hlinkClick r:id="" action="ppaction://hlinkshowjump?jump=firstslide"/>
          </p:cNvPr>
          <p:cNvSpPr/>
          <p:nvPr/>
        </p:nvSpPr>
        <p:spPr>
          <a:xfrm>
            <a:off x="179280" y="6237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948280" y="357120"/>
            <a:ext cx="31957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5052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прос 40: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т город называли «вратами Москвы». От исхода битвы за него зависело очень многое. И именно здесь немецкая армия застряла на два месяц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928800" y="57862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857680" y="47862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>
            <a:hlinkClick r:id="" action="ppaction://hlinkshowjump?jump=firstslide"/>
          </p:cNvPr>
          <p:cNvSpPr/>
          <p:nvPr/>
        </p:nvSpPr>
        <p:spPr>
          <a:xfrm>
            <a:off x="25092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6612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50: 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Фашистские войска в 1941–1942 годах потратили на захват этого города 250 дней, а советские освободили его в 1944 году за 5 дней. О каком городе идет речь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87280" y="5445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059280" y="5516640"/>
            <a:ext cx="56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еваст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" action="ppaction://hlinkshowjump?jump=firstslide"/>
          </p:cNvPr>
          <p:cNvSpPr/>
          <p:nvPr/>
        </p:nvSpPr>
        <p:spPr>
          <a:xfrm>
            <a:off x="395280" y="602136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840" y="260280"/>
            <a:ext cx="88581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прос 10: </a:t>
            </a: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называлась реактивная система, находившаяся во время войны на вооружении артиллерии Советской арм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55008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348000" y="5425920"/>
            <a:ext cx="56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тю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firstslide"/>
          </p:cNvPr>
          <p:cNvSpPr/>
          <p:nvPr/>
        </p:nvSpPr>
        <p:spPr>
          <a:xfrm>
            <a:off x="250920" y="6237360"/>
            <a:ext cx="649080" cy="620640"/>
          </a:xfrm>
          <a:custGeom>
            <a:avLst/>
            <a:gdLst>
              <a:gd name="textAreaLeft" fmla="*/ 39960 w 649080"/>
              <a:gd name="textAreaRight" fmla="*/ 609120 w 6490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89" h="21600">
                <a:moveTo>
                  <a:pt x="0" y="0"/>
                </a:moveTo>
                <a:lnTo>
                  <a:pt x="22589" y="0"/>
                </a:lnTo>
                <a:lnTo>
                  <a:pt x="22589" y="21600"/>
                </a:lnTo>
                <a:lnTo>
                  <a:pt x="0" y="21600"/>
                </a:lnTo>
                <a:close/>
              </a:path>
              <a:path fill="lightenLess" w="22589" h="21600">
                <a:moveTo>
                  <a:pt x="0" y="0"/>
                </a:moveTo>
                <a:lnTo>
                  <a:pt x="22589" y="0"/>
                </a:lnTo>
                <a:lnTo>
                  <a:pt x="21189" y="1400"/>
                </a:lnTo>
                <a:lnTo>
                  <a:pt x="1400" y="1400"/>
                </a:lnTo>
                <a:close/>
              </a:path>
              <a:path fill="darken" w="22589" h="21600">
                <a:moveTo>
                  <a:pt x="22589" y="0"/>
                </a:moveTo>
                <a:lnTo>
                  <a:pt x="22589" y="21600"/>
                </a:lnTo>
                <a:lnTo>
                  <a:pt x="21189" y="20200"/>
                </a:lnTo>
                <a:lnTo>
                  <a:pt x="21189" y="1400"/>
                </a:lnTo>
                <a:close/>
              </a:path>
              <a:path fill="darkenLess" w="22589" h="21600">
                <a:moveTo>
                  <a:pt x="22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9" y="20200"/>
                </a:lnTo>
                <a:close/>
              </a:path>
              <a:path fill="lighten" w="22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9" h="21600">
                <a:moveTo>
                  <a:pt x="11295" y="3837"/>
                </a:moveTo>
                <a:lnTo>
                  <a:pt x="13871" y="6448"/>
                </a:lnTo>
                <a:lnTo>
                  <a:pt x="13871" y="4707"/>
                </a:lnTo>
                <a:lnTo>
                  <a:pt x="15646" y="4707"/>
                </a:lnTo>
                <a:lnTo>
                  <a:pt x="15646" y="8224"/>
                </a:lnTo>
                <a:lnTo>
                  <a:pt x="18258" y="10800"/>
                </a:lnTo>
                <a:lnTo>
                  <a:pt x="16604" y="10800"/>
                </a:lnTo>
                <a:lnTo>
                  <a:pt x="16604" y="17989"/>
                </a:lnTo>
                <a:lnTo>
                  <a:pt x="5985" y="17989"/>
                </a:lnTo>
                <a:lnTo>
                  <a:pt x="5985" y="10800"/>
                </a:lnTo>
                <a:lnTo>
                  <a:pt x="4332" y="10800"/>
                </a:lnTo>
                <a:close/>
              </a:path>
              <a:path fill="darkenLess" w="22589" h="21600">
                <a:moveTo>
                  <a:pt x="13871" y="6448"/>
                </a:moveTo>
                <a:lnTo>
                  <a:pt x="13871" y="4707"/>
                </a:lnTo>
                <a:lnTo>
                  <a:pt x="15646" y="4707"/>
                </a:lnTo>
                <a:lnTo>
                  <a:pt x="15646" y="8224"/>
                </a:lnTo>
                <a:close/>
              </a:path>
              <a:path fill="darkenLess" w="22589" h="21600">
                <a:moveTo>
                  <a:pt x="10372" y="14299"/>
                </a:moveTo>
                <a:lnTo>
                  <a:pt x="12217" y="14299"/>
                </a:lnTo>
                <a:lnTo>
                  <a:pt x="12217" y="17989"/>
                </a:lnTo>
                <a:lnTo>
                  <a:pt x="16604" y="17989"/>
                </a:lnTo>
                <a:lnTo>
                  <a:pt x="16604" y="10800"/>
                </a:lnTo>
                <a:lnTo>
                  <a:pt x="5985" y="10800"/>
                </a:lnTo>
                <a:lnTo>
                  <a:pt x="5985" y="17989"/>
                </a:lnTo>
                <a:lnTo>
                  <a:pt x="10372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095480" y="21420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78688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20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е оружие войны называлось «максим»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71720" y="535788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86080" y="5286240"/>
            <a:ext cx="56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анковый пуле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firstslide"/>
          </p:cNvPr>
          <p:cNvSpPr/>
          <p:nvPr/>
        </p:nvSpPr>
        <p:spPr>
          <a:xfrm>
            <a:off x="324000" y="609300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000080" y="0"/>
            <a:ext cx="7072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999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ликая Отечественная вой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1941-194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30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звание какого знаменитого оружия расшифровывалось «Тульский. Токарев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00080" y="585792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57680" y="5952960"/>
            <a:ext cx="56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истолет Т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>
            <a:hlinkClick r:id="" action="ppaction://hlinkshowjump?jump=firstslide"/>
          </p:cNvPr>
          <p:cNvSpPr/>
          <p:nvPr/>
        </p:nvSpPr>
        <p:spPr>
          <a:xfrm>
            <a:off x="10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285920" y="309600"/>
            <a:ext cx="78436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9298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40:</a:t>
            </a: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мейство тяжелых танков ИС-1, ИС-2, ИС-3. Это самые мощные танки Второй Мировой войны. Как расшифровываются буквы «ИС»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143000" y="564372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143160" y="5715000"/>
            <a:ext cx="56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Иосиф Стал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>
            <a:hlinkClick r:id="" action="ppaction://hlinkshowjump?jump=firstslide"/>
          </p:cNvPr>
          <p:cNvSpPr/>
          <p:nvPr/>
        </p:nvSpPr>
        <p:spPr>
          <a:xfrm>
            <a:off x="108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214880" y="2874960"/>
            <a:ext cx="4010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прос 50: </a:t>
            </a:r>
            <a:br>
              <a:rPr sz="32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отечественный средний танк был признан лучшим в годы Великой Отечественной вой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28800" y="5643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28960" y="5715000"/>
            <a:ext cx="56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-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>
            <a:hlinkClick r:id="" action="ppaction://hlinkshowjump?jump=firstslide"/>
          </p:cNvPr>
          <p:cNvSpPr/>
          <p:nvPr/>
        </p:nvSpPr>
        <p:spPr>
          <a:xfrm>
            <a:off x="179280" y="5877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3786120" y="2643120"/>
            <a:ext cx="471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3880" y="-357480"/>
            <a:ext cx="80010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10: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Сколько городов нашей родины удостоены звания города-героя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476360" y="573408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635280" y="587700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>
            <a:hlinkClick r:id="" action="ppaction://hlinkshowjump?jump=firstslide"/>
          </p:cNvPr>
          <p:cNvSpPr/>
          <p:nvPr/>
        </p:nvSpPr>
        <p:spPr>
          <a:xfrm>
            <a:off x="0" y="602136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5" y="14299"/>
                </a:lnTo>
                <a:lnTo>
                  <a:pt x="12335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680" y="189000"/>
            <a:ext cx="805320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20: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Сколько советских людей погибло в войн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979640" y="4869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995640" y="49417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7 милли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>
            <a:hlinkClick r:id="" action="ppaction://hlinkshowjump?jump=firstslide"/>
          </p:cNvPr>
          <p:cNvSpPr/>
          <p:nvPr/>
        </p:nvSpPr>
        <p:spPr>
          <a:xfrm>
            <a:off x="0" y="609300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429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30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колько длилась блокада Ленинграда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76360" y="393372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84360" y="5805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>
            <a:hlinkClick r:id="" action="ppaction://hlinkshowjump?jump=firstslide"/>
          </p:cNvPr>
          <p:cNvSpPr/>
          <p:nvPr/>
        </p:nvSpPr>
        <p:spPr>
          <a:xfrm>
            <a:off x="0" y="6093000"/>
            <a:ext cx="611280" cy="57600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2" h="21600">
                <a:moveTo>
                  <a:pt x="11461" y="3837"/>
                </a:moveTo>
                <a:lnTo>
                  <a:pt x="14037" y="6448"/>
                </a:ln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lnTo>
                  <a:pt x="18424" y="10800"/>
                </a:lnTo>
                <a:lnTo>
                  <a:pt x="16770" y="10800"/>
                </a:lnTo>
                <a:lnTo>
                  <a:pt x="16770" y="17989"/>
                </a:lnTo>
                <a:lnTo>
                  <a:pt x="6152" y="17989"/>
                </a:lnTo>
                <a:lnTo>
                  <a:pt x="6152" y="10800"/>
                </a:lnTo>
                <a:lnTo>
                  <a:pt x="4498" y="10800"/>
                </a:lnTo>
                <a:close/>
              </a:path>
              <a:path fill="darkenLess" w="22922" h="21600">
                <a:moveTo>
                  <a:pt x="14037" y="6448"/>
                </a:move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close/>
              </a:path>
              <a:path fill="darkenLess" w="22922" h="21600">
                <a:moveTo>
                  <a:pt x="10538" y="14299"/>
                </a:moveTo>
                <a:lnTo>
                  <a:pt x="12384" y="14299"/>
                </a:lnTo>
                <a:lnTo>
                  <a:pt x="12384" y="17989"/>
                </a:lnTo>
                <a:lnTo>
                  <a:pt x="16770" y="17989"/>
                </a:lnTo>
                <a:lnTo>
                  <a:pt x="16770" y="10800"/>
                </a:lnTo>
                <a:lnTo>
                  <a:pt x="6152" y="10800"/>
                </a:lnTo>
                <a:lnTo>
                  <a:pt x="6152" y="17989"/>
                </a:lnTo>
                <a:lnTo>
                  <a:pt x="10538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916360" y="5805360"/>
            <a:ext cx="60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59280" y="5734080"/>
            <a:ext cx="56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900 дн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1928880" y="1857240"/>
            <a:ext cx="5381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50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5690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40: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Сколько длилась Великая Отечественная война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14280" y="537372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418 дней и ночей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firstslide"/>
          </p:cNvPr>
          <p:cNvSpPr/>
          <p:nvPr/>
        </p:nvSpPr>
        <p:spPr>
          <a:xfrm>
            <a:off x="39528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826920" y="58053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00360" y="5877000"/>
            <a:ext cx="64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коло меся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>
            <a:hlinkClick r:id="" action="ppaction://hlinkshowjump?jump=firstslide"/>
          </p:cNvPr>
          <p:cNvSpPr/>
          <p:nvPr/>
        </p:nvSpPr>
        <p:spPr>
          <a:xfrm>
            <a:off x="179280" y="595008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0"/>
            <a:ext cx="857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50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Сколько времени продолжалась героическая оборона Брестской крепост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785960" y="2571840"/>
            <a:ext cx="6200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5676840" cy="33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10: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Подвиг какого советского летчика отражён в книге Бориса Полевого «Повесть о настоящем человеке»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00000" y="535788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03640" y="5429160"/>
            <a:ext cx="56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лексея Маресь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" action="ppaction://hlinkshowjump?jump=firstslide"/>
          </p:cNvPr>
          <p:cNvSpPr/>
          <p:nvPr/>
        </p:nvSpPr>
        <p:spPr>
          <a:xfrm>
            <a:off x="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11788" y="3837"/>
                </a:moveTo>
                <a:lnTo>
                  <a:pt x="14364" y="6448"/>
                </a:lnTo>
                <a:lnTo>
                  <a:pt x="14364" y="4707"/>
                </a:lnTo>
                <a:lnTo>
                  <a:pt x="16140" y="4707"/>
                </a:lnTo>
                <a:lnTo>
                  <a:pt x="16140" y="8224"/>
                </a:lnTo>
                <a:lnTo>
                  <a:pt x="18751" y="10800"/>
                </a:lnTo>
                <a:lnTo>
                  <a:pt x="17097" y="10800"/>
                </a:lnTo>
                <a:lnTo>
                  <a:pt x="17097" y="17989"/>
                </a:lnTo>
                <a:lnTo>
                  <a:pt x="6479" y="17989"/>
                </a:lnTo>
                <a:lnTo>
                  <a:pt x="6479" y="10800"/>
                </a:lnTo>
                <a:lnTo>
                  <a:pt x="4825" y="10800"/>
                </a:lnTo>
                <a:close/>
              </a:path>
              <a:path fill="darkenLess" w="23576" h="21600">
                <a:moveTo>
                  <a:pt x="14364" y="6448"/>
                </a:moveTo>
                <a:lnTo>
                  <a:pt x="14364" y="4707"/>
                </a:lnTo>
                <a:lnTo>
                  <a:pt x="16140" y="4707"/>
                </a:lnTo>
                <a:lnTo>
                  <a:pt x="16140" y="8224"/>
                </a:lnTo>
                <a:close/>
              </a:path>
              <a:path fill="darkenLess" w="23576" h="21600">
                <a:moveTo>
                  <a:pt x="10865" y="14299"/>
                </a:moveTo>
                <a:lnTo>
                  <a:pt x="12711" y="14299"/>
                </a:lnTo>
                <a:lnTo>
                  <a:pt x="12711" y="17989"/>
                </a:lnTo>
                <a:lnTo>
                  <a:pt x="17097" y="17989"/>
                </a:lnTo>
                <a:lnTo>
                  <a:pt x="17097" y="10800"/>
                </a:lnTo>
                <a:lnTo>
                  <a:pt x="6479" y="10800"/>
                </a:lnTo>
                <a:lnTo>
                  <a:pt x="6479" y="17989"/>
                </a:lnTo>
                <a:lnTo>
                  <a:pt x="10865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6000840" y="142920"/>
            <a:ext cx="29718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7280" y="713880"/>
            <a:ext cx="58564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20:</a:t>
            </a:r>
            <a:br>
              <a:rPr sz="36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Какой подвиг в годы войны совершил Александр Матросов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>
            <a:hlinkClick r:id="" action="ppaction://hlinkshowjump?jump=firstslide"/>
          </p:cNvPr>
          <p:cNvSpPr/>
          <p:nvPr/>
        </p:nvSpPr>
        <p:spPr>
          <a:xfrm>
            <a:off x="17928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450864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крыл груд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мбразуру вражеского дзот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843280" y="4437000"/>
            <a:ext cx="597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1"/>
          <a:stretch/>
        </p:blipFill>
        <p:spPr>
          <a:xfrm>
            <a:off x="6286680" y="500040"/>
            <a:ext cx="2593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36:34Z</dcterms:created>
  <dc:creator>1</dc:creator>
  <dc:description/>
  <dc:language>en-US</dc:language>
  <cp:lastModifiedBy>psycholog</cp:lastModifiedBy>
  <dcterms:modified xsi:type="dcterms:W3CDTF">2018-02-19T08:46:59Z</dcterms:modified>
  <cp:revision>158</cp:revision>
  <dc:subject/>
  <dc:title>Своя игра</dc:title>
</cp:coreProperties>
</file>