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D5A-03AD-4C7D-8F8A-F362BC1F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B65-3948-48F5-B2AE-55966C0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4F11-BF5D-4C79-83E5-D96244D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F3E0-6F3C-4F25-8F53-ED742460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5D5B3-E450-4956-9016-251D16F7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64E29-43D6-4BF7-988B-B2500D0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8931-DD6E-4821-BC5C-3D121BB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AE4C3-A6E1-4EBE-80DB-21E98D6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4A01D-1BE5-44B8-9DF7-7DACA73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A4075-E26F-4E22-8007-90BF1189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5406F-B1DA-48F1-850F-3478EE81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B8DF3-D8AB-4CBD-BCEB-FAEBF27A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C16-7217-49A6-9509-CC30ADEB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B9731-1313-44A5-BB45-200B04B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BD138-2174-46F8-BE9F-4C33BEC7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2E3C0-A11F-4A66-889C-7CE71128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57976-712D-491A-9E17-742FF71D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ADB3-628C-4FEC-AC1F-1E2991E9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5B66B-8C9A-4477-8E67-41B6339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7ED35-8A2A-4921-8799-5A5FA2AD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F6B8-0372-4B84-B87D-A7CC7CE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96B6F-6B14-404C-9B3D-C70113C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C1005-0A80-497C-A746-91451042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0BA-8A94-40D5-AB2C-49213A25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FD14B-98DF-4140-9324-BD9ED38A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38B1B-C29B-4791-B834-1F7FF95D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49C30-09C2-4960-A1C5-D338412B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A1DE7-5966-4C77-953E-253AE46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D4F8A-69C1-4482-85DB-3D2649E2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561D4-E9A3-4CCB-B885-97EAB89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68D24-98C7-49B8-9B15-A4748843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3BA8A-3316-40F9-A8CA-A2E45E3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3F3CB-DFC2-48D2-BE8F-33A095C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9B4A1-88E4-4BD4-854A-EA412E1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D4A-A93C-4283-BC79-3B4F8CC0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D600-B475-43B2-BDAA-1B6C19BC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6C634-E2B2-430D-8D11-A2B0543D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F990F-0FA5-446F-9E5D-EBA9A19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B4A31-6490-4EED-9A5E-7061770B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6B21F-019B-4F7C-8849-09AF5B9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C58AD-4839-4878-858A-F56FA3A3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CA5EE-7E94-4895-B493-6644B04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0D420-FE75-4FA1-957C-1B9C7568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BAF93-90B6-49D1-87FB-54A1440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72013-BA26-4B98-8473-2688FC99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2D96-BA21-4405-A7D4-B9291E0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2CE05-4948-49D7-A255-90D43831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76117-F7C2-4FA5-998E-3C9D708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29014-B69E-4217-9A5B-BC9B51C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2EBC2-004A-48C4-8259-321CA2A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7B025-6C3E-49FA-A5BD-88B05048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59F30-04ED-4986-9C79-D9D95D17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0ACF4-7285-4194-AC9D-B3E98F5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BE9FA-4702-4AC9-B483-56EA91C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C338B-1CE9-4C32-A8F7-05C2A28D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C41FD-9B2C-4982-81BC-D1C08080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54A4-EEE3-4EC0-89AF-D4AB31A4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894CA-70DA-4AED-AFD2-EC67D76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60900-DB8B-4321-ACC5-901F9FD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62026-E2DD-420E-92E8-3387148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39B37-D575-470C-B0AF-7137E4D3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4350F-3251-441E-BCD8-BE657FA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77F10-8562-4EFD-99F6-99723695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1A317-775B-4B43-8C4F-CD0C4AF5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FAEF21-EF32-40D4-99D9-4043673C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B3E72E-58B4-4B71-AB99-603B67C0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8F0290-96AB-4A92-B685-27281F8F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A9DA-F61E-4215-8B0B-41DCC92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F65F89-92D7-4CA8-804D-C74F9AAE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3BB903-354A-4E1F-BCF0-D77ED17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AB1622-6DF5-4D14-8602-75AB0D3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583F84-93D5-4381-B1F1-0C7EA8D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563C08-9726-48AE-88C6-B3320EC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6E6B6D-5EC6-437A-8F5D-230BE8C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D29AD5-339D-4800-9B46-BF35947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5B3F39-8E28-4687-A685-41406E72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847C9B-92AA-479A-B911-2870CFA9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935C93-6F3B-4E4E-810D-14DA30A6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13F-C026-44B7-831E-9A24B61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1F8FF7-40FD-40ED-9A8B-AD754CF2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C8B45B-AFBB-4C25-BD13-70E9F66A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B63F4B-D6E4-429D-82A1-B2FF30B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84E02E-A73F-41DC-9D8C-AFBC5815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5567D3-DB14-4394-8CD3-050CF770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0B5A4B-23C0-4DEB-A64A-8227D0AB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8DE16C-412F-4455-865B-F8C9C69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07001A-7AED-4E73-9184-F541FBBC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DB3EC0-328D-4740-BD21-D0FB4BE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ACE080-F539-431B-98FE-46BD9555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8767-42B3-4CD4-8D57-160081F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AF54E6-ED25-4A4C-A6BB-29EA3166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17AA9-6240-402B-B27E-8DF71775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45E78-4A81-422A-BCEE-2450B47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569CF-EB2D-4F28-BFAC-E80153E5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646F0-0035-4368-8B98-D44F84B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DF3CF-3068-4AC4-8260-144F2E42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73E18-1C24-4069-B53F-D9AA464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BD3DB-ED9D-4600-AD80-B191CC9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4A168-870A-45AD-A0E7-F28EF4A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C70D0-0BE3-4AFB-99CF-DCF9E1D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86D2-D4E0-4FB5-AB02-9A6D16D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D4F8E-9072-40F6-9A09-19951747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BDCF8-E7AA-47FF-86EB-64B6EE8D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39DF7-E258-4764-B5FF-4FD83465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A85370-F75B-4B79-B441-DD9E7EB7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2DF3D8-9B73-4112-9D8A-9829C4D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653FFF-7A20-4367-9B8A-EDF4765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50FECA-E1A7-4616-B419-07249B67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76E524-E659-401E-97C5-C821C59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414F6E9-1B90-4B62-A071-97CD900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AF7029-C393-4665-8E53-546490B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C5C-F66C-4989-AB17-173E3616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52D-C8E3-473E-AA55-9AD89B6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CAED95-EFE7-4A19-B3F1-B8A9C8C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433A5B-6058-437A-9B42-000A77C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6B6F73-28D5-4E24-8087-AF6972F2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DC03DF-4AE4-4328-A173-1892B5BA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88E626-51A7-4708-AA4C-5A535FAD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7B5FC-B250-4287-974E-A2B5FB46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C95F8-89A2-4DCE-9BD8-3DD0D24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0A8C5-C269-49BC-83E6-BC53763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B7D71-0E39-4B97-BD57-7A6BD481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0983E-0485-4CF7-9788-20E9CA0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339-6372-45FC-B97E-99A40EE2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623D9-CE9E-4BAB-AB63-D0A9530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EBE72-5CAB-4D53-AFEF-C0F3557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67CB4-5C3E-484F-9305-AC3A69D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80B9D-CD58-448E-9498-8C816A4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D57B1-29C4-432F-A527-D2DE63DE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8FFC9A-2B58-4FB0-AA15-93C18DD0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5839C-00B8-470C-983D-E65A4E63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54C5B-AB71-45F4-B04D-5FD39D6C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313E6-A36A-4AF5-B93D-1450DA68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CC110-ADB7-46F0-AFF5-CD7FE77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4632-6E27-4003-B24C-A5EAB72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768BC-FAEF-4F49-A457-EE928B7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90584-779C-48FB-BF70-5A5B3F42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434B5-6FB7-40EC-ABFF-3A3F11A1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79B4A-ED3B-4A9E-97D8-9C49D95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6645F-825C-4F5D-9FF6-F3F8CDA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0A1B1-CF81-4082-8D05-09E5C58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23E89-D6B1-46B5-9D66-C0BDBE2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9C4C6-7E46-4D23-8310-284A7595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CA36E-4FB6-463F-BA94-0CD33548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F5019-2AC1-434E-A94D-FA0AADA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1D1B-367F-46B7-8E2D-DB3C3B84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7F964-66CD-4507-97C7-2B2CD0F3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9B657-244E-473E-8324-B72EC34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639CA-087A-4139-B658-31E83DA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C2930-1594-47DD-B9CD-81BD1734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4F08E9-3B16-4C04-98F3-41D0AF6E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AA3E1-3053-4C5F-A05B-F73FEA24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47FC9-051D-4952-988C-EA65D37F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1B0C5-62E5-431A-B0AE-F3FE8AD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ED5DB-BFBB-4269-ACCE-8A358C0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C4A82-05E2-4B0E-A1C5-BBF5FFD5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006-8B2A-464E-8F68-49C0908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D4793-D1D1-49B8-8A2D-9891EA5F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213F6-BEF6-48B8-80BA-A8427E24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C4BA2-E3D7-4DA8-8351-46F7B617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5AB15-77A5-497E-B63C-C94206D2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A75F0-6D99-49DD-9944-B8DF14C6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70F13-063F-4929-BC05-3CE75D68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AF6EB-F7D7-441E-8157-C3A1F2CC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9FA76-FAEE-4A94-B1A8-8A4E47C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E2C58-4BD4-4B6B-BD4C-0B72CD4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4B6034-B3EA-4FD0-A493-B68576A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860E-17AD-42CB-B662-815C4401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2401C-2613-4383-B389-E5EB4BB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DA053-71A0-43AB-832D-40AC921E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6A9E6-CDE7-4998-9762-5153E488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6AD81-E3CC-4640-9142-176D4803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18EE57-12A2-44C6-B173-9EAB02AC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85BF2-A73F-4D7A-A047-FBFAC3E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50593-1DF9-49A3-B774-4DD818FD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AAB1DD-2F46-42BB-9602-A7926E6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FA9495-D759-46B3-A095-08E53B4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081A2D-04EA-468C-838F-BA822767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EDDC-3002-4FE6-ABCF-41D940A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4C9CC1-FC02-4CA5-887A-20DCC35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331A5-CA60-488D-982F-DFA1FE2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E6AE85-F6DF-40DB-91BE-E462F380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B8CA1F-1258-414A-8724-9677B0D1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6A6985-6288-4AF3-8BD3-1F5F63C3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00A5D3-C1F3-429B-9539-97153946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6D21CB-1D9B-4F99-AA2F-4F2317E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B666A-378E-4475-A49A-604264D3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A2140C-B691-4927-9CFB-8F79F77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99954D-5E10-4270-8B00-5F1FB2B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B10D-11F1-407A-8B12-DD5F611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E648A-427A-46D9-9E23-14677017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B2B1F-A18E-4628-AAE7-F5CC467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02B5D-5DC2-4B77-888C-955828B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449BF-1BB7-43DD-9826-F2B4D35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EBA84-4E6B-42CB-ACC2-80ED8B3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26BE5-D8ED-477D-B097-3CCBD626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B8E34-9FDD-45B2-AC52-3DA1B001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14D70E-B7C0-4C65-A50D-7425CE73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296773-C3AB-48C8-9945-3498490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D49554-4DCF-4E30-B739-920FC8BC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741E-6ED3-436B-A7CD-ED904B9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EF84D4-4ACF-4B48-A66A-967B396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83C3C-4485-49C4-88E4-1CF74FC4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E5708E-52D1-4F6C-AC67-C881758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060B1B-CA9C-4F36-AE96-48F58FD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4676D-2D0E-4DB4-8559-DC0EDE3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CA92B-B84B-48E3-87E7-C270A00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4E72A9-F7F1-49B2-8F03-02444DE1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653DA8-F579-4EB4-93A9-F2549350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9928F7-096B-4B22-9B31-B217A1E5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5ABFD0-3570-4C11-AE8C-6BF06D62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84B9-0B20-4CBD-BA59-4CB96A0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C18F45-79E8-42BA-9D2B-2E61548E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98C6B4-FC12-471D-9AE8-284FABFA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B6E8C8-734C-4475-B4D7-05D47DBA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6B42A3-135C-4F29-96C2-3EE256E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0411B-31C5-4D13-A4A8-30AE325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1B7FD4-C9D9-4B76-B832-7FEB033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A2FE7E-777B-4279-A3ED-472116D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4EC0A5-C775-4A34-8390-DE10E9F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F5FECF-E64F-4D2B-9B08-5C977798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7266C8-618B-4F76-B370-C5090C9F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DE9-C5F3-440E-BAE1-25CB8E5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7577-317D-4C73-9897-B6E005C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861382-00A0-4E09-AC1C-1D5E9AA0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0DB60D-E4FB-4E39-8CED-6496D8DE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A31E21-1016-4E14-A98E-AFCC740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4F21B1-6253-4030-A5A2-383776B3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661358-2EF6-4B5F-84D1-0607AA2A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40763-B029-444F-8FD7-DE4E4FF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FEF962-F028-4BDD-8762-F6980C6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10C66B-965E-4142-967C-FA1051A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C0A9FB-9665-454F-AA91-AE9229E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097F2B-15C7-4A42-AC1C-B5DF9DF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AE68-5027-4D6F-A488-F0CC2AF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FA522C-D6B8-4C61-BAFB-BD00477C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2363E5-F48E-45C4-8E05-22A6A569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7A9E40-5227-48C3-812C-CF5B2FEB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3A18BD-7AA2-42A5-9536-6CE1E683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D753A5-9E9F-4843-86E7-041B143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1D3064-023B-4B6B-BFB7-F6C60F4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EC5B15-A484-4C45-BE47-9A8CAD8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EC47EF-B78D-4725-A5E6-0AADC4C9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2F7810-9890-4BAB-B91E-0A01807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B90FD3-BAA2-44F1-A532-7AEF774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12D8-B0C2-4F3D-A8DF-CCBB133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55BB85-2023-41F5-9398-A681AC3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D35D15-6226-4481-B164-B9C9467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2A9BE1-37C1-43FE-9C65-101452F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8D15F7-2758-4B1B-9C3C-05BE9BF4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2316AD-0586-4257-9169-4FACC8C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1BFFC2-9C46-498C-8F8C-37383478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955D77-B70F-427A-88E7-1690707A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619430-928D-4337-8224-5D208D1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FAE700-E013-4695-84C3-0C29466F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AC3F2-E4CD-4AA4-9BAC-B2C29C56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7767-1E70-4596-9C3C-2BD20AB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701D3E-5F8A-40F2-96CD-260A641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565B01-E54D-4F98-926B-9C40F89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C65C10-6781-4536-854A-E2C277C7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CEC8BD-C88F-4444-9CAC-27E9AFA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4ACB74-8218-480C-BF39-5B67877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16E9E7-189C-4E30-9247-D7838AB4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7BAEBB-DFBC-4FC0-81DB-CDA8A119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930ADA-9521-4947-93AE-F95351B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7603F3-C6CE-4D41-9BBF-A256AD7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62766B-925D-471F-ADBB-452C98DD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963D-A817-4D08-A596-C6C232E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832C72-DDC8-4733-A1CC-2FD137D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723F7F-9BFD-4F46-990A-43310AF0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21DB92-0682-4746-AA4E-88F53C70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21BD91-3F48-4ED3-9883-4AE99D7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278887-1D6B-4AB5-AC57-AF72638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6E0D8C-8B3F-4B22-B295-E6F8105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F12AC3-A3CD-40CA-95ED-56B8A8D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93704-EE46-471E-839E-DA231881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8ABF98-35D5-4834-AE5E-B97D6FA8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9B1DD6-BEFB-42C7-BE22-B63D353A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9DCB-8FA9-42F5-B687-CCAE40BB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52D71D-DD19-4412-B4DA-BDE1BE1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1F7074-5E6B-4C87-85A0-9A4CA6CC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C048F7-0638-4275-8A36-B9621EAA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8E0170-0A94-4E3F-ADDF-381205EE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D1EDC-2027-4555-A8BD-5066BB1C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72433E-D68B-4976-8BA1-87CA1FF8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DA829C-5E6F-4C54-B005-6BA3DBF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10CB89-E477-41D2-92AE-4B737FDC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BD69B5-2DED-4AAC-B3D5-4289ED4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0A3F18-D75E-46F2-9A97-EF9BE3B7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0E09-3626-404A-A56C-F494E22B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2F5DA1-4B1E-47BD-85F0-6F6971AB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D472F3-F783-4EEA-9E82-641398C7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C095B0-A769-4BBE-B8BE-516DCD5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E6EA3F-5A6D-497F-9A1C-5428DB6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6128A1-209F-4060-92F3-516E24D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C17906-4AF8-47B8-9117-6C657BC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5301E3-F319-432D-B60C-5245A447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7AB63A-7E57-48E3-A0A0-19B12EC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29B95C-0CE2-4410-94BE-791ABB49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4A214F-4006-484E-A4F0-CE8652B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CF86-743A-443F-98BE-F5557A40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62ACF5-921B-49F8-B122-A8397C6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C91FB4-C3C6-4204-A957-A51CEE91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6590E2-EE3B-469E-BBF7-5B503909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F342A6-56B0-4F84-A8A9-B6C21F3B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73848B-545F-4214-81A2-53AA04BE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50AA36-E521-4366-8626-20A16941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2480CF-C87D-47C3-A4E7-F87FD197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8DAEDC-69A4-4A5D-8EE8-1157B1FF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F2242D-EDF2-4D3B-B247-66AD002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214F71-5750-4415-A09A-0700645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6006-F63F-44A7-BF3B-780787B6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084C68-7921-4E6E-9C4F-8452013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DEE967-E943-4063-BDC5-0164832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A5727E-87A1-457B-AEA2-773DAD2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CE14B7-B44E-4F03-B15E-E9E2991E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4DBE6D-C138-4DE7-BAA9-9F5A828F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AE3680-1569-4963-B715-748C814D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4EEABF-0E23-4727-A77F-D5FDF42D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3D8B5E-A2B8-4562-89DB-B31C100F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A94D1D-50AF-46D5-8897-95253DD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3258D6-8F06-4543-99A7-9A87FB18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8B22-3250-4562-8CA4-62E132A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A54BD7-DE64-4D10-8B74-E69D613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F544E3-E8E5-47C7-A47D-FAFE8B1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FD5076-62AB-44EC-8281-0E8CE09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1E19F3-50AD-450E-8B04-DA229E4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BE3CEC-7CA8-41BF-8D38-AF070DF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456D9C-A4CF-49A9-9571-389B9076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B6E64C-3510-48CA-B7D9-7E457C28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0081B5-D85E-4D20-B931-F5E93920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F37515-F656-4C36-A900-15D9794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473884-85AF-4C51-85F3-AA6749AE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94B-8461-4378-B3A3-42D388E3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6D53-F773-4F4B-98CF-E453783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88778F-1EFC-4FB3-9132-FDEF2BD0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CFF4AF-86A5-4F54-AB4E-56F1073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AAFAB1-BE99-40BD-920B-98FA2F9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F6E45D-98CE-4A17-B3BB-55988149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89AF83-536F-40EA-8E2B-75B6C92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C6EE33-2E21-4725-AD2E-8F686266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8EA23E-FCA8-4D8A-B012-9453E3B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A46C6D-F7F5-4B49-9044-DA45F88B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5303AB-7556-401D-B79D-7D6B1312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AEFA32-F535-4FEF-843F-6EA0FD92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D679-2230-4012-90EF-E382397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F201F0-570D-4DEF-B740-C10EC21E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5E68E7-B801-47CA-9F2C-D4EB8A9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733EA6-B3A9-44F0-ACEF-5C437416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3A597D-8A77-4952-A119-BCDD9128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D77EBC-E19B-4609-9DEC-01E173A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17B832-7EF2-4454-B4EC-E86A5E8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24BD1B-EFDA-48D9-A688-50AEEF8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3D48C8-A4CB-430C-89E4-C3FF175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5533A2-23B1-4089-B614-6B8CE629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4C2436-3BFD-469D-99F1-978C7D5D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DB90-C7C7-4298-B59C-EC908C7D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7B5F5A-A910-4905-96DD-074FCA1C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EB54DA-0739-4D76-BA9D-73B20EF7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32D83C-4162-4133-95D9-6F96AB36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FD8320-4F03-4406-9491-B427C49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899AF4-2D45-46A4-9063-220BF691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F5CB3A-5E4E-4529-AAF1-38CD53A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388C72-BD9B-4043-A828-947D874A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73CD7C-0B55-4A3F-9EFD-A0E778D8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3844FA-B7E0-42EE-8D07-E73BB9F1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EC057B-F555-459A-AE0C-18A4104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38C4-0402-40CC-9A56-3ADD545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657A36-E86D-417F-AFFC-8F38233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638A48-C82D-4D5C-BDFD-06E5B6C9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0473A3-C072-43EC-89C6-54127F98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DEA31B-3176-47E6-89EA-041E393F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BA3B23-91BA-46F6-8ADD-9A1DFDD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1D8E88-79E7-4DE8-A907-83C2CC2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FB8803-A88D-4C8E-AD62-4D78285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B87F07-95A4-49E0-A369-8090CD09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1AA84E-0032-4F1A-A4F1-DA84328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44D833-8DA9-42FB-928A-844CEA3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CD6F-BCF1-482D-B8A1-DFB4113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B2C56F-8C2A-4163-BEEF-5FD598E4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90D2BD-DB5E-4085-863D-04AA2AA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8C9287-EA1E-4AD1-8AF8-FE0AAFEB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0456C9-4A9A-4B66-85B2-E24137D7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87DCE5-AAE6-45B8-B3C5-FB437BBF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6E3448-A24B-4782-B026-1ADBC1F6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BDEA24-F765-4A88-8B21-A414EDA8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3A6D76-34F9-4017-BC47-96B487D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29FBC9-7EAC-4BF1-AEBB-1122DE5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2FD7B2-558E-4249-B499-198A29E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9D78-39A0-4B45-9DB5-B989DFD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B0D6EC-3AE9-43ED-97B7-783C27CE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E8FFE7-3C50-406A-A8D4-39FA2DF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32469C-0915-4DD0-A81D-A2D9181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0AA293-B81B-4DB3-85C4-52160A6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D0115E-D68A-4AE9-ACDE-121BD250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AFFD08-5C9A-4058-8CAE-4FB15413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A1FF93-CD43-463B-AB7E-0EC9E490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7EC3FF-D044-42AB-9736-337F5FF4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81434E-C9F6-4FF4-B6D2-E664D01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28E500-2B49-434D-AA7D-D265CBE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4EAF-CBA5-4C93-B737-9F24D53B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F75EB5-14E2-41EB-84B1-2B2F121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7271BD-C78B-4021-BAC2-AD4A832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6A798A-1E45-427D-9028-F550DA2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CF923B-D544-4586-A476-00D92EF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C7B27D-7F54-46FA-B30E-39442E44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E30D46-0A7F-42F6-8871-DE73111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AF9A7B-03B6-4AED-A341-933489C6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822982-AFA8-4662-AC94-C90BD60D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DE080F-586A-47BB-92D5-53CC6CF9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304F15-4F3E-4003-A1EC-29A8C242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857D-0B09-44BB-88DA-FE4546DB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0EE0C0-AC4E-4D83-B7D6-EC5AB50A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766163-C1B5-4055-9C2C-56BEE5CE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0453D2-F5CD-4397-8AFE-BEF0CD5D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B5FFD1-1C90-471E-ADCB-212A60CD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002901-65BB-4AE6-B171-2C18013A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4F9863-1C65-4D46-B7AD-246C3FB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EB2A06-F981-4615-98D3-C37266A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3A01D0-5B92-4DEE-8193-DB7994CD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64F220-8588-46AD-8221-CF60B97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82A616-6926-42A2-BE1C-3BB0201B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CCBD-6417-42A3-B722-C4A61BD9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E46833-2798-4A8A-B0CB-BF680A29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260429-591F-48F5-B24B-6830CF0D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813BEE-4006-4476-B06F-D6F0D4B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FF30D1-AAB0-4D46-88D2-E7C8846B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094A6F-DC13-44A8-A7F1-9FD71BA0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FCB998-2725-4B3C-9F01-F0DAD2A2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243B68-E642-4437-AC39-07D5692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BB291A-02BF-4A64-9309-AB7173F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02F44E-82E4-45BA-85B1-36E05BAA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96EAA6-7B46-45F5-AB1D-90140DE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B071-3193-4A70-88C6-EA318B40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9270F1-0C79-42F0-8865-F63BDC7E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BB3789-8928-4DAA-850B-A0548837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8904C5-A11F-4C00-81C6-C8C7D9EF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5EEF13-9179-40E3-8BF1-D0A53373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C139F1-FB1A-4772-87B7-F3F1DC8D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5CB7EF-FA2C-4441-A418-8F8C60B4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62E805-4AC2-4BE2-81F0-8DA0FB7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C39CD5-106F-439F-8D75-95AB2E3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75A19C-24A5-4F23-AFF3-AF333DC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3281B7-3F92-4B19-90DD-F95CD0A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7FA-19BA-4ADC-BE49-DA02DCE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E90BE-D5A7-4A42-85DE-D0D7C90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3B5DDA-1CD4-436C-B75B-3BE052B6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BCC2AB-EDDF-4825-9BFD-6B0C93C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E2B4F1-2E8A-42BD-86CC-6934759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18D16E-87D8-4878-B85B-710634AE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57AE93-C7E6-4097-99CF-24D96CFC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BD0231-CF26-4CF6-9820-A13A5D4C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FF3727-FB99-4D0B-A1E7-FBFBD8D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4158460-9141-404D-AE93-857CE48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3E7868-4F9D-41D2-BC8E-78E86CC5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E8FE34-C2CE-413F-9055-9458A23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6565-7F1C-4E62-9614-AF9E1FB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97ECFA-977D-44F0-8D3B-F81B5537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E422D4-05EF-4BCE-AE28-09242A9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6840EA-3471-452F-B0DC-C110505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D2FF14-4C37-421C-AF18-5DEC238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1E148B-47B5-4B2B-955D-19E67C7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3CF2CD-AA87-4DA0-9B1C-C2CCBB82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73F3E2-00FB-4D9C-A925-714174F8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05EFE-41ED-4719-9976-B9EDAB48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C10A-6D4C-4697-9889-ADE75951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1425-A538-49EA-93D1-AB89C1EC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9E6D-9E71-4EB2-B50C-2729534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D77E-99DD-4A18-AA9F-22E485B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C2C57-AA4B-431F-9554-FA3614B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3634-BD13-457B-BDE7-2F9C6F5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B706-4BA3-4BE9-B425-B05BBCCD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23A-3F11-406B-BADC-A359E67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E863-81D5-48CF-BDAF-48BAC761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08D89-172C-4052-B510-50797D1E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D220E-AE3D-4DFB-B8B6-A40D6366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ADF4-1A04-49D2-B84C-4F443FD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90E8-2014-4847-BD24-27F71F2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0B8A-9001-46D6-AF2C-5C5183E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8CA0-2933-46FD-BEBA-03E2E05D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47149-795B-4D3F-A6D6-36C29D2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5BC7-83AA-4E77-8761-B53F7F26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992C6-2029-4D48-8913-FFE940DD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F64-BEFE-4A35-898A-58DF5B06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8605-51CE-461A-8F9B-6D161A0E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1B73-C7C2-4D20-8DBD-43559AB4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CF9D-4C27-4490-AB2A-1B881E44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F71D-7006-4630-AB6E-EF9DD838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13B3-8060-40C8-9A83-EE9AA7A0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5D83C-7A15-45E3-BFE5-DFE875AA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6D2C-F26F-4CA0-8C87-FEF8962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B451-6436-483F-B058-AD1B0D8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C2A1-5A6A-4919-8AAF-FA0B1C33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A716-43B1-4BB3-BEC3-5D0B3D6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A41-B69C-4058-90BC-4CFA6FA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2454-862C-4B2F-876C-4D914D2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C506-CADC-4E46-94A7-30CF949A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4FA5-8C0C-42E6-9F97-D26A5FCA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EE271-35E9-4040-9685-2335BB87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E38C4-D2F8-40BB-88AC-A75B3909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67D97-41C5-4431-86C1-50BE3073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E5679-F113-4864-934E-6F767C6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77801-D0B6-4721-9F2D-122B68C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582B9-90C5-4D9D-BCA1-9D261437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7D33-AEC1-435B-8212-7793B4E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726-69E5-4979-8505-8C7C4AD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61F01-B433-4150-8CE1-B63DCFC4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94C58-044F-44F8-948F-ED5A90E9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4A36-0EAD-4E92-9D1B-AA2666E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C8CB-2B78-4ADC-90A5-6FDA4D87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4BCD-0EFF-462A-A787-423281F4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4D73A-779D-4481-80D3-B2C3D333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7D59-C51A-46F0-B351-8CD3C790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0E3F1-5739-4940-912B-5D76AC8D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71E47-F9D0-4EB6-B822-029A6EB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D7ED2-0E66-497E-A8AE-8A40B11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E7E-D495-4115-944F-6C4A1E05DA7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CA9E-FC65-4C5B-A83A-FB35151F086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E922-662D-4D43-A217-0573212EB1C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2C41-495D-48A5-8ABD-F9D7DFA1227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B616-EFAA-46CE-A741-1879A6903E1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48F-3658-47DC-9777-6500130F37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85E-86CC-4DC9-B0FA-134D81A906B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dt" idx="4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5E31-F3BC-4573-BCF0-08CF66275E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4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6B7-7BA7-4B7E-946D-ADB6CE13A0B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ftr" idx="5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2F59-D674-4FDD-9DD3-C6552A9195F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B0F-529B-4B11-BFEC-06219832F27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F8C8-D782-42C7-8B26-206FAA1B9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C:\Documents and Settings\Admin\Рабочий стол\3-с.jpg"/>
          <p:cNvPicPr/>
          <p:nvPr/>
        </p:nvPicPr>
        <p:blipFill>
          <a:blip r:embed="rId2"/>
          <a:stretch/>
        </p:blipFill>
        <p:spPr>
          <a:xfrm>
            <a:off x="-214200" y="-214200"/>
            <a:ext cx="9753480" cy="726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641-8314-4B92-A1A1-E4F8AAB5309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44C4-ADC5-48F9-BF35-96639000327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6E0-BB45-449A-A3F3-4FDADF32AC8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8D57-8EDD-494F-9ACC-4FB3F146B37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950-014F-46C2-A721-FFA4EE6A610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4370-5E8F-4906-A084-0716E0C5360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1AD-3686-43C7-8FCF-E1E91CC8FEB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BD3F-9157-489A-962D-44DEF5D3E18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5D3B-3278-4DD0-9CDB-4B5C4E84291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907-0561-4CD9-B280-A2B739BDB34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9AF-F12B-42CC-AF5F-03C71A19F94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DF59-6BE9-4F11-B58E-35A25A5D621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529-71FB-4022-88D4-F563A457F6D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06AB-0316-4CC8-B5F3-B03C3E974E2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8A5B-3228-4254-A3DC-ACBFE467EF5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0A34-C36C-4D06-8498-678FDD2524C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697-EB1E-4E82-9DC2-3231D82C0A6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ACD-0813-4687-8478-717DBD6BFCB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509F-5F57-40B8-8E75-842564BD587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860F-5B40-4D4B-81F9-1A982ED9D49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7E92-A540-49A4-934B-D59164C8332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8C2F-4931-4044-AB9A-583DF6A6EA9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721-EB9A-4952-B748-FD4FF34FDBF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51A3-1203-4CFD-B013-6A863AC7944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1703-BEB8-4E82-B68E-689FC6D3B19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5E41-C357-42D5-9BA6-CEBAECEB2B9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D9B7-64A0-4094-919F-0186F6C1876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CE10-9BD1-41CB-9008-53B0D327E93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3F4-06D5-40E3-A37C-D8FCB5E4817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F3B-386B-4780-998A-157D8D7592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D009-CBFB-4CD0-BE93-CD25A482B5A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80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-50760" y="0"/>
            <a:ext cx="9993240" cy="744696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1414440" y="-6480"/>
            <a:ext cx="2941560" cy="428652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2" descr="C:\Documents and Settings\Admin\Рабочий стол\ручей.jpeg"/>
          <p:cNvPicPr/>
          <p:nvPr/>
        </p:nvPicPr>
        <p:blipFill>
          <a:blip r:embed="rId3"/>
          <a:stretch/>
        </p:blipFill>
        <p:spPr>
          <a:xfrm>
            <a:off x="8345520" y="0"/>
            <a:ext cx="1596960" cy="244008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2" descr="C:\Documents and Settings\Admin\Рабочий стол\океан.jpeg"/>
          <p:cNvPicPr/>
          <p:nvPr/>
        </p:nvPicPr>
        <p:blipFill>
          <a:blip r:embed="rId4"/>
          <a:stretch/>
        </p:blipFill>
        <p:spPr>
          <a:xfrm>
            <a:off x="1523880" y="471492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3" descr="C:\Documents and Settings\Admin\Рабочий стол\океан2.jpeg"/>
          <p:cNvPicPr/>
          <p:nvPr/>
        </p:nvPicPr>
        <p:blipFill>
          <a:blip r:embed="rId5"/>
          <a:stretch/>
        </p:blipFill>
        <p:spPr>
          <a:xfrm>
            <a:off x="4500720" y="3929040"/>
            <a:ext cx="2315880" cy="314316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4" descr="C:\Documents and Settings\Admin\Рабочий стол\океан3.jpeg"/>
          <p:cNvPicPr/>
          <p:nvPr/>
        </p:nvPicPr>
        <p:blipFill>
          <a:blip r:embed="rId6"/>
          <a:stretch/>
        </p:blipFill>
        <p:spPr>
          <a:xfrm>
            <a:off x="7164360" y="3278160"/>
            <a:ext cx="2847960" cy="236556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5" descr="C:\Documents and Settings\Admin\Рабочий стол\океан4.jpeg"/>
          <p:cNvPicPr/>
          <p:nvPr/>
        </p:nvPicPr>
        <p:blipFill>
          <a:blip r:embed="rId7"/>
          <a:stretch/>
        </p:blipFill>
        <p:spPr>
          <a:xfrm>
            <a:off x="7429680" y="5857920"/>
            <a:ext cx="2052360" cy="1542960"/>
          </a:xfrm>
          <a:prstGeom prst="rect">
            <a:avLst/>
          </a:prstGeom>
          <a:ln w="0">
            <a:noFill/>
          </a:ln>
        </p:spPr>
      </p:pic>
      <p:sp>
        <p:nvSpPr>
          <p:cNvPr id="1887" name="Прямоугольник 1"/>
          <p:cNvSpPr/>
          <p:nvPr/>
        </p:nvSpPr>
        <p:spPr>
          <a:xfrm>
            <a:off x="2654280" y="798480"/>
            <a:ext cx="68277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И.С.Бах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             </a:t>
            </a: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Не ручей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             </a:t>
            </a: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море ему им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8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0" y="0"/>
            <a:ext cx="9993240" cy="744696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2" descr="C:\Documents and Settings\Admin\Рабочий стол\Рисунок2.jpg"/>
          <p:cNvPicPr/>
          <p:nvPr/>
        </p:nvPicPr>
        <p:blipFill>
          <a:blip r:embed="rId2"/>
          <a:stretch/>
        </p:blipFill>
        <p:spPr>
          <a:xfrm>
            <a:off x="1500120" y="214200"/>
            <a:ext cx="7000920" cy="5286600"/>
          </a:xfrm>
          <a:prstGeom prst="rect">
            <a:avLst/>
          </a:prstGeom>
          <a:ln w="0">
            <a:noFill/>
          </a:ln>
        </p:spPr>
      </p:pic>
      <p:sp>
        <p:nvSpPr>
          <p:cNvPr id="1890" name="TextBox 4"/>
          <p:cNvSpPr/>
          <p:nvPr/>
        </p:nvSpPr>
        <p:spPr>
          <a:xfrm>
            <a:off x="1500120" y="5589720"/>
            <a:ext cx="811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Ионанн Себастьян Бах родил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 Германии, в городе Эйзенах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892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0" y="0"/>
            <a:ext cx="9993240" cy="7446960"/>
          </a:xfrm>
          <a:prstGeom prst="rect">
            <a:avLst/>
          </a:prstGeom>
          <a:ln w="0">
            <a:noFill/>
          </a:ln>
        </p:spPr>
      </p:pic>
      <p:pic>
        <p:nvPicPr>
          <p:cNvPr id="1893" name="Picture 2" descr="C:\Documents and Settings\Admin\Рабочий стол\Рисунок3.jpg"/>
          <p:cNvPicPr/>
          <p:nvPr/>
        </p:nvPicPr>
        <p:blipFill>
          <a:blip r:embed="rId2"/>
          <a:stretch/>
        </p:blipFill>
        <p:spPr>
          <a:xfrm>
            <a:off x="1916280" y="1214280"/>
            <a:ext cx="72277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0" y="0"/>
            <a:ext cx="9993240" cy="7446960"/>
          </a:xfrm>
          <a:prstGeom prst="rect">
            <a:avLst/>
          </a:prstGeom>
          <a:ln w="0">
            <a:noFill/>
          </a:ln>
        </p:spPr>
      </p:pic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ff"/>
                </a:solidFill>
                <a:latin typeface="Arial"/>
              </a:rPr>
              <a:t>Дом, где родился </a:t>
            </a:r>
            <a:br>
              <a:rPr sz="4400"/>
            </a:br>
            <a:r>
              <a:rPr b="1" lang="ru-RU" sz="4400" spc="-1" strike="noStrike">
                <a:solidFill>
                  <a:srgbClr val="0099ff"/>
                </a:solidFill>
                <a:latin typeface="Arial"/>
              </a:rPr>
              <a:t>И. С. Бах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1896" name="Picture 7" descr="bahdom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52480" y="1639800"/>
            <a:ext cx="7391520" cy="521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7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0" y="0"/>
            <a:ext cx="9993240" cy="7446960"/>
          </a:xfrm>
          <a:prstGeom prst="rect">
            <a:avLst/>
          </a:prstGeom>
          <a:ln w="0">
            <a:noFill/>
          </a:ln>
        </p:spPr>
      </p:pic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143680" y="356760"/>
            <a:ext cx="43574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ff"/>
                </a:solidFill>
                <a:latin typeface="Arial"/>
              </a:rPr>
              <a:t>Церковь Святого Фомы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1899" name="Picture 6" descr="22022d6427268ffe8dd2b91ce1502b5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571760" y="571680"/>
            <a:ext cx="3552840" cy="585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0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0" y="0"/>
            <a:ext cx="9993240" cy="7446960"/>
          </a:xfrm>
          <a:prstGeom prst="rect">
            <a:avLst/>
          </a:prstGeom>
          <a:ln w="0">
            <a:noFill/>
          </a:ln>
        </p:spPr>
      </p:pic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ff"/>
                </a:solidFill>
                <a:latin typeface="Arial"/>
              </a:rPr>
              <a:t>ОРГАН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1902" name="Picture 6" descr="331226_640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581120" y="1500120"/>
            <a:ext cx="7562880" cy="567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3" name="Picture 2" descr="C:\Documents and Settings\Admin\Рабочий стол\3-с.jpg"/>
          <p:cNvPicPr/>
          <p:nvPr/>
        </p:nvPicPr>
        <p:blipFill>
          <a:blip r:embed="rId1"/>
          <a:stretch/>
        </p:blipFill>
        <p:spPr>
          <a:xfrm>
            <a:off x="0" y="0"/>
            <a:ext cx="9993240" cy="7446960"/>
          </a:xfrm>
          <a:prstGeom prst="rect">
            <a:avLst/>
          </a:prstGeom>
          <a:ln w="0">
            <a:noFill/>
          </a:ln>
        </p:spPr>
      </p:pic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786280" y="503280"/>
            <a:ext cx="3657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ff"/>
                </a:solidFill>
                <a:latin typeface="Arial"/>
              </a:rPr>
              <a:t>Бах за органом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1905" name="Picture 7" descr="45083439 - копия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00120" y="500040"/>
            <a:ext cx="4300560" cy="595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8-04-29T03:42:46Z</dcterms:modified>
  <cp:revision>76</cp:revision>
  <dc:subject/>
  <dc:title>Слайд 1</dc:title>
</cp:coreProperties>
</file>