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30.png" ContentType="image/png"/>
  <Override PartName="/ppt/media/image29.jpeg" ContentType="image/jpeg"/>
  <Override PartName="/ppt/media/image8.jpeg" ContentType="image/jpeg"/>
  <Override PartName="/ppt/media/image38.png" ContentType="image/png"/>
  <Override PartName="/ppt/media/image40.png" ContentType="image/png"/>
  <Override PartName="/ppt/media/image5.png" ContentType="image/png"/>
  <Override PartName="/ppt/media/image35.png" ContentType="image/png"/>
  <Override PartName="/ppt/media/image7.jpeg" ContentType="image/jpeg"/>
  <Override PartName="/ppt/media/image28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6.png" ContentType="image/png"/>
  <Override PartName="/ppt/media/image6.jpeg" ContentType="image/jpeg"/>
  <Override PartName="/ppt/media/image13.png" ContentType="image/png"/>
  <Override PartName="/ppt/media/image37.png" ContentType="image/png"/>
  <Override PartName="/ppt/media/image3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10.png" ContentType="image/png"/>
  <Override PartName="/ppt/media/image1.jpeg" ContentType="image/jpe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6C7-8DBE-4D94-B27B-BF4FA643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9492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C04-355A-4F52-A0C6-B8350D9A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829-1BD5-47DD-B7AC-57951322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95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1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95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1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F26-CE56-4E2F-A3D7-64748A7C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CB32-A52E-4BC6-9BB3-80D75C9D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75FA-4CA4-4CCA-8B63-D3B79E54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7EA1-C73A-43C1-88B8-A13D8075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11EE-1E19-4581-A889-0F8584DE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781D-2F7D-4C82-A3E8-D32B8CB1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26920" y="764640"/>
            <a:ext cx="7490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CF4E-1770-4F0F-9785-371A0B2B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8C5E-061E-450A-97D4-6D4B152C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75E-A910-4692-B0A1-C29DFA2F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C18C-70D9-476A-89D8-19C08250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7566-F8DE-4B3C-B395-5506EEC6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26920" y="399492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4208-A05A-43F2-BF4C-2425C098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0C94-B59D-41A0-959E-75C486EB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95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1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269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95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1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DA89-756E-4D13-B437-9AF99DB3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4451-8041-4AF9-BEB4-CFE2AC00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A8EB4-3930-4D56-978F-3EE7C31F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D055-5206-46DA-9200-DA75AC68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6435-066B-46D0-88DD-7F26D532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6A0A8-BB3E-485A-85E7-D68ECCA1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70F-CD1C-444C-95EF-1D22A37D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26920" y="764640"/>
            <a:ext cx="7490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624E-7B6A-47DF-A3C5-E652C9BA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EC59A-E916-46E0-90A1-9AB9ECC5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524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EDD2-84A2-40D1-A4B7-15EFE509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145A3-246A-497C-820B-6A665678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26920" y="399492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57625-EE97-4E2D-849A-5DD6FC18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524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14A2-D56D-44C0-A577-5FBD2518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95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921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269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595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921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092D-AA77-4680-87AB-16D8327F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1CC88-EFA6-40F1-AA28-717AFBFC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66960-B800-4C42-9C4B-FCFD5801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BDA9A-8DE2-4288-BC6B-1398BF20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EAE-35E0-455F-BD0F-A608AAAE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37DDD-964E-4B07-BD74-CD16F68D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C22D-4668-45EA-8078-85EF03A0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6920" y="764640"/>
            <a:ext cx="7490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C3AF9-E061-4914-8CC3-956776CB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F74A5-66B0-40D8-AB0B-FE7F5113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524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42E7C-CF3E-48F6-8BBB-E1708246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98612-D0C7-4A33-A459-E53562B0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6920" y="399492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81130-D05C-44C7-9C58-451E1336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524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D5FFA-B926-4C24-A7C7-3E961A0C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595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921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69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595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921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CD566-279C-4815-B92F-DFDAA3A4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C4309-943D-4486-8C10-4185D50E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CFE-C358-4156-914C-BB8E4F15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9C452-DA19-4CC5-A66A-2693D67B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C23B3-B767-4218-B61F-98054618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8C59B-E958-4B0A-9CE6-5E04209E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C8544-77A1-4615-B6A3-BCBAF1A4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26920" y="764640"/>
            <a:ext cx="7490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C6AED-E82B-4613-BD40-8CF9EADC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D8039-4320-4804-95F7-7FF7E19A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524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ABE9-CB06-43BE-97F7-B78855B0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E8E63-0244-4458-9B8C-782374A3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26920" y="399492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B647B-A800-4DDA-8D28-97E2946A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524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D0A82-8DF3-4DA1-ABDB-1E981F3C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764640"/>
            <a:ext cx="7490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838-9A07-44D9-B9FA-3E88EB85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595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892120" y="170028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269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595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892120" y="3994920"/>
            <a:ext cx="2411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20CDA-E25E-46F8-BBFE-BA660CAA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591-C1ED-4486-BC5B-7C572E26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399492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599-6650-424E-BF0C-1DB10CE2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700280"/>
            <a:ext cx="3655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94920"/>
            <a:ext cx="74901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A74-F5F0-4DC3-BFE7-44DAB944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F601-D06C-47F9-8F0A-B5ACC683C4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291B-12A8-438B-AA9D-76A634DE3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1936-79F9-4DD0-89D7-BE7E42D04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F625-01C3-43F6-8F1C-0904E031BF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597B-255E-464C-992B-2CA5A7ED5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744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cc"/>
                </a:solidFill>
                <a:latin typeface="Century"/>
              </a:rPr>
              <a:t>Урок-фантазия</a:t>
            </a:r>
            <a:endParaRPr b="0" lang="en-US" sz="60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26920" y="3357720"/>
            <a:ext cx="7490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убова Надежда Владимиров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"/>
              </a:rPr>
              <a:t>Условные знаки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7960" y="1699920"/>
            <a:ext cx="366876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гнуть по направлению к себе. Сгиб «долин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7960" y="3971880"/>
            <a:ext cx="3668760" cy="21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гнуть по направлению от себя. Сгиб «гор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4" descr="Безымянный"/>
          <p:cNvPicPr/>
          <p:nvPr/>
        </p:nvPicPr>
        <p:blipFill>
          <a:blip r:embed="rId3"/>
          <a:stretch/>
        </p:blipFill>
        <p:spPr>
          <a:xfrm>
            <a:off x="826920" y="1865160"/>
            <a:ext cx="3668760" cy="1789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Безымянный3"/>
          <p:cNvPicPr/>
          <p:nvPr/>
        </p:nvPicPr>
        <p:blipFill>
          <a:blip r:embed="rId4"/>
          <a:stretch/>
        </p:blipFill>
        <p:spPr>
          <a:xfrm>
            <a:off x="860400" y="4255920"/>
            <a:ext cx="360036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"/>
              </a:rPr>
              <a:t>Условные знаки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7960" y="1699920"/>
            <a:ext cx="366876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гнуть угол внутр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7960" y="3971880"/>
            <a:ext cx="3668760" cy="21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гнуть угол наруж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15" descr="Безымянный"/>
          <p:cNvPicPr/>
          <p:nvPr/>
        </p:nvPicPr>
        <p:blipFill>
          <a:blip r:embed="rId3"/>
          <a:stretch/>
        </p:blipFill>
        <p:spPr>
          <a:xfrm>
            <a:off x="826920" y="1865160"/>
            <a:ext cx="3668760" cy="1789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ysl7"/>
          <p:cNvPicPr/>
          <p:nvPr/>
        </p:nvPicPr>
        <p:blipFill>
          <a:blip r:embed="rId4"/>
          <a:stretch/>
        </p:blipFill>
        <p:spPr>
          <a:xfrm>
            <a:off x="836640" y="4084560"/>
            <a:ext cx="36478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"/>
              </a:rPr>
              <a:t>Условные знаки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pic>
        <p:nvPicPr>
          <p:cNvPr id="245" name="Picture 33" descr="Безымянныйн"/>
          <p:cNvPicPr/>
          <p:nvPr/>
        </p:nvPicPr>
        <p:blipFill>
          <a:blip r:embed="rId1"/>
          <a:stretch/>
        </p:blipFill>
        <p:spPr>
          <a:xfrm>
            <a:off x="838080" y="1700280"/>
            <a:ext cx="7466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"/>
              </a:rPr>
              <a:t>Методическая литература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pic>
        <p:nvPicPr>
          <p:cNvPr id="247" name="Picture 6" descr="IMG_4420 (копия)"/>
          <p:cNvPicPr/>
          <p:nvPr/>
        </p:nvPicPr>
        <p:blipFill>
          <a:blip r:embed="rId1"/>
          <a:stretch/>
        </p:blipFill>
        <p:spPr>
          <a:xfrm>
            <a:off x="1273320" y="1700280"/>
            <a:ext cx="6595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entury"/>
              </a:rPr>
              <a:t>Критерии оценивания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7488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5» - работу выполняли совместно все члены группы. Проект соответствует заявленной теме, выполнен аккуратно и красив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4» - работу выполняли совместно все члены группы. Проект соответствует заявленной теме, выполнен с небольшими недочет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3» - работу выполняли не все члены группы. Проект соответствует заявленной теме, выполнен с недочета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 rot="21379800">
            <a:off x="1176120" y="1341000"/>
            <a:ext cx="45399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entury"/>
              </a:rPr>
              <a:t>Регламент</a:t>
            </a:r>
            <a:endParaRPr b="0" lang="en-US" sz="5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843280" y="4292280"/>
            <a:ext cx="5113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8-10 минут каждый самостоятельно выполняет свою часть проек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5-7 минут соединяем отдельные детали в один общий проект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entury"/>
              </a:rPr>
              <a:t>Технологии складывания</a:t>
            </a:r>
            <a:br>
              <a:rPr sz="4000"/>
            </a:br>
            <a:r>
              <a:rPr b="0" lang="ru-RU" sz="4000" spc="-1" strike="noStrike">
                <a:solidFill>
                  <a:srgbClr val="6600cc"/>
                </a:solidFill>
                <a:latin typeface="Century"/>
              </a:rPr>
              <a:t>бабочка</a:t>
            </a:r>
            <a:endParaRPr b="0" lang="en-US" sz="4000" spc="-1" strike="noStrike">
              <a:solidFill>
                <a:srgbClr val="6600cc"/>
              </a:solidFill>
              <a:latin typeface="Century"/>
            </a:endParaRPr>
          </a:p>
        </p:txBody>
      </p:sp>
      <p:pic>
        <p:nvPicPr>
          <p:cNvPr id="253" name="Picture 10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4901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entury"/>
              </a:rPr>
              <a:t>Технология складывания самолета</a:t>
            </a:r>
            <a:endParaRPr b="0" lang="en-US" sz="4000" spc="-1" strike="noStrike">
              <a:solidFill>
                <a:srgbClr val="6600cc"/>
              </a:solidFill>
              <a:latin typeface="Century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345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entury"/>
              </a:rPr>
              <a:t>Технология складывания рыбки</a:t>
            </a:r>
            <a:endParaRPr b="0" lang="en-US" sz="4000" spc="-1" strike="noStrike">
              <a:solidFill>
                <a:srgbClr val="6600cc"/>
              </a:solidFill>
              <a:latin typeface="Century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entury"/>
              </a:rPr>
              <a:t>Технология складывания тюльпана</a:t>
            </a:r>
            <a:endParaRPr b="0" lang="en-US" sz="4000" spc="-1" strike="noStrike">
              <a:solidFill>
                <a:srgbClr val="6600cc"/>
              </a:solidFill>
              <a:latin typeface="Century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2010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ff3300"/>
                </a:solidFill>
                <a:latin typeface="Century"/>
              </a:rPr>
              <a:t>Оригами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(яп., букв.: «сложенная бумага») —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древнее искусство складывания фигурок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из бумаги. Искусство оригами своими корнями уходит в древний Кита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где и была открыта бумага.</a:t>
            </a:r>
            <a:br>
              <a:rPr sz="4000"/>
            </a:br>
            <a:endParaRPr b="0" lang="en-US" sz="2800" spc="-1" strike="noStrike">
              <a:solidFill>
                <a:srgbClr val="6600cc"/>
              </a:solidFill>
              <a:latin typeface="Century"/>
            </a:endParaRPr>
          </a:p>
        </p:txBody>
      </p:sp>
      <p:pic>
        <p:nvPicPr>
          <p:cNvPr id="208" name="Picture 8" descr=""/>
          <p:cNvPicPr/>
          <p:nvPr/>
        </p:nvPicPr>
        <p:blipFill>
          <a:blip r:embed="rId1"/>
          <a:stretch/>
        </p:blipFill>
        <p:spPr>
          <a:xfrm rot="1903800">
            <a:off x="6227640" y="3716280"/>
            <a:ext cx="2382840" cy="158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4211640" y="4724280"/>
            <a:ext cx="1557360" cy="1257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2087pic"/>
          <p:cNvPicPr/>
          <p:nvPr/>
        </p:nvPicPr>
        <p:blipFill>
          <a:blip r:embed="rId3"/>
          <a:stretch/>
        </p:blipFill>
        <p:spPr>
          <a:xfrm rot="19031400">
            <a:off x="1695600" y="3671640"/>
            <a:ext cx="16459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entury"/>
              </a:rPr>
              <a:t>Технология складывания звездочки</a:t>
            </a:r>
            <a:endParaRPr b="0" lang="en-US" sz="4000" spc="-1" strike="noStrike">
              <a:solidFill>
                <a:srgbClr val="6600cc"/>
              </a:solidFill>
              <a:latin typeface="Century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490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entury"/>
              </a:rPr>
              <a:t>На суше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entury"/>
              </a:rPr>
              <a:t>В космосе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entury"/>
              </a:rPr>
              <a:t>В воде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"/>
              </a:rPr>
              <a:t>Изготовление поделок из бумаги: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6920" y="2276640"/>
            <a:ext cx="74901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увлекает школьник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будит воображе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приносит радость детям, так как в руках ребенка бумага оживает и за считанные минуты превращается в цветы, животных, птиц, поражающих правдоподобием своих форм и замысловатостью силуэт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развивает креативнос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5"/>
          <p:cNvSpPr txBox="1"/>
          <p:nvPr/>
        </p:nvSpPr>
        <p:spPr>
          <a:xfrm>
            <a:off x="971640" y="2133720"/>
            <a:ext cx="7345440" cy="16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entury"/>
              </a:rPr>
              <a:t>Цель урока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креплять знания и умение учащихся по технике оригами. Формировать умение учащихся по разработке и презентации проектов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коробка"/>
          <p:cNvPicPr/>
          <p:nvPr/>
        </p:nvPicPr>
        <p:blipFill>
          <a:blip r:embed="rId2"/>
          <a:stretch/>
        </p:blipFill>
        <p:spPr>
          <a:xfrm rot="20893200">
            <a:off x="1547280" y="4723920"/>
            <a:ext cx="1646280" cy="1700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 rot="1607400">
            <a:off x="6443640" y="691920"/>
            <a:ext cx="2413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entury"/>
              </a:rPr>
              <a:t>Темы проектов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1группа – На суше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 группа – В космосе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3 группа – В воде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Лягушка (изображение)"/>
          <p:cNvPicPr/>
          <p:nvPr/>
        </p:nvPicPr>
        <p:blipFill>
          <a:blip r:embed="rId4"/>
          <a:stretch/>
        </p:blipFill>
        <p:spPr>
          <a:xfrm>
            <a:off x="2556000" y="4292640"/>
            <a:ext cx="2195280" cy="1947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на сайт"/>
          <p:cNvPicPr/>
          <p:nvPr/>
        </p:nvPicPr>
        <p:blipFill>
          <a:blip r:embed="rId5"/>
          <a:stretch/>
        </p:blipFill>
        <p:spPr>
          <a:xfrm>
            <a:off x="6443640" y="3429000"/>
            <a:ext cx="1866960" cy="2666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1094pic"/>
          <p:cNvPicPr/>
          <p:nvPr/>
        </p:nvPicPr>
        <p:blipFill>
          <a:blip r:embed="rId6"/>
          <a:stretch/>
        </p:blipFill>
        <p:spPr>
          <a:xfrm>
            <a:off x="6778800" y="907920"/>
            <a:ext cx="2365200" cy="15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Century"/>
              </a:rPr>
              <a:t>1 группа. Тема: «На суше»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Century"/>
              </a:rPr>
              <a:t>Цель: разработать проект на основе техники оригами - фантазия на суше</a:t>
            </a:r>
            <a:r>
              <a:rPr b="0" lang="ru-RU" sz="4000" spc="-1" strike="noStrike">
                <a:solidFill>
                  <a:srgbClr val="6600cc"/>
                </a:solidFill>
                <a:latin typeface="Century"/>
              </a:rPr>
              <a:t> </a:t>
            </a:r>
            <a:endParaRPr b="0" lang="en-US" sz="4000" spc="-1" strike="noStrike">
              <a:solidFill>
                <a:srgbClr val="6600cc"/>
              </a:solidFill>
              <a:latin typeface="Century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5280" y="2708280"/>
            <a:ext cx="352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504d"/>
                </a:solidFill>
                <a:latin typeface="Constantia"/>
              </a:rPr>
              <a:t>2 группа. Тема «В космосе»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504d"/>
                </a:solidFill>
                <a:latin typeface="Constantia"/>
              </a:rPr>
              <a:t>Цель: разработать проект на основе техники оригами - фантазия в космосе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355640" y="2708280"/>
            <a:ext cx="3816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Constantia"/>
              </a:rPr>
              <a:t>3 группа. Тема «В воде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Constantia"/>
              </a:rPr>
              <a:t>Цель: разработать проект на основе техники оригами - фантазия в воде</a:t>
            </a:r>
            <a:r>
              <a:rPr b="0" lang="ru-RU" sz="2800" spc="-1" strike="noStrike">
                <a:solidFill>
                  <a:srgbClr val="3399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entury"/>
              </a:rPr>
              <a:t>Оборудование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pic>
        <p:nvPicPr>
          <p:cNvPr id="225" name="Рисунок 5" descr="T04534-DUR1771.jpg"/>
          <p:cNvPicPr/>
          <p:nvPr/>
        </p:nvPicPr>
        <p:blipFill>
          <a:blip r:embed="rId1"/>
          <a:stretch/>
        </p:blipFill>
        <p:spPr>
          <a:xfrm>
            <a:off x="5076720" y="3860640"/>
            <a:ext cx="2144880" cy="2144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5435640" y="1484280"/>
            <a:ext cx="2314440" cy="1933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1805040" cy="1805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"/>
          <p:cNvPicPr/>
          <p:nvPr/>
        </p:nvPicPr>
        <p:blipFill>
          <a:blip r:embed="rId4"/>
          <a:stretch/>
        </p:blipFill>
        <p:spPr>
          <a:xfrm>
            <a:off x="298764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"/>
          <p:cNvPicPr/>
          <p:nvPr/>
        </p:nvPicPr>
        <p:blipFill>
          <a:blip r:embed="rId5"/>
          <a:stretch/>
        </p:blipFill>
        <p:spPr>
          <a:xfrm>
            <a:off x="1403280" y="4005360"/>
            <a:ext cx="23702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entury"/>
              </a:rPr>
              <a:t>Техника безопасности</a:t>
            </a:r>
            <a:endParaRPr b="0" lang="en-US" sz="4400" spc="-1" strike="noStrike">
              <a:solidFill>
                <a:srgbClr val="6600cc"/>
              </a:solidFill>
              <a:latin typeface="Century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10:23:41Z</dcterms:created>
  <dc:creator>ирина</dc:creator>
  <dc:description/>
  <dc:language>en-US</dc:language>
  <cp:lastModifiedBy>Пользователь</cp:lastModifiedBy>
  <dcterms:modified xsi:type="dcterms:W3CDTF">2022-11-29T07:34:08Z</dcterms:modified>
  <cp:revision>8</cp:revision>
  <dc:subject/>
  <dc:title>Заголовок слайда</dc:title>
</cp:coreProperties>
</file>