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AD08-9E12-4517-9DD0-63A1BA94D1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BDB7-05AB-4902-9927-1B0B5C2C66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662-C29D-404F-8EE2-9E21C97E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F0B-1782-4FA3-B7EE-B0929906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630-1C2C-4530-8DBC-FFBA7DC7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628-6424-4976-9AEE-60CCC0AE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D6A-D0D1-4E2E-81DC-9B57EC88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E3E-C316-40A3-A83C-91184F26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12C-CB14-401F-8598-9EFF8470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1A5-40AF-4565-BF3E-AFA3B79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2C7-2364-40E0-8947-663C010C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C58-4BCC-41E8-AEBD-5292C493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2A4-8FC9-4C7B-9431-0F10F42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9A0-DB6B-4C14-8711-2A3FB46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612C-9C20-4B0B-A340-484C69B1B4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15372_34360"/>
          <p:cNvPicPr/>
          <p:nvPr/>
        </p:nvPicPr>
        <p:blipFill>
          <a:blip r:embed="rId1"/>
          <a:stretch/>
        </p:blipFill>
        <p:spPr>
          <a:xfrm rot="780600">
            <a:off x="5364000" y="3499920"/>
            <a:ext cx="317520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9" name="Text Box 4"/>
          <p:cNvSpPr/>
          <p:nvPr/>
        </p:nvSpPr>
        <p:spPr>
          <a:xfrm>
            <a:off x="-684360" y="649440"/>
            <a:ext cx="9828360" cy="14770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First steps in chosing a future j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8"/>
          <p:cNvSpPr/>
          <p:nvPr/>
        </p:nvSpPr>
        <p:spPr>
          <a:xfrm>
            <a:off x="324000" y="333360"/>
            <a:ext cx="0" cy="604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9"/>
          <p:cNvSpPr/>
          <p:nvPr/>
        </p:nvSpPr>
        <p:spPr>
          <a:xfrm>
            <a:off x="324000" y="6381720"/>
            <a:ext cx="84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8820000" y="333000"/>
            <a:ext cx="0" cy="604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11"/>
          <p:cNvSpPr/>
          <p:nvPr/>
        </p:nvSpPr>
        <p:spPr>
          <a:xfrm flipH="1">
            <a:off x="324000" y="333360"/>
            <a:ext cx="84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14" descr="0579061058"/>
          <p:cNvPicPr/>
          <p:nvPr/>
        </p:nvPicPr>
        <p:blipFill>
          <a:blip r:embed="rId2"/>
          <a:stretch/>
        </p:blipFill>
        <p:spPr>
          <a:xfrm rot="21145800">
            <a:off x="4284720" y="3428640"/>
            <a:ext cx="1893960" cy="2521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" name="Picture 13" descr="200801pp"/>
          <p:cNvPicPr/>
          <p:nvPr/>
        </p:nvPicPr>
        <p:blipFill>
          <a:blip r:embed="rId3"/>
          <a:stretch/>
        </p:blipFill>
        <p:spPr>
          <a:xfrm rot="1012800">
            <a:off x="2050560" y="3500280"/>
            <a:ext cx="2381400" cy="22291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" name="Picture 12" descr="0867"/>
          <p:cNvPicPr/>
          <p:nvPr/>
        </p:nvPicPr>
        <p:blipFill>
          <a:blip r:embed="rId4"/>
          <a:stretch/>
        </p:blipFill>
        <p:spPr>
          <a:xfrm rot="20674200">
            <a:off x="755640" y="3573000"/>
            <a:ext cx="2017800" cy="24685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41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9" descr=""/>
          <p:cNvPicPr/>
          <p:nvPr/>
        </p:nvPicPr>
        <p:blipFill>
          <a:blip r:embed="rId1"/>
          <a:stretch/>
        </p:blipFill>
        <p:spPr>
          <a:xfrm>
            <a:off x="0" y="22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"/>
          <p:cNvPicPr/>
          <p:nvPr/>
        </p:nvPicPr>
        <p:blipFill>
          <a:blip r:embed="rId2"/>
          <a:stretch/>
        </p:blipFill>
        <p:spPr>
          <a:xfrm>
            <a:off x="3203640" y="22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"/>
          <p:cNvPicPr/>
          <p:nvPr/>
        </p:nvPicPr>
        <p:blipFill>
          <a:blip r:embed="rId3"/>
          <a:stretch/>
        </p:blipFill>
        <p:spPr>
          <a:xfrm>
            <a:off x="6407280" y="-302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"/>
          <p:cNvPicPr/>
          <p:nvPr/>
        </p:nvPicPr>
        <p:blipFill>
          <a:blip r:embed="rId4"/>
          <a:stretch/>
        </p:blipFill>
        <p:spPr>
          <a:xfrm>
            <a:off x="0" y="2133720"/>
            <a:ext cx="2895480" cy="1571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"/>
          <p:cNvPicPr/>
          <p:nvPr/>
        </p:nvPicPr>
        <p:blipFill>
          <a:blip r:embed="rId5"/>
          <a:stretch/>
        </p:blipFill>
        <p:spPr>
          <a:xfrm>
            <a:off x="3227400" y="2085840"/>
            <a:ext cx="282888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4" descr=""/>
          <p:cNvPicPr/>
          <p:nvPr/>
        </p:nvPicPr>
        <p:blipFill>
          <a:blip r:embed="rId6"/>
          <a:stretch/>
        </p:blipFill>
        <p:spPr>
          <a:xfrm>
            <a:off x="971640" y="422604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5" descr=""/>
          <p:cNvPicPr/>
          <p:nvPr/>
        </p:nvPicPr>
        <p:blipFill>
          <a:blip r:embed="rId7"/>
          <a:stretch/>
        </p:blipFill>
        <p:spPr>
          <a:xfrm>
            <a:off x="6407280" y="204804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6" descr=""/>
          <p:cNvPicPr/>
          <p:nvPr/>
        </p:nvPicPr>
        <p:blipFill>
          <a:blip r:embed="rId8"/>
          <a:stretch/>
        </p:blipFill>
        <p:spPr>
          <a:xfrm>
            <a:off x="5508720" y="4202280"/>
            <a:ext cx="2876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d 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Suf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ar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er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or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ess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ist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eer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c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Beggar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farmer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doctor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actress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therapist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engineer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beautic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Compo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man (woman)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maker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player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worker</a:t>
            </a:r>
            <a:r>
              <a:rPr b="0" lang="ru-RU" sz="3200" spc="-1" strike="noStrike">
                <a:solidFill>
                  <a:srgbClr val="004e4c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-sm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Mailman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shoemaker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blacksmith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chess-player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iron</a:t>
            </a:r>
            <a:r>
              <a:rPr b="0" lang="ru-RU" sz="3200" spc="-1" strike="noStrike">
                <a:solidFill>
                  <a:srgbClr val="2028ce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2028ce"/>
                </a:solidFill>
                <a:latin typeface="Tahoma"/>
              </a:rPr>
              <a:t>wor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3880" y="405000"/>
            <a:ext cx="78868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ahoma"/>
              </a:rPr>
              <a:t>Personal adjectiv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1483920"/>
            <a:ext cx="78868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ahoma"/>
              </a:rPr>
              <a:t>sociable, creative, patient, brave, polite, active, attentive, confident , determined, fair, imaginative, responsible, tolerant, understanding, careful, courageous, intelligent, outgoing, hardworking, energetic, skillf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0" name="ex. 5, p. 49.mp3" descr=""/>
          <p:cNvPicPr/>
          <p:nvPr/>
        </p:nvPicPr>
        <p:blipFill>
          <a:blip r:embed="rId1"/>
          <a:stretch/>
        </p:blipFill>
        <p:spPr>
          <a:xfrm>
            <a:off x="322200" y="6100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1600200" y="3284640"/>
            <a:ext cx="5943600" cy="288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3"/>
          <a:stretch/>
        </p:blipFill>
        <p:spPr>
          <a:xfrm>
            <a:off x="1752480" y="3436920"/>
            <a:ext cx="5943600" cy="289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4"/>
          <a:stretch/>
        </p:blipFill>
        <p:spPr>
          <a:xfrm>
            <a:off x="755640" y="692280"/>
            <a:ext cx="7913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179280" y="549360"/>
            <a:ext cx="8498160" cy="56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If your score is between 5-45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Tahoma"/>
              </a:rPr>
              <a:t>You enjoy working with people and helping them. You are also a practical person. One of these careers will suit you: teacher, doctor, nurse, social worker, psychologist, zoo keeper, policema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If your score is between 45-9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Tahoma"/>
              </a:rPr>
              <a:t>You like to work quietly and concentrate on the task. You prefer to work</a:t>
            </a:r>
            <a:r>
              <a:rPr b="0" i="1" lang="ru-RU" sz="2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Tahoma"/>
              </a:rPr>
              <a:t>on your own.</a:t>
            </a:r>
            <a:r>
              <a:rPr b="1" i="1" lang="en-US" sz="2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Tahoma"/>
              </a:rPr>
              <a:t>One of these careers</a:t>
            </a:r>
            <a:r>
              <a:rPr b="0" i="1" lang="ru-RU" sz="2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Tahoma"/>
              </a:rPr>
              <a:t>will suit you: laboratory technician ,librarian, artist, bank clerk, hair-dresser, architec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If your score is between 90-135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Tahoma"/>
              </a:rPr>
              <a:t>You like to be very busy. You like to be with people and you like organizing things for them. One of the following careers will suit you: travel</a:t>
            </a:r>
            <a:r>
              <a:rPr b="0" i="1" lang="ru-RU" sz="2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Tahoma"/>
              </a:rPr>
              <a:t>agent, journalist, hotel manager, salesperson, firema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528480" y="304920"/>
            <a:ext cx="80870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050920" y="366840"/>
            <a:ext cx="8498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ake the Right Choice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-828720" y="606600"/>
            <a:ext cx="8497800" cy="3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1185377015"/>
          <p:cNvPicPr/>
          <p:nvPr/>
        </p:nvPicPr>
        <p:blipFill>
          <a:blip r:embed="rId1"/>
          <a:stretch/>
        </p:blipFill>
        <p:spPr>
          <a:xfrm>
            <a:off x="2911320" y="1878120"/>
            <a:ext cx="5910480" cy="4432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9" name="Picture 5" descr="20071019_10_3"/>
          <p:cNvPicPr/>
          <p:nvPr/>
        </p:nvPicPr>
        <p:blipFill>
          <a:blip r:embed="rId2"/>
          <a:stretch/>
        </p:blipFill>
        <p:spPr>
          <a:xfrm>
            <a:off x="468360" y="1916280"/>
            <a:ext cx="1923840" cy="1247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0" name="Picture 6" descr="poisk"/>
          <p:cNvPicPr/>
          <p:nvPr/>
        </p:nvPicPr>
        <p:blipFill>
          <a:blip r:embed="rId3"/>
          <a:srcRect l="16803" t="17428" r="13496" b="5038"/>
          <a:stretch/>
        </p:blipFill>
        <p:spPr>
          <a:xfrm>
            <a:off x="468360" y="3429000"/>
            <a:ext cx="1942920" cy="2881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8:43:18Z</dcterms:created>
  <dc:creator>GEG</dc:creator>
  <dc:description/>
  <dc:language>en-US</dc:language>
  <cp:lastModifiedBy>Учетная запись Майкрософт</cp:lastModifiedBy>
  <dcterms:modified xsi:type="dcterms:W3CDTF">2022-11-20T18:12:30Z</dcterms:modified>
  <cp:revision>61</cp:revision>
  <dc:subject/>
  <dc:title>Слайд 1</dc:title>
</cp:coreProperties>
</file>