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5EC9-3844-4563-82F8-218CF819A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а урока: «Сказочные образы в творчеств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ма урока: «Сказочные образы в творчестве русских композиторов»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фоническая миниатюра «Баба-яг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 Бабы-Я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ба-Я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фоническая миниатюра «Волшебное озеро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фоническая миниатюра «Кикимо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 Киким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лай Андреевич Римский-Корса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ш интегрированный урок подошёл к конц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 «Снегур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я Снегуроч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 «Снегуроч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лий Константинович Л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лий Константинович Л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казочные картин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A5A-2CA9-4D5F-828F-69D00075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44D-57F5-4229-AD43-6B871DC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C68-8A8C-4E00-B9A9-D6B45570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60F6-A576-44D0-80A2-11E5701D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728-8429-4A48-B62B-73091DC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180-B347-4594-A344-597A8D3C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157-F858-4883-A4DD-C05B010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7FB-561F-4C64-A637-4F3092C1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463F-F7EF-4BE7-972B-1D326450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301-3490-41F4-A317-E231094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594-CA3C-4BC7-A726-B7FDECFB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A31-1533-4A2C-B408-13B2CD1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1222-C52F-40B5-A920-51EF3FF8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4120" y="1370520"/>
            <a:ext cx="71697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Тема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«Сказочные образы в творчест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усских композитор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6233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ба-Яг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«Баба-яга» Лядов"/>
          <p:cNvPicPr/>
          <p:nvPr/>
        </p:nvPicPr>
        <p:blipFill>
          <a:blip r:embed="rId1"/>
          <a:stretch/>
        </p:blipFill>
        <p:spPr>
          <a:xfrm>
            <a:off x="2514600" y="2286000"/>
            <a:ext cx="40957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аба-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6233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«Волшебное озеро» Лядов"/>
          <p:cNvPicPr/>
          <p:nvPr/>
        </p:nvPicPr>
        <p:blipFill>
          <a:blip r:embed="rId1"/>
          <a:stretch/>
        </p:blipFill>
        <p:spPr>
          <a:xfrm>
            <a:off x="2523960" y="2238480"/>
            <a:ext cx="40960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лшебное оз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23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«Кикимора» Лядов"/>
          <p:cNvPicPr/>
          <p:nvPr/>
        </p:nvPicPr>
        <p:blipFill>
          <a:blip r:embed="rId1"/>
          <a:stretch/>
        </p:blipFill>
        <p:spPr>
          <a:xfrm>
            <a:off x="2057400" y="2286000"/>
            <a:ext cx="5334120" cy="36766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иким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62336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066920" cy="3047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иколай Андреевич 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имский-Корсак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2300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иколай Римский-Корса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06692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ера «Снегурочка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ия Снегуроч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438120" y="95400"/>
            <a:ext cx="100202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казочные картин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3T20:04:09Z</dcterms:created>
  <dc:creator>1й</dc:creator>
  <dc:description/>
  <dc:language>en-US</dc:language>
  <cp:lastModifiedBy>1й</cp:lastModifiedBy>
  <dcterms:modified xsi:type="dcterms:W3CDTF">2022-11-20T08:28:3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