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4.png" ContentType="image/png"/>
  <Override PartName="/ppt/media/image27.png" ContentType="image/png"/>
  <Override PartName="/ppt/media/image14.wmf" ContentType="image/x-wmf"/>
  <Override PartName="/ppt/media/image6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967-C557-4773-A65D-B9FF3790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E62-59FA-4A49-B3DC-60287C96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33D-47A0-47D6-B07C-61AD1708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35C-203C-4B23-AF82-E0095224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291B-AEAA-4D62-8B2D-AEBE3A03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D29C-CD6D-480F-BC87-C0BBC337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F52F-86FE-4816-8039-10D9491B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089A-2B9F-49C7-8C2A-28FB8AE8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C4B1-88A9-4462-A860-C01DDC93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624F-EB22-4B9B-9229-F80D336E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E848-A2AB-495B-BC39-BD899C6C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C03-188C-4D79-825C-6DEA771B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03D6-1FFF-43E2-8291-49F52CF9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BF91-AE0A-4428-AF5B-156B5E91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F7E9-6F6C-43CA-9FF6-E5B95304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CFD6-66FC-4B72-ABEF-52B2ED6A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9D89-0B3C-4A0B-8F63-1B2D66C8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389-A2F1-4A13-A231-AEE5D33A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28E-E6A6-436B-B742-F53A8EDF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BB5-C5E6-492D-9E3C-BA36463D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F2D-4EBA-4475-94DC-E612D0E2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DD5-90BC-4383-8EC5-8533B843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A7B-901C-4904-8DA3-F19C93A5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C2E-4B77-4A22-B711-6F359773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632C-A937-437D-A96A-8E86ED28DE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B81C-BEEA-4FAC-90A9-4A4A830518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mockbe.ru/upload/iblock/b15/blob.jpe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bmockbe.ru/upload/iblock/433/blob1.jpe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99640" y="5229360"/>
            <a:ext cx="741708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5905440" cy="2871720"/>
          </a:xfrm>
          <a:prstGeom prst="rect">
            <a:avLst/>
          </a:prstGeom>
          <a:ln w="19080">
            <a:solidFill>
              <a:srgbClr val="008ae8"/>
            </a:solidFill>
            <a:miter/>
          </a:ln>
        </p:spPr>
      </p:pic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Лимонад: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пить или не пить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78920" y="1600200"/>
            <a:ext cx="4248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</a:rPr>
              <a:t>Ортофосфорная кислота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Зарегистрирована в качестве пищевой добавки E338. Применяется как регулятор кислотности в газированных напитках, а также для снятия зубной эмали перед пломбированием зуб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427280" y="1600200"/>
            <a:ext cx="4716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</a:rPr>
              <a:t>Лимон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C6H8O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Кристаллическое вещество белого цвета, хорошо растворима в воде. Соли и эфиры лимонной кислоты называются цитра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Используется как пищевая добавка, регулятор кислотности и консервант   (E330—Е333), для производства шипучих напит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Объект 4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2376360" cy="16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ещества наносящие вред нашему здоровь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0808"/>
                </a:solidFill>
                <a:latin typeface="Times New Roman"/>
              </a:rPr>
              <a:t>Коды пищевых добавок, по воздействию на организ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Times New Roman"/>
              </a:rPr>
              <a:t>Запрещённые</a:t>
            </a:r>
            <a:r>
              <a:rPr b="0" lang="ru-RU" sz="2200" spc="-1" strike="noStrike">
                <a:solidFill>
                  <a:srgbClr val="080808"/>
                </a:solidFill>
                <a:latin typeface="Times New Roman"/>
              </a:rPr>
              <a:t> – Е103, Е105, Е111, Е121, Е123, Е125, Е126, Е130, Е152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Times New Roman"/>
              </a:rPr>
              <a:t>Опасные</a:t>
            </a:r>
            <a:r>
              <a:rPr b="0" lang="ru-RU" sz="2200" spc="-1" strike="noStrike">
                <a:solidFill>
                  <a:srgbClr val="080808"/>
                </a:solidFill>
                <a:latin typeface="Times New Roman"/>
              </a:rPr>
              <a:t> – Е102, Е110, Е120, Е124, Е127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Times New Roman"/>
              </a:rPr>
              <a:t>Подозрительные</a:t>
            </a:r>
            <a:r>
              <a:rPr b="0" lang="ru-RU" sz="2200" spc="-1" strike="noStrike">
                <a:solidFill>
                  <a:srgbClr val="080808"/>
                </a:solidFill>
                <a:latin typeface="Times New Roman"/>
              </a:rPr>
              <a:t> – Е104, Е122, Е141, Е150, Е171, Е173, Е180, Е241, Е477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Times New Roman"/>
              </a:rPr>
              <a:t>Ракообразующие</a:t>
            </a:r>
            <a:r>
              <a:rPr b="0" lang="ru-RU" sz="2200" spc="-1" strike="noStrike">
                <a:solidFill>
                  <a:srgbClr val="080808"/>
                </a:solidFill>
                <a:latin typeface="Times New Roman"/>
              </a:rPr>
              <a:t> – Е131, Е210-217 (</a:t>
            </a:r>
            <a:r>
              <a:rPr b="0" i="1" lang="ru-RU" sz="2200" spc="-1" strike="noStrike">
                <a:solidFill>
                  <a:srgbClr val="ff0000"/>
                </a:solidFill>
                <a:latin typeface="Times New Roman"/>
              </a:rPr>
              <a:t>211</a:t>
            </a:r>
            <a:r>
              <a:rPr b="0" lang="ru-RU" sz="2200" spc="-1" strike="noStrike">
                <a:solidFill>
                  <a:srgbClr val="080808"/>
                </a:solidFill>
                <a:latin typeface="Times New Roman"/>
              </a:rPr>
              <a:t>), Е240,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Е330, Е331</a:t>
            </a:r>
            <a:r>
              <a:rPr b="0" lang="ru-RU" sz="2200" spc="-1" strike="noStrike">
                <a:solidFill>
                  <a:srgbClr val="080808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Times New Roman"/>
              </a:rPr>
              <a:t>Вызывающие расстройство кишечника</a:t>
            </a:r>
            <a:r>
              <a:rPr b="0" lang="ru-RU" sz="2200" spc="-1" strike="noStrike">
                <a:solidFill>
                  <a:srgbClr val="080808"/>
                </a:solidFill>
                <a:latin typeface="Times New Roman"/>
              </a:rPr>
              <a:t> – Е221-226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Times New Roman"/>
              </a:rPr>
              <a:t>Вредные для кожи</a:t>
            </a:r>
            <a:r>
              <a:rPr b="0" lang="ru-RU" sz="2200" spc="-1" strike="noStrike">
                <a:solidFill>
                  <a:srgbClr val="080808"/>
                </a:solidFill>
                <a:latin typeface="Times New Roman"/>
              </a:rPr>
              <a:t> – Е230-232, Е23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Times New Roman"/>
              </a:rPr>
              <a:t>Вызывающие нарушение давления</a:t>
            </a:r>
            <a:r>
              <a:rPr b="0" lang="ru-RU" sz="2200" spc="-1" strike="noStrike">
                <a:solidFill>
                  <a:srgbClr val="080808"/>
                </a:solidFill>
                <a:latin typeface="Times New Roman"/>
              </a:rPr>
              <a:t> – Е250, Е25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Times New Roman"/>
              </a:rPr>
              <a:t>Провоцирующие появление сыпи</a:t>
            </a:r>
            <a:r>
              <a:rPr b="0" lang="ru-RU" sz="2200" spc="-1" strike="noStrike">
                <a:solidFill>
                  <a:srgbClr val="080808"/>
                </a:solidFill>
                <a:latin typeface="Times New Roman"/>
              </a:rPr>
              <a:t> – Е311, Е312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Times New Roman"/>
              </a:rPr>
              <a:t>Повышающие холестерин</a:t>
            </a:r>
            <a:r>
              <a:rPr b="0" lang="ru-RU" sz="2200" spc="-1" strike="noStrike">
                <a:solidFill>
                  <a:srgbClr val="080808"/>
                </a:solidFill>
                <a:latin typeface="Times New Roman"/>
              </a:rPr>
              <a:t> – Е320, Е32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80808"/>
                </a:solidFill>
                <a:latin typeface="Times New Roman"/>
              </a:rPr>
              <a:t>Вызывающие расстройство желудка</a:t>
            </a:r>
            <a:r>
              <a:rPr b="0" lang="ru-RU" sz="2200" spc="-1" strike="noStrike">
                <a:solidFill>
                  <a:srgbClr val="080808"/>
                </a:solidFill>
                <a:latin typeface="Times New Roman"/>
              </a:rPr>
              <a:t> – Е338-341, Е407, Е450, Е461-466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181160" y="2301840"/>
            <a:ext cx="2590920" cy="3121200"/>
          </a:xfrm>
          <a:prstGeom prst="rect">
            <a:avLst/>
          </a:prstGeom>
          <a:ln w="9360">
            <a:solidFill>
              <a:srgbClr val="008ae8"/>
            </a:solidFill>
            <a:miter/>
          </a:ln>
        </p:spPr>
      </p:pic>
      <p:pic>
        <p:nvPicPr>
          <p:cNvPr id="259" name="Рисунок 2" descr=""/>
          <p:cNvPicPr/>
          <p:nvPr/>
        </p:nvPicPr>
        <p:blipFill>
          <a:blip r:embed="rId2"/>
          <a:stretch/>
        </p:blipFill>
        <p:spPr>
          <a:xfrm rot="20775600">
            <a:off x="4140360" y="2923920"/>
            <a:ext cx="4647960" cy="2009520"/>
          </a:xfrm>
          <a:prstGeom prst="rect">
            <a:avLst/>
          </a:prstGeom>
          <a:ln w="9360">
            <a:solidFill>
              <a:srgbClr val="008ae8"/>
            </a:solidFill>
            <a:miter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монстрационные экспери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2663640" cy="2425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5076720" y="3719520"/>
            <a:ext cx="3197160" cy="22734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нение лимонада в бы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Проведен эксперимент - ржавые гвозди были помещены на несколько часов в колу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Rectangle 68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033640"/>
            <a:ext cx="3889440" cy="2178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3668760"/>
            <a:ext cx="4535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826920" y="2109960"/>
            <a:ext cx="7058160" cy="37335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лияние лимонадов на яичную скорлуп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50920" y="2254320"/>
            <a:ext cx="4752720" cy="2071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4287960" cy="24955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заимодействие лимонадов с кусочками фарш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395280" y="2651040"/>
            <a:ext cx="8424720" cy="24433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заимодействие лимонадов с кусочками масл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2749680" cy="3024000"/>
          </a:xfrm>
          <a:prstGeom prst="rect">
            <a:avLst/>
          </a:prstGeom>
          <a:ln w="9360">
            <a:solidFill>
              <a:srgbClr val="008ae8"/>
            </a:solidFill>
            <a:miter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3203640" y="3141720"/>
            <a:ext cx="2286000" cy="3122640"/>
          </a:xfrm>
          <a:prstGeom prst="rect">
            <a:avLst/>
          </a:prstGeom>
          <a:ln w="9360">
            <a:solidFill>
              <a:srgbClr val="008ae8"/>
            </a:solidFill>
            <a:miter/>
          </a:ln>
        </p:spPr>
      </p:pic>
      <p:pic>
        <p:nvPicPr>
          <p:cNvPr id="276" name="Picture 4" descr=""/>
          <p:cNvPicPr/>
          <p:nvPr/>
        </p:nvPicPr>
        <p:blipFill>
          <a:blip r:embed="rId3"/>
          <a:srcRect l="0" t="23110" r="0" b="0"/>
          <a:stretch/>
        </p:blipFill>
        <p:spPr>
          <a:xfrm>
            <a:off x="5796000" y="3935520"/>
            <a:ext cx="2625840" cy="2754360"/>
          </a:xfrm>
          <a:prstGeom prst="rect">
            <a:avLst/>
          </a:prstGeom>
          <a:ln w="9360">
            <a:solidFill>
              <a:srgbClr val="008ae8"/>
            </a:solidFill>
            <a:miter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178680" y="1628640"/>
            <a:ext cx="1438200" cy="1440000"/>
          </a:xfrm>
          <a:prstGeom prst="rect">
            <a:avLst/>
          </a:prstGeom>
          <a:ln w="9360">
            <a:solidFill>
              <a:srgbClr val="008ae8"/>
            </a:solidFill>
            <a:miter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кс Дональд и фаст-фу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Для утоления жажды лучше использова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Лимона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В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В Кока-коле находи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Лимон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Уксус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Ортофосфор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Можно ли употреблять одновременно освежающие таблетки и лимонад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Наиболее вредным веществом явля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Подсластитель-аспарт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Ароматизато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Жирную пищу лучше запива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Горячим ча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Лимона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иц опр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412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Коды пищевых добавок класса Е бываю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Полез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Ракообразующ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К вредным веществам в лимонадах относя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Бензоат и 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Вода и ортофосфор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Бензоат и ортофосфор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 К ожирению и сахарному диабету приводит содержащийся в лимонад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Бензо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Аспарт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Лимонная 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. Можно ли использовать лимонад в качестве чистящего средст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. Употребление лимонада на голодный желудок приводит 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Кариесу зуб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Язве желуд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Идиот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ные правила, которые помогут сохранить здоровь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пить лимонад на голодный желуд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запивать еду холодными газированными напитк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употреблять лимонады на голодный желуд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потреблять сладкие газированные напитки как можно реж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2843280" y="198900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1332000" y="5805360"/>
            <a:ext cx="597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</a:rPr>
              <a:t>Будьте здоровы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cc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CIMG1886"/>
          <p:cNvPicPr/>
          <p:nvPr/>
        </p:nvPicPr>
        <p:blipFill>
          <a:blip r:embed="rId2"/>
          <a:stretch/>
        </p:blipFill>
        <p:spPr>
          <a:xfrm>
            <a:off x="324000" y="2708280"/>
            <a:ext cx="4038480" cy="30290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216" name="Picture 9" descr="CIMG1888"/>
          <p:cNvPicPr/>
          <p:nvPr/>
        </p:nvPicPr>
        <p:blipFill>
          <a:blip r:embed="rId3"/>
          <a:stretch/>
        </p:blipFill>
        <p:spPr>
          <a:xfrm>
            <a:off x="4716360" y="3284640"/>
            <a:ext cx="4038840" cy="30286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277560"/>
            <a:ext cx="8136000" cy="214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ссортимент сладких безалкогольных газированных напитков в магазин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CIMG1889"/>
          <p:cNvPicPr/>
          <p:nvPr/>
        </p:nvPicPr>
        <p:blipFill>
          <a:blip r:embed="rId2"/>
          <a:stretch/>
        </p:blipFill>
        <p:spPr>
          <a:xfrm>
            <a:off x="5364000" y="3860640"/>
            <a:ext cx="1278000" cy="259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IMG1890"/>
          <p:cNvPicPr/>
          <p:nvPr/>
        </p:nvPicPr>
        <p:blipFill>
          <a:blip r:embed="rId3"/>
          <a:stretch/>
        </p:blipFill>
        <p:spPr>
          <a:xfrm>
            <a:off x="2700360" y="3213000"/>
            <a:ext cx="1644480" cy="280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4"/>
          <a:stretch/>
        </p:blipFill>
        <p:spPr>
          <a:xfrm>
            <a:off x="250920" y="2205000"/>
            <a:ext cx="2448000" cy="1779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5"/>
          <a:stretch/>
        </p:blipFill>
        <p:spPr>
          <a:xfrm>
            <a:off x="4356000" y="2421000"/>
            <a:ext cx="1022400" cy="2857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6"/>
          <a:stretch/>
        </p:blipFill>
        <p:spPr>
          <a:xfrm>
            <a:off x="6732720" y="4149720"/>
            <a:ext cx="2238120" cy="25239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юбимые газированные напитки дет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</a:rPr>
              <a:t>Как часто Вы употребляете лимонад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68360" y="2565360"/>
          <a:ext cx="8351640" cy="333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565360"/>
                    <a:ext cx="8351640" cy="33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езен лимонад или нет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2101680"/>
          <a:ext cx="8424720" cy="384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01680"/>
                    <a:ext cx="8424720" cy="38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1. Изучить информацию от   производителей, а именно: указать из каких веществ состоят напи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imes New Roman"/>
              </a:rPr>
              <a:t>2. Выделить (подчеркнуть) общие вещества в напитк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актическая ча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Organization Chart 4"/>
          <p:cNvGrpSpPr/>
          <p:nvPr/>
        </p:nvGrpSpPr>
        <p:grpSpPr>
          <a:xfrm>
            <a:off x="179280" y="115920"/>
            <a:ext cx="8639280" cy="6581160"/>
            <a:chOff x="179280" y="115920"/>
            <a:chExt cx="8639280" cy="6581160"/>
          </a:xfrm>
        </p:grpSpPr>
        <p:cxnSp>
          <p:nvCxnSpPr>
            <p:cNvPr id="233" name="_s1028"/>
            <p:cNvCxnSpPr>
              <a:stCxn id="234" idx="1"/>
              <a:endCxn id="235" idx="2"/>
            </p:cNvCxnSpPr>
            <p:nvPr/>
          </p:nvCxnSpPr>
          <p:spPr>
            <a:xfrm rot="10800000">
              <a:off x="2770200" y="687240"/>
              <a:ext cx="864360" cy="5724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1029"/>
            <p:cNvCxnSpPr>
              <a:stCxn id="237" idx="1"/>
              <a:endCxn id="235" idx="2"/>
            </p:cNvCxnSpPr>
            <p:nvPr/>
          </p:nvCxnSpPr>
          <p:spPr>
            <a:xfrm rot="10800000">
              <a:off x="2770200" y="687240"/>
              <a:ext cx="864360" cy="4865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8" name="_s1030"/>
            <p:cNvCxnSpPr>
              <a:stCxn id="239" idx="1"/>
              <a:endCxn id="235" idx="2"/>
            </p:cNvCxnSpPr>
            <p:nvPr/>
          </p:nvCxnSpPr>
          <p:spPr>
            <a:xfrm rot="10800000">
              <a:off x="2770200" y="687240"/>
              <a:ext cx="864360" cy="4006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0" name="_s1031"/>
            <p:cNvCxnSpPr>
              <a:stCxn id="241" idx="1"/>
              <a:endCxn id="235" idx="2"/>
            </p:cNvCxnSpPr>
            <p:nvPr/>
          </p:nvCxnSpPr>
          <p:spPr>
            <a:xfrm rot="10800000">
              <a:off x="2770200" y="687240"/>
              <a:ext cx="864360" cy="3148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2" name="_s1032"/>
            <p:cNvCxnSpPr>
              <a:stCxn id="243" idx="1"/>
              <a:endCxn id="235" idx="2"/>
            </p:cNvCxnSpPr>
            <p:nvPr/>
          </p:nvCxnSpPr>
          <p:spPr>
            <a:xfrm rot="10800000">
              <a:off x="2770200" y="687240"/>
              <a:ext cx="864360" cy="2289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4" name="_s1033"/>
            <p:cNvCxnSpPr>
              <a:stCxn id="245" idx="1"/>
              <a:endCxn id="235" idx="2"/>
            </p:cNvCxnSpPr>
            <p:nvPr/>
          </p:nvCxnSpPr>
          <p:spPr>
            <a:xfrm rot="10800000">
              <a:off x="2770200" y="687240"/>
              <a:ext cx="864360" cy="1431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6" name="_s1034"/>
            <p:cNvCxnSpPr>
              <a:stCxn id="247" idx="1"/>
              <a:endCxn id="235" idx="2"/>
            </p:cNvCxnSpPr>
            <p:nvPr/>
          </p:nvCxnSpPr>
          <p:spPr>
            <a:xfrm rot="10800000">
              <a:off x="2770200" y="687240"/>
              <a:ext cx="864360" cy="572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5" name="_s1035"/>
            <p:cNvSpPr/>
            <p:nvPr/>
          </p:nvSpPr>
          <p:spPr>
            <a:xfrm>
              <a:off x="179280" y="115920"/>
              <a:ext cx="5183640" cy="572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Состав  сладких газированны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напитко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1036"/>
            <p:cNvSpPr/>
            <p:nvPr/>
          </p:nvSpPr>
          <p:spPr>
            <a:xfrm>
              <a:off x="3634920" y="974160"/>
              <a:ext cx="5183640" cy="572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Консервант: бензоат натрия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1037"/>
            <p:cNvSpPr/>
            <p:nvPr/>
          </p:nvSpPr>
          <p:spPr>
            <a:xfrm>
              <a:off x="3634920" y="1832760"/>
              <a:ext cx="5183640" cy="572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Сахар  либо подсластитель (аспартам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1038"/>
            <p:cNvSpPr/>
            <p:nvPr/>
          </p:nvSpPr>
          <p:spPr>
            <a:xfrm>
              <a:off x="3634920" y="2691360"/>
              <a:ext cx="5183640" cy="572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Кислоты: лимонная или ортофосфор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1039"/>
            <p:cNvSpPr/>
            <p:nvPr/>
          </p:nvSpPr>
          <p:spPr>
            <a:xfrm>
              <a:off x="3634920" y="3549600"/>
              <a:ext cx="5183640" cy="572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Кофеи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>
              <a:off x="3634920" y="4408200"/>
              <a:ext cx="5183640" cy="572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Ароматизато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1041"/>
            <p:cNvSpPr/>
            <p:nvPr/>
          </p:nvSpPr>
          <p:spPr>
            <a:xfrm>
              <a:off x="3634920" y="5266800"/>
              <a:ext cx="5178240" cy="572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Красител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42"/>
            <p:cNvSpPr/>
            <p:nvPr/>
          </p:nvSpPr>
          <p:spPr>
            <a:xfrm>
              <a:off x="3634920" y="6125040"/>
              <a:ext cx="5183640" cy="5720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Во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5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спартам  дипептид фенилалан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3280" y="1773360"/>
            <a:ext cx="4321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</a:rPr>
              <a:t>Бензоат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C6H4—COO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Белый порошок без запаха. Пищевая добавка (E211), относится к группе консерва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Действие бензоата натрия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направлено, главным образом, против дрожжей и плесневых гриб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Объект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2521080" cy="14983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179280" y="4292640"/>
            <a:ext cx="446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Аспартам примерно в 160—200 раз слаще сахара, не имеет запаха, хорошо растворим в в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Times New Roman"/>
              </a:rPr>
              <a:t>При нагреве аспартам разрушается, поэтому не пригоден для подслащивания продуктов, подвергаемых термообработ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ещества наносящие вред нашему здоровь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05:35:48Z</dcterms:created>
  <dc:creator>Customer</dc:creator>
  <dc:description/>
  <dc:language>en-US</dc:language>
  <cp:lastModifiedBy>Admin</cp:lastModifiedBy>
  <dcterms:modified xsi:type="dcterms:W3CDTF">2013-01-14T20:41:02Z</dcterms:modified>
  <cp:revision>9</cp:revision>
  <dc:subject/>
  <dc:title>Слайд 1</dc:title>
</cp:coreProperties>
</file>