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13.gif" ContentType="image/gif"/>
  <Override PartName="/ppt/media/image5.gif" ContentType="image/gif"/>
  <Override PartName="/ppt/media/image7.gif" ContentType="image/gif"/>
  <Override PartName="/ppt/media/image9.jpeg" ContentType="image/jpeg"/>
  <Override PartName="/ppt/media/image8.jpeg" ContentType="image/jpeg"/>
  <Override PartName="/ppt/media/image10.jpeg" ContentType="image/jpeg"/>
  <Override PartName="/ppt/media/image6.wmf" ContentType="image/x-wmf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7D2E-17CF-4B6B-8051-E3F0F4895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8FD7-18BF-4D2A-960D-37F851F5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1187-DF79-4B98-B111-157F8D850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441F-0D96-4562-9B50-DD268D200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3719-509E-4F9C-ABD4-522C8F2D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9E9C-9068-40CF-8319-0CC4BCAF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5813-3072-483A-A415-F1F87BF7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2545-8A0E-4888-9C0F-EA801208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49A8-2605-4817-BB6C-46A4AC56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D2F3-2900-453B-8B6D-9728BDC4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E997-F87F-404E-B2BC-6C65233A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9E8D-5ED9-4E4A-958E-FBF9D9FE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C54D-79C9-4A82-815F-A698040766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14200" y="0"/>
            <a:ext cx="8643960" cy="564372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4" descr=""/>
          <p:cNvPicPr/>
          <p:nvPr/>
        </p:nvPicPr>
        <p:blipFill>
          <a:blip r:embed="rId2"/>
          <a:stretch/>
        </p:blipFill>
        <p:spPr>
          <a:xfrm>
            <a:off x="244440" y="5145120"/>
            <a:ext cx="8710560" cy="15606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4"/>
          <p:cNvSpPr/>
          <p:nvPr/>
        </p:nvSpPr>
        <p:spPr>
          <a:xfrm>
            <a:off x="857160" y="42876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В  маленьком родничке родилась капель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Содержимое 12" descr="10SC060.JPG"/>
          <p:cNvPicPr/>
          <p:nvPr/>
        </p:nvPicPr>
        <p:blipFill>
          <a:blip r:embed="rId1"/>
          <a:stretch/>
        </p:blipFill>
        <p:spPr>
          <a:xfrm>
            <a:off x="1714680" y="1428840"/>
            <a:ext cx="5572080" cy="3929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13"/>
          <p:cNvSpPr/>
          <p:nvPr/>
        </p:nvSpPr>
        <p:spPr>
          <a:xfrm>
            <a:off x="325800" y="5657760"/>
            <a:ext cx="850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ff"/>
                </a:solidFill>
                <a:latin typeface="Arial"/>
              </a:rPr>
              <a:t>Она с интересом слушала журчание родного ручейка, пение птиц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ff"/>
                </a:solidFill>
                <a:latin typeface="Arial"/>
              </a:rPr>
              <a:t>кваканье лягушек и мечтала … о путешествии. А для этого ей нуж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ff"/>
                </a:solidFill>
                <a:latin typeface="Arial"/>
              </a:rPr>
              <a:t>было попасть в ручеёк, который вытекал из родничка. Помог 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ff"/>
                </a:solidFill>
                <a:latin typeface="Arial"/>
              </a:rPr>
              <a:t>лягушонок, на своих лапках он перенёс капельку в ручеё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15" descr="AG00181_.GIF"/>
          <p:cNvPicPr/>
          <p:nvPr/>
        </p:nvPicPr>
        <p:blipFill>
          <a:blip r:embed="rId2"/>
          <a:stretch/>
        </p:blipFill>
        <p:spPr>
          <a:xfrm>
            <a:off x="5072040" y="4071960"/>
            <a:ext cx="1724040" cy="1028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3" descr="j0215338"/>
          <p:cNvPicPr/>
          <p:nvPr/>
        </p:nvPicPr>
        <p:blipFill>
          <a:blip r:embed="rId3"/>
          <a:srcRect l="-2878" t="42389" r="66757" b="0"/>
          <a:stretch/>
        </p:blipFill>
        <p:spPr>
          <a:xfrm rot="21385800">
            <a:off x="2098440" y="3728520"/>
            <a:ext cx="493560" cy="87012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386 0.10463 C 0.34948 0.1074 0.35973 0.1125 0.37431 0.11759 C 0.37743 0.11875 0.38611 0.12407 0.39028 0.12407 E">
                                      <p:cBhvr>
                                        <p:cTn id="27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59259E-006 C 0.01024 -0.0044 0.02344 0.00324 0.03385 0.00648 C 0.0559 0.01366 0.07917 0.0169 0.10156 0.02153 C 0.11042 0.02338 0.11892 0.02454 0.12743 0.02801 C 0.13229 0.03009 0.1375 0.03148 0.14201 0.03449 C 0.14375 0.03565 0.1467 0.03866 0.1467 0.03866 E">
                                      <p:cBhvr>
                                        <p:cTn id="29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000840" y="357120"/>
            <a:ext cx="2928960" cy="18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Ручеёк бежал быстро и очень скоро влился в небольшую реч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1" descr="210073373.gif"/>
          <p:cNvPicPr/>
          <p:nvPr/>
        </p:nvPicPr>
        <p:blipFill>
          <a:blip r:embed="rId1"/>
          <a:stretch/>
        </p:blipFill>
        <p:spPr>
          <a:xfrm>
            <a:off x="571680" y="285840"/>
            <a:ext cx="5072040" cy="6215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3" descr="j0215338"/>
          <p:cNvPicPr/>
          <p:nvPr/>
        </p:nvPicPr>
        <p:blipFill>
          <a:blip r:embed="rId2"/>
          <a:srcRect l="-2878" t="42389" r="66757" b="0"/>
          <a:stretch/>
        </p:blipFill>
        <p:spPr>
          <a:xfrm rot="21385800">
            <a:off x="669600" y="299520"/>
            <a:ext cx="493560" cy="87012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blinds dir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5.92593E-006 C -0.00312 0.00647 -0.00485 0.01295 -0.00798 0.01944 C -0.00989 0.02962 -0.01423 0.03587 -0.0177 0.04513 C -0.01822 0.05161 -0.0184 0.05809 -0.01926 0.06458 C -0.01996 0.07036 -0.02239 0.07592 -0.02256 0.0817 C -0.02308 0.09606 -0.02204 0.11087 -0.01926 0.12476 C -0.01822 0.13008 -0.01319 0.14166 -0.00954 0.1442 C -0.00659 0.14629 6.38889E-006 0.14837 6.38889E-006 0.14837 C 0.00574 0.15601 0.00834 0.16481 0.01303 0.1743 C 0.01407 0.17638 0.01615 0.18078 0.01615 0.18078 C 0.01667 0.18356 0.01702 0.18657 0.01789 0.18934 C 0.01858 0.19166 0.02032 0.19351 0.02101 0.19583 C 0.0224 0.20115 0.02414 0.2243 0.02431 0.22592 C 0.02535 0.23934 0.02588 0.26874 0.0323 0.28147 C 0.03803 0.29328 0.04237 0.30485 0.04844 0.31596 C 0.04983 0.31874 0.05122 0.32129 0.05331 0.32245 C 0.05626 0.32476 0.06303 0.32661 0.06303 0.32661 C 0.07101 0.33749 0.07588 0.33934 0.08716 0.34189 C 0.09463 0.34536 0.10226 0.34698 0.10973 0.35045 C 0.11129 0.35184 0.11355 0.35254 0.11459 0.35485 C 0.11633 0.35879 0.11685 0.36342 0.11789 0.36782 C 0.11858 0.37036 0.12015 0.37198 0.12101 0.3743 C 0.12171 0.37638 0.12136 0.37916 0.12258 0.38078 C 0.12379 0.3824 0.12588 0.38217 0.12744 0.38286 C 0.13404 0.39166 0.13768 0.39999 0.14688 0.40439 C 0.14897 0.40647 0.15088 0.40925 0.15331 0.41087 C 0.15643 0.41295 0.16303 0.41504 0.16303 0.41504 C 0.17206 0.42314 0.1816 0.42962 0.19202 0.43448 C 0.19636 0.44328 0.2007 0.44467 0.20817 0.44745 C 0.21702 0.45508 0.21963 0.45601 0.22917 0.46018 C 0.24445 0.47453 0.22171 0.45439 0.24046 0.46666 C 0.24289 0.46828 0.24463 0.47129 0.24688 0.47314 C 0.25157 0.47661 0.25782 0.47939 0.26303 0.4817 C 0.26997 0.48795 0.27813 0.49189 0.2856 0.49675 C 0.29115 0.50045 0.29636 0.50555 0.30174 0.50971 C 0.30956 0.51596 0.30626 0.51295 0.31459 0.51596 C 0.31789 0.51735 0.32431 0.52013 0.32431 0.52013 C 0.32744 0.52684 0.32917 0.53333 0.3323 0.53981 C 0.33699 0.57175 0.33508 0.60485 0.34046 0.63657 C 0.34202 0.64513 0.35365 0.67175 0.35817 0.67939 C 0.36233 0.69698 0.36563 0.69745 0.37431 0.71411 C 0.37535 0.71596 0.37761 0.71643 0.37917 0.71805 C 0.38091 0.72013 0.3823 0.72245 0.38386 0.72453 C 0.38699 0.73587 0.39306 0.75115 0.40174 0.75462 C 0.40973 0.77129 0.39949 0.75184 0.40973 0.76527 C 0.42136 0.78055 0.40417 0.76365 0.41789 0.77615 C 0.42397 0.78865 0.43178 0.78819 0.44202 0.79143 C 0.44306 0.79397 0.44428 0.79675 0.44515 0.79999 C 0.44601 0.80277 0.44688 0.80833 0.44688 0.80833 E">
                                      <p:cBhvr>
                                        <p:cTn id="39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1143000" y="1000080"/>
            <a:ext cx="6858000" cy="4572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6"/>
          <p:cNvSpPr/>
          <p:nvPr/>
        </p:nvSpPr>
        <p:spPr>
          <a:xfrm>
            <a:off x="970920" y="214200"/>
            <a:ext cx="720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Капельки играли, переливались на солнце. Всем бы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очень весе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3" descr="j0215338"/>
          <p:cNvPicPr/>
          <p:nvPr/>
        </p:nvPicPr>
        <p:blipFill>
          <a:blip r:embed="rId2"/>
          <a:srcRect l="-2878" t="42389" r="66757" b="0"/>
          <a:stretch/>
        </p:blipFill>
        <p:spPr>
          <a:xfrm rot="21385800">
            <a:off x="2741400" y="4514400"/>
            <a:ext cx="493560" cy="870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3" descr="j0215338"/>
          <p:cNvPicPr/>
          <p:nvPr/>
        </p:nvPicPr>
        <p:blipFill>
          <a:blip r:embed="rId3"/>
          <a:srcRect l="-2878" t="42389" r="66757" b="0"/>
          <a:stretch/>
        </p:blipFill>
        <p:spPr>
          <a:xfrm rot="21385800">
            <a:off x="4384440" y="3300120"/>
            <a:ext cx="493560" cy="869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3" descr="j0215338"/>
          <p:cNvPicPr/>
          <p:nvPr/>
        </p:nvPicPr>
        <p:blipFill>
          <a:blip r:embed="rId4"/>
          <a:srcRect l="-2878" t="42389" r="66757" b="0"/>
          <a:stretch/>
        </p:blipFill>
        <p:spPr>
          <a:xfrm rot="21385800">
            <a:off x="5312880" y="4657320"/>
            <a:ext cx="493920" cy="870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3" descr="j0215338"/>
          <p:cNvPicPr/>
          <p:nvPr/>
        </p:nvPicPr>
        <p:blipFill>
          <a:blip r:embed="rId5"/>
          <a:srcRect l="-2878" t="42389" r="66757" b="0"/>
          <a:stretch/>
        </p:blipFill>
        <p:spPr>
          <a:xfrm rot="21385800">
            <a:off x="5670360" y="4086000"/>
            <a:ext cx="493560" cy="869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3" descr="j0215338"/>
          <p:cNvPicPr/>
          <p:nvPr/>
        </p:nvPicPr>
        <p:blipFill>
          <a:blip r:embed="rId6"/>
          <a:srcRect l="-2878" t="42389" r="66757" b="0"/>
          <a:stretch/>
        </p:blipFill>
        <p:spPr>
          <a:xfrm rot="21385800">
            <a:off x="6955920" y="4514400"/>
            <a:ext cx="493920" cy="870120"/>
          </a:xfrm>
          <a:prstGeom prst="rect">
            <a:avLst/>
          </a:prstGeom>
          <a:ln w="0">
            <a:noFill/>
          </a:ln>
        </p:spPr>
      </p:pic>
      <p:sp>
        <p:nvSpPr>
          <p:cNvPr id="60" name="TextBox 12"/>
          <p:cNvSpPr/>
          <p:nvPr/>
        </p:nvSpPr>
        <p:spPr>
          <a:xfrm>
            <a:off x="0" y="5572080"/>
            <a:ext cx="8929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Наступили жаркие дни. То одна капелька, то другая от жары, испаряясь, поднималась к небу. Сначала на небе была одна капелька, но потом к ней присоединились другие и облачко поплы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loud"/>
          <p:cNvSpPr/>
          <p:nvPr/>
        </p:nvSpPr>
        <p:spPr>
          <a:xfrm>
            <a:off x="4000680" y="642960"/>
            <a:ext cx="2966760" cy="1741320"/>
          </a:xfrm>
          <a:custGeom>
            <a:avLst/>
            <a:gdLst>
              <a:gd name="textAreaLeft" fmla="*/ 408600 w 2966760"/>
              <a:gd name="textAreaRight" fmla="*/ 2346840 w 2966760"/>
              <a:gd name="textAreaTop" fmla="*/ 262800 h 1741320"/>
              <a:gd name="textAreaBottom" fmla="*/ 1397880 h 17413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ccff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blinds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83" dur="5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26 -0.07686 L 0.00226 -0.41019 E">
                                      <p:cBhvr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95" dur="5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ff"/>
              </a:solidFill>
              <a:latin typeface="Monotype Corsiva"/>
            </a:endParaRPr>
          </a:p>
        </p:txBody>
      </p:sp>
      <p:sp>
        <p:nvSpPr>
          <p:cNvPr id="64" name="Cloud"/>
          <p:cNvSpPr/>
          <p:nvPr/>
        </p:nvSpPr>
        <p:spPr>
          <a:xfrm>
            <a:off x="3429000" y="428760"/>
            <a:ext cx="2967120" cy="1741320"/>
          </a:xfrm>
          <a:custGeom>
            <a:avLst/>
            <a:gdLst>
              <a:gd name="textAreaLeft" fmla="*/ 408960 w 2967120"/>
              <a:gd name="textAreaRight" fmla="*/ 2347200 w 2967120"/>
              <a:gd name="textAreaTop" fmla="*/ 262800 h 1741320"/>
              <a:gd name="textAreaBottom" fmla="*/ 1397880 h 17413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ccff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3" descr="j0215338"/>
          <p:cNvPicPr/>
          <p:nvPr/>
        </p:nvPicPr>
        <p:blipFill>
          <a:blip r:embed="rId2"/>
          <a:srcRect l="-2878" t="42389" r="66757" b="0"/>
          <a:stretch/>
        </p:blipFill>
        <p:spPr>
          <a:xfrm rot="21385800">
            <a:off x="4384440" y="3300120"/>
            <a:ext cx="493560" cy="869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3" descr="j0215338"/>
          <p:cNvPicPr/>
          <p:nvPr/>
        </p:nvPicPr>
        <p:blipFill>
          <a:blip r:embed="rId3"/>
          <a:srcRect l="-2878" t="42389" r="66757" b="0"/>
          <a:stretch/>
        </p:blipFill>
        <p:spPr>
          <a:xfrm rot="21385800">
            <a:off x="5670360" y="5157360"/>
            <a:ext cx="493560" cy="870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j0215338"/>
          <p:cNvPicPr/>
          <p:nvPr/>
        </p:nvPicPr>
        <p:blipFill>
          <a:blip r:embed="rId4"/>
          <a:srcRect l="-2878" t="42389" r="66757" b="0"/>
          <a:stretch/>
        </p:blipFill>
        <p:spPr>
          <a:xfrm rot="21385800">
            <a:off x="3312720" y="4514400"/>
            <a:ext cx="493920" cy="870120"/>
          </a:xfrm>
          <a:prstGeom prst="rect">
            <a:avLst/>
          </a:prstGeom>
          <a:ln w="0">
            <a:noFill/>
          </a:ln>
        </p:spPr>
      </p:pic>
      <p:sp>
        <p:nvSpPr>
          <p:cNvPr id="68" name="TextBox 14"/>
          <p:cNvSpPr/>
          <p:nvPr/>
        </p:nvSpPr>
        <p:spPr>
          <a:xfrm>
            <a:off x="1376280" y="5929200"/>
            <a:ext cx="46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ff"/>
                </a:solidFill>
                <a:latin typeface="Arial"/>
              </a:rPr>
              <a:t>Плыло над лесам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blinds dir="horz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59259E-006 L -0.00139 -0.33056 E">
                                      <p:cBhvr>
                                        <p:cTn id="124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646 -0.00301 L -0.03646 -0.33634 E">
                                      <p:cBhvr>
                                        <p:cTn id="134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44" dur="5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0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Cloud"/>
          <p:cNvSpPr/>
          <p:nvPr/>
        </p:nvSpPr>
        <p:spPr>
          <a:xfrm>
            <a:off x="3286080" y="285840"/>
            <a:ext cx="2967120" cy="1741320"/>
          </a:xfrm>
          <a:custGeom>
            <a:avLst/>
            <a:gdLst>
              <a:gd name="textAreaLeft" fmla="*/ 408960 w 2967120"/>
              <a:gd name="textAreaRight" fmla="*/ 2347200 w 2967120"/>
              <a:gd name="textAreaTop" fmla="*/ 262800 h 1741320"/>
              <a:gd name="textAreaBottom" fmla="*/ 1397880 h 17413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ccff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3" descr="j0215338"/>
          <p:cNvPicPr/>
          <p:nvPr/>
        </p:nvPicPr>
        <p:blipFill>
          <a:blip r:embed="rId2"/>
          <a:srcRect l="-2878" t="42389" r="66757" b="0"/>
          <a:stretch/>
        </p:blipFill>
        <p:spPr>
          <a:xfrm rot="21385800">
            <a:off x="4384440" y="3300120"/>
            <a:ext cx="493560" cy="869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3" descr="j0215338"/>
          <p:cNvPicPr/>
          <p:nvPr/>
        </p:nvPicPr>
        <p:blipFill>
          <a:blip r:embed="rId3"/>
          <a:srcRect l="-2878" t="42389" r="66757" b="0"/>
          <a:stretch/>
        </p:blipFill>
        <p:spPr>
          <a:xfrm rot="21385800">
            <a:off x="3455640" y="3800160"/>
            <a:ext cx="493560" cy="869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3" descr="j0215338"/>
          <p:cNvPicPr/>
          <p:nvPr/>
        </p:nvPicPr>
        <p:blipFill>
          <a:blip r:embed="rId4"/>
          <a:srcRect l="-2878" t="42389" r="66757" b="0"/>
          <a:stretch/>
        </p:blipFill>
        <p:spPr>
          <a:xfrm rot="21385800">
            <a:off x="5241600" y="3585960"/>
            <a:ext cx="493560" cy="869760"/>
          </a:xfrm>
          <a:prstGeom prst="rect">
            <a:avLst/>
          </a:prstGeom>
          <a:ln w="0">
            <a:noFill/>
          </a:ln>
        </p:spPr>
      </p:pic>
      <p:sp>
        <p:nvSpPr>
          <p:cNvPr id="74" name="TextBox 10"/>
          <p:cNvSpPr/>
          <p:nvPr/>
        </p:nvSpPr>
        <p:spPr>
          <a:xfrm>
            <a:off x="2726280" y="5572080"/>
            <a:ext cx="20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полям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blinds dir="horz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71" dur="5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81" dur="5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9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91" dur="5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97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9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66ff"/>
              </a:solidFill>
              <a:latin typeface="Monotype Corsiva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Cloud"/>
          <p:cNvSpPr/>
          <p:nvPr/>
        </p:nvSpPr>
        <p:spPr>
          <a:xfrm>
            <a:off x="3286080" y="285840"/>
            <a:ext cx="2967120" cy="1741320"/>
          </a:xfrm>
          <a:custGeom>
            <a:avLst/>
            <a:gdLst>
              <a:gd name="textAreaLeft" fmla="*/ 408960 w 2967120"/>
              <a:gd name="textAreaRight" fmla="*/ 2347200 w 2967120"/>
              <a:gd name="textAreaTop" fmla="*/ 262800 h 1741320"/>
              <a:gd name="textAreaBottom" fmla="*/ 1397880 h 17413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ccff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2168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Cloud"/>
          <p:cNvSpPr/>
          <p:nvPr/>
        </p:nvSpPr>
        <p:spPr>
          <a:xfrm>
            <a:off x="5000760" y="285840"/>
            <a:ext cx="2966760" cy="1741320"/>
          </a:xfrm>
          <a:custGeom>
            <a:avLst/>
            <a:gdLst>
              <a:gd name="textAreaLeft" fmla="*/ 408600 w 2966760"/>
              <a:gd name="textAreaRight" fmla="*/ 2346840 w 2966760"/>
              <a:gd name="textAreaTop" fmla="*/ 262800 h 1741320"/>
              <a:gd name="textAreaBottom" fmla="*/ 1397880 h 17413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ccff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3" descr="j0215338"/>
          <p:cNvPicPr/>
          <p:nvPr/>
        </p:nvPicPr>
        <p:blipFill>
          <a:blip r:embed="rId3"/>
          <a:srcRect l="-2878" t="42389" r="66757" b="0"/>
          <a:stretch/>
        </p:blipFill>
        <p:spPr>
          <a:xfrm rot="21385800">
            <a:off x="8027640" y="4728960"/>
            <a:ext cx="493560" cy="869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3" descr="j0215338"/>
          <p:cNvPicPr/>
          <p:nvPr/>
        </p:nvPicPr>
        <p:blipFill>
          <a:blip r:embed="rId4"/>
          <a:srcRect l="-2878" t="42389" r="66757" b="0"/>
          <a:stretch/>
        </p:blipFill>
        <p:spPr>
          <a:xfrm rot="21385800">
            <a:off x="6670440" y="4157280"/>
            <a:ext cx="493560" cy="870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3" descr="j0215338"/>
          <p:cNvPicPr/>
          <p:nvPr/>
        </p:nvPicPr>
        <p:blipFill>
          <a:blip r:embed="rId5"/>
          <a:srcRect l="-2878" t="42389" r="66757" b="0"/>
          <a:stretch/>
        </p:blipFill>
        <p:spPr>
          <a:xfrm rot="21385800">
            <a:off x="4955760" y="3871440"/>
            <a:ext cx="493920" cy="870120"/>
          </a:xfrm>
          <a:prstGeom prst="rect">
            <a:avLst/>
          </a:prstGeom>
          <a:ln w="0">
            <a:noFill/>
          </a:ln>
        </p:spPr>
      </p:pic>
      <p:sp>
        <p:nvSpPr>
          <p:cNvPr id="83" name="TextBox 11"/>
          <p:cNvSpPr/>
          <p:nvPr/>
        </p:nvSpPr>
        <p:spPr>
          <a:xfrm>
            <a:off x="734040" y="5786280"/>
            <a:ext cx="47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городами и сёл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blinds dir="horz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2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413 -0.02477 L -0.07413 -0.3581 E">
                                      <p:cBhvr>
                                        <p:cTn id="226" dur="5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73 0.00625 L -0.05173 -0.32709 E">
                                      <p:cBhvr>
                                        <p:cTn id="236" dur="5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246" dur="5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ff"/>
              </a:solidFill>
              <a:latin typeface="Monotype Corsiva"/>
            </a:endParaRPr>
          </a:p>
        </p:txBody>
      </p:sp>
      <p:pic>
        <p:nvPicPr>
          <p:cNvPr id="85" name="Рисунок 4" descr="10SC060.JPG"/>
          <p:cNvPicPr/>
          <p:nvPr/>
        </p:nvPicPr>
        <p:blipFill>
          <a:blip r:embed="rId1"/>
          <a:stretch/>
        </p:blipFill>
        <p:spPr>
          <a:xfrm>
            <a:off x="785880" y="214200"/>
            <a:ext cx="7513560" cy="5715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ag00434_"/>
          <p:cNvPicPr/>
          <p:nvPr/>
        </p:nvPicPr>
        <p:blipFill>
          <a:blip r:embed="rId2"/>
          <a:stretch/>
        </p:blipFill>
        <p:spPr>
          <a:xfrm>
            <a:off x="6118200" y="214200"/>
            <a:ext cx="3025800" cy="2173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" descr="ag00434_"/>
          <p:cNvPicPr/>
          <p:nvPr/>
        </p:nvPicPr>
        <p:blipFill>
          <a:blip r:embed="rId3"/>
          <a:stretch/>
        </p:blipFill>
        <p:spPr>
          <a:xfrm>
            <a:off x="4357800" y="285840"/>
            <a:ext cx="3025800" cy="2173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" descr="ag00434_"/>
          <p:cNvPicPr/>
          <p:nvPr/>
        </p:nvPicPr>
        <p:blipFill>
          <a:blip r:embed="rId4"/>
          <a:stretch/>
        </p:blipFill>
        <p:spPr>
          <a:xfrm>
            <a:off x="2143080" y="0"/>
            <a:ext cx="3025800" cy="2173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6" descr="ag00434_"/>
          <p:cNvPicPr/>
          <p:nvPr/>
        </p:nvPicPr>
        <p:blipFill>
          <a:blip r:embed="rId5"/>
          <a:stretch/>
        </p:blipFill>
        <p:spPr>
          <a:xfrm>
            <a:off x="357120" y="214200"/>
            <a:ext cx="3025800" cy="2173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3" descr="j0215338"/>
          <p:cNvPicPr/>
          <p:nvPr/>
        </p:nvPicPr>
        <p:blipFill>
          <a:blip r:embed="rId6"/>
          <a:srcRect l="-2878" t="42389" r="66757" b="0"/>
          <a:stretch/>
        </p:blipFill>
        <p:spPr>
          <a:xfrm rot="21385800">
            <a:off x="1240920" y="1942920"/>
            <a:ext cx="493920" cy="869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3" descr="j0215338"/>
          <p:cNvPicPr/>
          <p:nvPr/>
        </p:nvPicPr>
        <p:blipFill>
          <a:blip r:embed="rId7"/>
          <a:srcRect l="-2878" t="42389" r="66757" b="0"/>
          <a:stretch/>
        </p:blipFill>
        <p:spPr>
          <a:xfrm rot="21385800">
            <a:off x="2812680" y="1442520"/>
            <a:ext cx="493560" cy="870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3" descr="j0215338"/>
          <p:cNvPicPr/>
          <p:nvPr/>
        </p:nvPicPr>
        <p:blipFill>
          <a:blip r:embed="rId8"/>
          <a:srcRect l="-2878" t="42389" r="66757" b="0"/>
          <a:stretch/>
        </p:blipFill>
        <p:spPr>
          <a:xfrm rot="21385800">
            <a:off x="3669840" y="2228400"/>
            <a:ext cx="493920" cy="870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3" descr="j0215338"/>
          <p:cNvPicPr/>
          <p:nvPr/>
        </p:nvPicPr>
        <p:blipFill>
          <a:blip r:embed="rId9"/>
          <a:srcRect l="-2878" t="42389" r="66757" b="0"/>
          <a:stretch/>
        </p:blipFill>
        <p:spPr>
          <a:xfrm rot="21385800">
            <a:off x="4455720" y="1657080"/>
            <a:ext cx="493920" cy="869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3" descr="j0215338"/>
          <p:cNvPicPr/>
          <p:nvPr/>
        </p:nvPicPr>
        <p:blipFill>
          <a:blip r:embed="rId10"/>
          <a:srcRect l="-2878" t="42389" r="66757" b="0"/>
          <a:stretch/>
        </p:blipFill>
        <p:spPr>
          <a:xfrm rot="21385800">
            <a:off x="5455800" y="1442520"/>
            <a:ext cx="493920" cy="870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3" descr="j0215338"/>
          <p:cNvPicPr/>
          <p:nvPr/>
        </p:nvPicPr>
        <p:blipFill>
          <a:blip r:embed="rId11"/>
          <a:srcRect l="-2878" t="42389" r="66757" b="0"/>
          <a:stretch/>
        </p:blipFill>
        <p:spPr>
          <a:xfrm rot="21385800">
            <a:off x="7027560" y="1871280"/>
            <a:ext cx="493560" cy="870120"/>
          </a:xfrm>
          <a:prstGeom prst="rect">
            <a:avLst/>
          </a:prstGeom>
          <a:ln w="0">
            <a:noFill/>
          </a:ln>
        </p:spPr>
      </p:pic>
      <p:sp>
        <p:nvSpPr>
          <p:cNvPr id="96" name="TextBox 15"/>
          <p:cNvSpPr/>
          <p:nvPr/>
        </p:nvSpPr>
        <p:spPr>
          <a:xfrm>
            <a:off x="459720" y="5929200"/>
            <a:ext cx="837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ff"/>
                </a:solidFill>
                <a:latin typeface="Arial"/>
              </a:rPr>
              <a:t>И все новые и новые капельки присоединялись к этому облаку,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66ff"/>
                </a:solidFill>
                <a:latin typeface="Arial"/>
              </a:rPr>
              <a:t>оно соединялось с другими, превращаясь в огромную тучу. Наконе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ff"/>
                </a:solidFill>
                <a:latin typeface="Arial"/>
              </a:rPr>
              <a:t>туча стала большой и тяжелой, что хлынул дожд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blinds dir="horz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59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65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71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7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7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77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83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0.00625 L -0.00417 0.33959 E">
                                      <p:cBhvr>
                                        <p:cTn id="289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4"/>
          <p:cNvSpPr/>
          <p:nvPr/>
        </p:nvSpPr>
        <p:spPr>
          <a:xfrm>
            <a:off x="214200" y="428760"/>
            <a:ext cx="8643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Наша капелька попала на землю, вместе с другими просочилась вглубь. Проходя через почву и песок, капля очистилась, стала прозрачной, похожей на маленький хрустал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Теперь она снова жила в родничке и готовилась к новому путешеств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Содержимое 12" descr="10SC060.JPG"/>
          <p:cNvPicPr/>
          <p:nvPr/>
        </p:nvPicPr>
        <p:blipFill>
          <a:blip r:embed="rId1"/>
          <a:stretch/>
        </p:blipFill>
        <p:spPr>
          <a:xfrm>
            <a:off x="1500120" y="2143080"/>
            <a:ext cx="5786640" cy="42148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2" descr="43e6f5ea719d41b0949eb001a24caf91.gif"/>
          <p:cNvPicPr/>
          <p:nvPr/>
        </p:nvPicPr>
        <p:blipFill>
          <a:blip r:embed="rId2"/>
          <a:stretch/>
        </p:blipFill>
        <p:spPr>
          <a:xfrm>
            <a:off x="5715000" y="542916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2" descr="43e6f5ea719d41b0949eb001a24caf91.gif"/>
          <p:cNvPicPr/>
          <p:nvPr/>
        </p:nvPicPr>
        <p:blipFill>
          <a:blip r:embed="rId3"/>
          <a:stretch/>
        </p:blipFill>
        <p:spPr>
          <a:xfrm>
            <a:off x="4429080" y="557208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2" descr="43e6f5ea719d41b0949eb001a24caf91.gif"/>
          <p:cNvPicPr/>
          <p:nvPr/>
        </p:nvPicPr>
        <p:blipFill>
          <a:blip r:embed="rId4"/>
          <a:stretch/>
        </p:blipFill>
        <p:spPr>
          <a:xfrm>
            <a:off x="2286000" y="4929120"/>
            <a:ext cx="571680" cy="66672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blinds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2:38:57Z</dcterms:created>
  <dc:creator>User</dc:creator>
  <dc:description/>
  <dc:language>en-US</dc:language>
  <cp:lastModifiedBy>XTreme.ws</cp:lastModifiedBy>
  <dcterms:modified xsi:type="dcterms:W3CDTF">2015-10-21T07:08:26Z</dcterms:modified>
  <cp:revision>35</cp:revision>
  <dc:subject/>
  <dc:title>ВОДА — это прозрачная жидкость не имеющая цвета и запаха </dc:title>
</cp:coreProperties>
</file>