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84F-E575-435A-B533-5D88152A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F81-BF29-46CB-B3B6-55B302AD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62E-E2DA-4528-9F16-E757373E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A0E-5B02-49E1-A7F3-FB625E58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635E-C740-4ADC-9C2E-C6C3755A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6487-A10C-4289-AEA3-68CA628B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5B86-DD44-4DC6-B2DA-4EC7B031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FEA6-16E6-4C6F-A177-555E4459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2C07-05C3-4606-B34E-D1E8F8D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437A-D788-486E-B394-72FFF236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4820-BADC-4B09-BCB2-B78298AF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505-0249-4F53-9EF6-8FDF0A0B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5183-2F43-49FA-A5C0-CDBBEAE2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95BA-DC10-4D8D-812A-3E59325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E703-6228-41A3-9C02-9EA7DCA9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ECA9-CBC5-411E-8FE0-9441FEBF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C642-3447-473D-B47D-5C90F822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480E-9DB6-4DC4-B0B8-B08BBB83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915D-D78E-470F-87D6-0787136C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8356-6E3B-45D7-865A-9CCC266E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3AE3-E2EE-459C-8CCF-1E7EE557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C274-C18F-4C87-959E-AA41587D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336-BCB4-468C-84D3-E6BEC90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EBD98-3CE9-4B6F-AB88-A8BD1C91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F54C-6439-495A-986E-AC9FF42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D895-BC9F-44F0-B778-34466AD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B594-E483-4697-A538-FB89D01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D32B-AAFC-4BDE-BAED-3C8C78C9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D4A7-0A8E-4187-B44F-8DBEB4E2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90FE-73D2-4D51-9711-D913D3AD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61B2-50CC-4E6E-AB7B-531B19FA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8270-0369-4F54-901B-28FE76B8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E4DC4-C862-4737-A8B6-E65314A5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844-8C40-4AC5-986E-A027B2DB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FA05-E97C-4B87-ABD7-F740108E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105D-5C1D-443C-8FF0-93BB858E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1321-D2D1-4775-B1CF-2DEE1D80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A6EA-2A6D-4297-B1BB-BDA88A1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218E7-5D00-4EC5-AA74-0D5CFCA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FE84-82B1-486C-863A-30032F92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A835-C8AE-415D-B596-E013ADF7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66CD-AF08-4A03-B1EA-934B1118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7386-BB61-4FAD-A379-4662E78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14853-E5A9-4F19-A22E-05D05B0E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F5A-B588-4553-8896-19E13C46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FD219-80E9-49E3-A4FE-5CBEE484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4612-6BE9-47E9-A41D-C3E21EFD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29524-F0B1-4346-AE8B-8E062E9F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ECC8-5598-41B4-8896-ADC4A22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ADD2E-A731-46FD-9200-121607AC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477D9-0AA9-4AFE-AE1B-C968A1F5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9B09-2B88-4169-B390-785D227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BB5B-4068-445E-9795-6C0B3FE7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4A25B-491A-40E7-A050-F74D81D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E15EF-155D-4FA5-BE0C-6CD13BED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296-0CB5-4545-A670-242EDE3C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FC28-2D19-4391-BDCC-FBF84101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F46BD-779D-4A6D-A448-735F560F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F5F7-6C30-40E8-AF03-E4311D95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DFEAD-0F4A-4B93-8803-E54C393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EC0DA-8A4E-4EC1-A2E5-75036CD1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8CD78-9C43-4C1C-9628-368FB018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BD1A0-B531-4E5F-8B13-76D1C645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C4DF0-5820-4964-B2E9-22C1C897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26A1F-0E1E-48EC-A37C-76745AB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970E-17DC-498A-9912-28017DAA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19C-C9F9-4048-8D03-C00E509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786EC-BFFC-4153-86A2-85F589AD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DC8F1-9363-437D-9C3A-1B25F6E3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61455-3C03-48AD-99ED-817670B4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321-D249-4F46-A9C5-778DAD8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F9F-90D2-463C-AA5C-F6992B6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7DE-0FC9-4BFF-ACE5-3CAD51BDD86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F92-1D4D-4801-B700-74BDBBD3DF5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5F64-0E8B-4D3C-8B69-3950037A2B9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Овал 8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43" name="Овал 8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Овал 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6E35-D189-4A10-8754-5E2733D81B0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6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6878-E380-4292-AB0F-D1DB0F60D71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Прямоугольник 6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31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Блок-схема: процесс 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Блок-схема: процесс 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6759-05B4-46A6-855F-C3BEAC08CCB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.to/k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amigos.lv/img/blog/0/29/5807/HL2ix6JdLaevWxxKo.j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6267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28440" y="2349360"/>
            <a:ext cx="7786440" cy="319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астерская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7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Позитивные эмоции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7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70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Tahoma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Стр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143160" y="500040"/>
            <a:ext cx="29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51196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Радость, счасть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8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7438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моции окрашивают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шу жизнь в яркие краск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4" name="Picture 6" descr="488090"/>
          <p:cNvPicPr/>
          <p:nvPr/>
        </p:nvPicPr>
        <p:blipFill>
          <a:blip r:embed="rId1"/>
          <a:stretch/>
        </p:blipFill>
        <p:spPr>
          <a:xfrm>
            <a:off x="1332000" y="1989000"/>
            <a:ext cx="6667560" cy="41720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1500120" y="2011320"/>
            <a:ext cx="735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– это ветры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увающие паруса  кораб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его  иногда топ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без  них он не может плав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                                        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сли эмоции преобладают, захватывают целиком, мешают строить отношения и вести дела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142640" y="1483920"/>
            <a:ext cx="741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Рисунок 3" descr="original (3) (500x500, 25Kb)"/>
          <p:cNvPicPr/>
          <p:nvPr/>
        </p:nvPicPr>
        <p:blipFill>
          <a:blip r:embed="rId1"/>
          <a:stretch/>
        </p:blipFill>
        <p:spPr>
          <a:xfrm>
            <a:off x="1116000" y="1935000"/>
            <a:ext cx="77040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 же не хотите быть марионеткой в чужих руках?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5" descr="898327"/>
          <p:cNvPicPr/>
          <p:nvPr/>
        </p:nvPicPr>
        <p:blipFill>
          <a:blip r:embed="rId1"/>
          <a:stretch/>
        </p:blipFill>
        <p:spPr>
          <a:xfrm>
            <a:off x="1187280" y="1844640"/>
            <a:ext cx="77058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астерская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озитивные эмоции» для Вас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4" name="Picture 6" descr="1368884617_1300821893_yellow-balloon-picture"/>
          <p:cNvPicPr/>
          <p:nvPr/>
        </p:nvPicPr>
        <p:blipFill>
          <a:blip r:embed="rId1"/>
          <a:srcRect l="3101" t="0" r="5958" b="8419"/>
          <a:stretch/>
        </p:blipFill>
        <p:spPr>
          <a:xfrm>
            <a:off x="1428840" y="2000160"/>
            <a:ext cx="70722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Упражнение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«Покажи эмоцию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1714680" y="285840"/>
            <a:ext cx="684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3" descr="http://f11.ifotki.info/org/e52b55ce0af2b08315eb3f10ffae71cdd40d1a12321162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770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15640" y="28548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ша мас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действует на других люд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Picture 21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727236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2064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овтори фразу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«Уронили мишку на пол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3" name="Picture 4" descr="i?id=212666611-46-72&amp;n=21"/>
          <p:cNvPicPr/>
          <p:nvPr/>
        </p:nvPicPr>
        <p:blipFill>
          <a:blip r:embed="rId1"/>
          <a:stretch/>
        </p:blipFill>
        <p:spPr>
          <a:xfrm>
            <a:off x="1692360" y="1916280"/>
            <a:ext cx="6696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3880" y="260280"/>
            <a:ext cx="82155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   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брый день, уважаемые участники мастер класса!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143000" y="2214360"/>
            <a:ext cx="7786800" cy="31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320e04"/>
              </a:solidFill>
              <a:latin typeface="Times New Roman"/>
              <a:ea typeface="Times New Roman"/>
            </a:endParaRPr>
          </a:p>
        </p:txBody>
      </p:sp>
      <p:pic>
        <p:nvPicPr>
          <p:cNvPr id="280" name="Picture 7" descr="39125207_006"/>
          <p:cNvPicPr/>
          <p:nvPr/>
        </p:nvPicPr>
        <p:blipFill>
          <a:blip r:embed="rId1"/>
          <a:stretch/>
        </p:blipFill>
        <p:spPr>
          <a:xfrm>
            <a:off x="1187280" y="1857240"/>
            <a:ext cx="7704360" cy="45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пражнение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«Подари себе тепло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Picture 18" descr="c31f455e325c700a3733842aa07b046c"/>
          <p:cNvPicPr/>
          <p:nvPr/>
        </p:nvPicPr>
        <p:blipFill>
          <a:blip r:embed="rId1"/>
          <a:srcRect l="0" t="0" r="0" b="6752"/>
          <a:stretch/>
        </p:blipFill>
        <p:spPr>
          <a:xfrm>
            <a:off x="1403280" y="1989000"/>
            <a:ext cx="662472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3440" y="1052280"/>
            <a:ext cx="75405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Какое у вас сейчас настроение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8" name="Рисунок 7" descr="http://img0.liveinternet.ru/images/attach/c/8/101/926/101926518_lozh.jpg"/>
          <p:cNvPicPr/>
          <p:nvPr/>
        </p:nvPicPr>
        <p:blipFill>
          <a:blip r:embed="rId1"/>
          <a:stretch/>
        </p:blipFill>
        <p:spPr>
          <a:xfrm>
            <a:off x="1332000" y="1916280"/>
            <a:ext cx="756108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Прямоугольник 3"/>
          <p:cNvSpPr/>
          <p:nvPr/>
        </p:nvSpPr>
        <p:spPr>
          <a:xfrm>
            <a:off x="1143000" y="1859040"/>
            <a:ext cx="742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она бодрого, мажорного настроения. 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она приятного, благодушного настроения. </a:t>
            </a:r>
            <a:br>
              <a:rPr sz="2400"/>
            </a:b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она спокойного, уравновешенного тона. 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олетов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она неудовлетворенности, тревожности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она пессимизма, уныния, упадка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одар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5" descr="31b47cb99f29"/>
          <p:cNvPicPr/>
          <p:nvPr/>
        </p:nvPicPr>
        <p:blipFill>
          <a:blip r:embed="rId1"/>
          <a:stretch/>
        </p:blipFill>
        <p:spPr>
          <a:xfrm>
            <a:off x="1187280" y="2060640"/>
            <a:ext cx="619308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428760"/>
            <a:ext cx="7792920" cy="12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Чаще любите себя и направляйте силы на позити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6" name="Picture 5" descr="0a043ab38f61454dff710432b511a250"/>
          <p:cNvPicPr/>
          <p:nvPr/>
        </p:nvPicPr>
        <p:blipFill>
          <a:blip r:embed="rId1"/>
          <a:stretch/>
        </p:blipFill>
        <p:spPr>
          <a:xfrm>
            <a:off x="1116000" y="1989000"/>
            <a:ext cx="7848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1341000"/>
            <a:ext cx="7245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5600"/>
            </a:br>
            <a:endParaRPr b="0" lang="en-US" sz="5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 rot="10800000">
            <a:off x="8313840" y="3717360"/>
            <a:ext cx="149040" cy="12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6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8" descr="0032-03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28520" y="1071720"/>
            <a:ext cx="8755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Знакомство с эмоция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116000" y="189000"/>
            <a:ext cx="802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302" descr="http://img.amigos.lv/img/blog/0/29/5807/HL2ix6JdLaevWxxKa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916280"/>
            <a:ext cx="7634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64856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333399"/>
                </a:solidFill>
                <a:latin typeface="Tahoma"/>
              </a:rPr>
              <a:t>Наши эмоции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645000" y="-164304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10" descr="http://www.kcnlp.com.ua/lie_to_me/lie2me.jpg"/>
          <p:cNvPicPr/>
          <p:nvPr/>
        </p:nvPicPr>
        <p:blipFill>
          <a:blip r:embed="rId1"/>
          <a:stretch/>
        </p:blipFill>
        <p:spPr>
          <a:xfrm>
            <a:off x="1403280" y="1960560"/>
            <a:ext cx="7274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Уди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616280" y="-25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2916360" y="379440"/>
            <a:ext cx="32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51196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71640" y="2133360"/>
            <a:ext cx="79214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116000" y="5493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ра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55804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Печа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9" descr="1333933207_mimika_02"/>
          <p:cNvPicPr/>
          <p:nvPr/>
        </p:nvPicPr>
        <p:blipFill>
          <a:blip r:embed="rId1"/>
          <a:stretch/>
        </p:blipFill>
        <p:spPr>
          <a:xfrm>
            <a:off x="1476360" y="1844640"/>
            <a:ext cx="58024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Гне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18728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851360" y="142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1" descr="http://open.az/uploads/posts/2012-04/1333933263_mimika_06.jpg"/>
          <p:cNvPicPr/>
          <p:nvPr/>
        </p:nvPicPr>
        <p:blipFill>
          <a:blip r:embed="rId1"/>
          <a:stretch/>
        </p:blipFill>
        <p:spPr>
          <a:xfrm>
            <a:off x="2340000" y="2133720"/>
            <a:ext cx="54673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09:33Z</dcterms:created>
  <dc:creator>User</dc:creator>
  <dc:description/>
  <dc:language>en-US</dc:language>
  <cp:lastModifiedBy>UserPC</cp:lastModifiedBy>
  <dcterms:modified xsi:type="dcterms:W3CDTF">2022-09-12T20:29:12Z</dcterms:modified>
  <cp:revision>93</cp:revision>
  <dc:subject/>
  <dc:title>Слайд 1</dc:title>
</cp:coreProperties>
</file>