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5CC-1F7A-45A2-9F15-907A4421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86A-AE16-48B2-8693-7BB4E017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35D-3EDD-4762-8192-0E1A3168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4BC-5FF2-4AAC-AA32-AC1DB37A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0FA1-4F05-4083-8600-16123D51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A346-595E-4F48-8F87-F1C1A392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5DD2-381A-4A27-8524-00AD0CA2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93B2-91D6-4E30-A4AF-FAFEA8B7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0913-857D-4A65-8D5C-0DB65E35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BAFD-FEA9-4A62-A113-C1F6AEF4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07B8-E281-4473-A3FB-FF5EE8BA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45A4-F664-4209-AB37-3E75F94F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D9D1-8FC0-40DA-9FC7-6702CBB6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94AE-7FB4-43A3-8CBE-F2C17B01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5336-3F96-444B-AEB2-DCE5E501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01E6-B3F8-4DBA-9012-ACCD863D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DF9E-92BB-4D99-BF6B-EE7F8994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64A-E8BF-48CC-B2DD-211677D8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25D-2AA0-4A19-A66F-040D6E12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C5D-9A7E-4629-BD2C-9B059D7E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443-63FA-4DC5-B431-333EFD80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EC7-23CE-4B99-BDE3-68361325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8E91-B680-468F-9516-94269C95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DD4-9201-4ECC-B587-8160393E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600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600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-28706" y="9670"/>
                      <a:pt x="-28706" y="21600"/>
                    </a:cubicBezTo>
                    <a:cubicBezTo>
                      <a:pt x="-28706" y="21835"/>
                      <a:pt x="-28710" y="22070"/>
                      <a:pt x="-287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-28706" y="9670"/>
                      <a:pt x="-28706" y="21600"/>
                    </a:cubicBezTo>
                    <a:cubicBezTo>
                      <a:pt x="-28706" y="21835"/>
                      <a:pt x="-28710" y="22070"/>
                      <a:pt x="-287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E909-232F-4F61-934C-B475B60BB6B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120" y="2234520"/>
                    <a:ext cx="712800" cy="50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600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600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0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0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0"/>
                          <a:pt x="15230" y="0"/>
                        </a:cubicBezTo>
                        <a:cubicBezTo>
                          <a:pt x="27159" y="0"/>
                          <a:pt x="-28706" y="9670"/>
                          <a:pt x="-28706" y="21600"/>
                        </a:cubicBezTo>
                        <a:cubicBezTo>
                          <a:pt x="-28706" y="21835"/>
                          <a:pt x="-28710" y="22070"/>
                          <a:pt x="-287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0"/>
                          <a:pt x="15230" y="0"/>
                        </a:cubicBezTo>
                        <a:cubicBezTo>
                          <a:pt x="27159" y="0"/>
                          <a:pt x="-28706" y="9670"/>
                          <a:pt x="-28706" y="21600"/>
                        </a:cubicBezTo>
                        <a:cubicBezTo>
                          <a:pt x="-28706" y="21835"/>
                          <a:pt x="-28710" y="22070"/>
                          <a:pt x="-287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0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0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6EE7-0F8A-461D-B401-E1C664D431E8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ПОЭТЫ ВОСТОЧНОЙ СИБИРИ 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О ВЕЛИКОЙ ОТЕЧЕСТВЕННОЙ ВОЙНЕ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920" y="301320"/>
            <a:ext cx="86421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АНКЕТИРОВАНИЕ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Были заданы вопросы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аких поэтов Восточной Сибири вы знаете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акие произведения поэтов Восточной Сибири вы знаете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РЕЗУЛЬТАТЫ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Среди детей: знают поэтов Восточной Сибири – 26%;       не знают – 74% 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Среди взрослых: знают поэтов Восточной Сибири – 55%,       не знают – 45%.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Среди детей: знают произведения поэтов Восточной Сибири – 13%;       не знают – 87% 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Среди взрослых: знают произведения поэтов Восточной Сибири – 26%,       не знают – 74%.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частники проекта пришли к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выводу: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необходимо продолжать знакомиться с поэтами Восточной Сибири, чтобы не забывать их творчество. Для этого необходимо больше читать,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ть творчество писателей и поэтов,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бращаться к дополнительной литературе, вести поисковую работу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31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6 класс школа №4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облема нашего проекта: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ем больше времени проходит со дня окончания ВОв, тем больше она забывается. Всё меньше остаётся среди нас ветеранов, которые могут, как очевидцы и участники рассказать о том, чем была война для нашей Родины. Тем ценнее для нас творчество известных и менее известных поэтов Восточной Сибири. Многие создали прекрасные стихотворения о войне, но оказались несправедливо забытым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Times New Roman"/>
              </a:rPr>
              <a:t>Собрать материал и обработать его.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ЭТАПЫ НАШЕЙ РАБОТЫ: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оиск биографий (портретов) поэто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бор поэтического материа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руппирование материа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роведение анкетирования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тение стихотворений в класс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риготовление кроссворда, викторин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оставление презентаци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76720" y="333360"/>
            <a:ext cx="367200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Иосиф Уткин</a:t>
            </a:r>
            <a:br>
              <a:rPr sz="7200"/>
            </a:b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(1903-1944)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8" name="Picture 9" descr="10a"/>
          <p:cNvPicPr/>
          <p:nvPr/>
        </p:nvPicPr>
        <p:blipFill>
          <a:blip r:embed="rId1"/>
          <a:stretch/>
        </p:blipFill>
        <p:spPr>
          <a:xfrm>
            <a:off x="395280" y="333360"/>
            <a:ext cx="3889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32000" y="404280"/>
            <a:ext cx="37544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Марк Сергеев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(1926-1997)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Picture 4" descr="mark-sergeev"/>
          <p:cNvPicPr/>
          <p:nvPr/>
        </p:nvPicPr>
        <p:blipFill>
          <a:blip r:embed="rId1"/>
          <a:stretch/>
        </p:blipFill>
        <p:spPr>
          <a:xfrm>
            <a:off x="468360" y="1052640"/>
            <a:ext cx="4103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32000" y="476280"/>
            <a:ext cx="375444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Моисей Рыбаков (1919-1943)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2" name="Picture 4" descr="hello_html_m4574fad9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859280" y="475920"/>
            <a:ext cx="382752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Джек Алтаузен (1907-1942)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Picture 4" descr="doc6s1my9k5vk7xcef134_800_480"/>
          <p:cNvPicPr/>
          <p:nvPr/>
        </p:nvPicPr>
        <p:blipFill>
          <a:blip r:embed="rId1"/>
          <a:stretch/>
        </p:blipFill>
        <p:spPr>
          <a:xfrm>
            <a:off x="584280" y="476280"/>
            <a:ext cx="3571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32000" y="475920"/>
            <a:ext cx="375444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Анатолий Горбунов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(1942)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6" name="Рисунок 1" descr="https://im0-tub-ru.yandex.net/i?id=8157781d0e1aebf004b56f802d9cd35f-l&amp;n=13"/>
          <p:cNvPicPr/>
          <p:nvPr/>
        </p:nvPicPr>
        <p:blipFill>
          <a:blip r:embed="rId1"/>
          <a:stretch/>
        </p:blipFill>
        <p:spPr>
          <a:xfrm>
            <a:off x="468360" y="404640"/>
            <a:ext cx="3816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6T13:09:30Z</dcterms:created>
  <dc:creator>User</dc:creator>
  <dc:description/>
  <dc:language>en-US</dc:language>
  <cp:lastModifiedBy>Домашний</cp:lastModifiedBy>
  <dcterms:modified xsi:type="dcterms:W3CDTF">2022-08-31T07:00:20Z</dcterms:modified>
  <cp:revision>10</cp:revision>
  <dc:subject/>
  <dc:title>ПОЭТЫ ВОСТОЧНОЙ СИБИРИ  О ВЕЛИКОЙ ОТЕЧЕСТВЕННОЙ ВОЙНЕ</dc:title>
</cp:coreProperties>
</file>