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1A25-BE59-408B-A6DA-89503C6E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418A-D9A5-4BAC-8E50-E4F235C5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AD2C-8CF3-4BB1-9399-E56BB81FB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AFA9-D16E-4DFB-961E-AE30DA347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5C7D-AC12-4698-97B6-375F6363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7B4D-53F5-43A4-8D55-A926ADBA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CF01-8432-40F5-9CBB-497DA803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28CD-5674-45C9-AC16-26A12C15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49C6-2466-408E-9A5B-3D39C819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C60F-6171-4449-9C8E-916DA0B3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56A7-A34C-461B-8D68-2FD5D1A8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3475-961D-490B-8AB6-68B7F345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A15B-356F-4000-B717-E2B1101245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g15.nnm.ru/e/0/0/d/3/98d2675f7a3927cb4d63ed1f817.jpg" TargetMode="External"/><Relationship Id="rId2" Type="http://schemas.openxmlformats.org/officeDocument/2006/relationships/hyperlink" Target="http://mir-nasekomyh.ru/uploads/images/Gallery/Muravishka/gusenitsa_zemlemer.jpg" TargetMode="External"/><Relationship Id="rId3" Type="http://schemas.openxmlformats.org/officeDocument/2006/relationships/hyperlink" Target="http://invasives.wsu.edu/defoliators/species_faqs/graphics/gardenrose_tortrix/gardenrose_larva.jpg" TargetMode="External"/><Relationship Id="rId4" Type="http://schemas.openxmlformats.org/officeDocument/2006/relationships/hyperlink" Target="http://macroid.ru/_data/89/DSC_2849.jpg" TargetMode="External"/><Relationship Id="rId5" Type="http://schemas.openxmlformats.org/officeDocument/2006/relationships/hyperlink" Target="http://900igr.net/datai/literatura/Bianki-1/0012-017-ZHuchok-bloshachok.jpg" TargetMode="External"/><Relationship Id="rId6" Type="http://schemas.openxmlformats.org/officeDocument/2006/relationships/hyperlink" Target="http://img-fotki.yandex.ru/get/3708/pastoralex.13/0_47575_fa3cff08_XL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57040" y="1143000"/>
            <a:ext cx="8886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яя общеобразовательная  школа № 3 г. Амурс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мурского муниципального района Хабаровского кр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785880" y="2357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рок литературного чтения во 2 клас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истема развивающего обучения Л.В. Занк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.В. Бианки «Как Муравьишка домой спеши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786120" y="4929120"/>
            <a:ext cx="51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окина Александра Владимировна, 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шей квалификационной категори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643200" y="592920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7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000160" y="1142640"/>
            <a:ext cx="525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Водом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5"/>
          <p:cNvPicPr/>
          <p:nvPr/>
        </p:nvPicPr>
        <p:blipFill>
          <a:blip r:embed="rId1"/>
          <a:stretch/>
        </p:blipFill>
        <p:spPr>
          <a:xfrm>
            <a:off x="1928880" y="2071800"/>
            <a:ext cx="5294160" cy="4030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941480" y="1071360"/>
            <a:ext cx="5259600" cy="51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Майский Хру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6"/>
          <p:cNvPicPr/>
          <p:nvPr/>
        </p:nvPicPr>
        <p:blipFill>
          <a:blip r:embed="rId1"/>
          <a:stretch/>
        </p:blipFill>
        <p:spPr>
          <a:xfrm>
            <a:off x="1643040" y="1928880"/>
            <a:ext cx="5888160" cy="4160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13880" y="1571400"/>
            <a:ext cx="77043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Гусеница - Листовёр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7"/>
          <p:cNvPicPr/>
          <p:nvPr/>
        </p:nvPicPr>
        <p:blipFill>
          <a:blip r:embed="rId1"/>
          <a:stretch/>
        </p:blipFill>
        <p:spPr>
          <a:xfrm>
            <a:off x="1285920" y="2571840"/>
            <a:ext cx="6537240" cy="3338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37151853"/>
          <p:cNvPicPr/>
          <p:nvPr/>
        </p:nvPicPr>
        <p:blipFill>
          <a:blip r:embed="rId1"/>
          <a:stretch/>
        </p:blipFill>
        <p:spPr>
          <a:xfrm>
            <a:off x="611280" y="1916280"/>
            <a:ext cx="3168720" cy="31683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7"/>
          <p:cNvSpPr/>
          <p:nvPr/>
        </p:nvSpPr>
        <p:spPr>
          <a:xfrm>
            <a:off x="3006000" y="1376640"/>
            <a:ext cx="4946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Гусеница-Землемер</a:t>
            </a:r>
            <a:br>
              <a:rPr sz="3200"/>
            </a:b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аук-Сенокосе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Жуже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Жучок-Блошач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Кузне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Водоме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Майский Хру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Гусеница-Листовёртка</a:t>
            </a:r>
            <a:r>
              <a:rPr b="1" lang="ru-RU" sz="22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Рисунок1"/>
          <p:cNvPicPr/>
          <p:nvPr/>
        </p:nvPicPr>
        <p:blipFill>
          <a:blip r:embed="rId2"/>
          <a:stretch/>
        </p:blipFill>
        <p:spPr>
          <a:xfrm>
            <a:off x="0" y="5221440"/>
            <a:ext cx="4675320" cy="1636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Рисунок1"/>
          <p:cNvPicPr/>
          <p:nvPr/>
        </p:nvPicPr>
        <p:blipFill>
          <a:blip r:embed="rId3"/>
          <a:stretch/>
        </p:blipFill>
        <p:spPr>
          <a:xfrm>
            <a:off x="4324320" y="5189400"/>
            <a:ext cx="4819680" cy="1668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j0432587"/>
          <p:cNvPicPr/>
          <p:nvPr/>
        </p:nvPicPr>
        <p:blipFill>
          <a:blip r:embed="rId4"/>
          <a:stretch/>
        </p:blipFill>
        <p:spPr>
          <a:xfrm>
            <a:off x="7308720" y="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357120" y="1071720"/>
            <a:ext cx="8353440" cy="52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Использованные ресур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шаблона:  Ранько Елена Алексеевна  учитель начальных классов   МАОУ лицей №21   г. Ивано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 u="sng">
                <a:solidFill>
                  <a:srgbClr val="008000"/>
                </a:solidFill>
                <a:uFillTx/>
                <a:latin typeface="Arial"/>
                <a:hlinkClick r:id="rId1"/>
              </a:rPr>
              <a:t>http://img15.nnm.ru/e/0/0/d/3/98d2675f7a3927cb4d63ed1f817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одом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8000"/>
                </a:solidFill>
                <a:uFillTx/>
                <a:latin typeface="Arial"/>
                <a:hlinkClick r:id="rId2"/>
              </a:rPr>
              <a:t>http://mir-nasekomyh.ru/uploads/images/Gallery/Muravishka/gusenitsa_zemlemer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Гусеница - Землемер</a:t>
            </a:r>
            <a:br>
              <a:rPr sz="1200"/>
            </a:br>
            <a:br>
              <a:rPr sz="1200"/>
            </a:br>
            <a:r>
              <a:rPr b="0" lang="ru-RU" sz="1200" spc="-1" strike="noStrike" u="sng">
                <a:solidFill>
                  <a:srgbClr val="008000"/>
                </a:solidFill>
                <a:uFillTx/>
                <a:latin typeface="Arial"/>
                <a:hlinkClick r:id="rId3"/>
              </a:rPr>
              <a:t>http://invasives.wsu.edu/defoliators/species_faqs/graphics/gardenrose_tortrix/gardenrose_larva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Гусеница - Листовёртка</a:t>
            </a:r>
            <a:br>
              <a:rPr sz="1200"/>
            </a:br>
            <a:br>
              <a:rPr sz="1200"/>
            </a:br>
            <a:r>
              <a:rPr b="0" lang="ru-RU" sz="1200" spc="-1" strike="noStrike" u="sng">
                <a:solidFill>
                  <a:srgbClr val="008000"/>
                </a:solidFill>
                <a:uFillTx/>
                <a:latin typeface="Arial"/>
                <a:hlinkClick r:id="rId4"/>
              </a:rPr>
              <a:t>http://macroid.ru/_data/89/DSC_2849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Жужелица</a:t>
            </a:r>
            <a:br>
              <a:rPr sz="1200"/>
            </a:br>
            <a:br>
              <a:rPr sz="1200"/>
            </a:br>
            <a:r>
              <a:rPr b="0" lang="ru-RU" sz="1200" spc="-1" strike="noStrike" u="sng">
                <a:solidFill>
                  <a:srgbClr val="008000"/>
                </a:solidFill>
                <a:uFillTx/>
                <a:latin typeface="Arial"/>
                <a:hlinkClick r:id="rId5"/>
              </a:rPr>
              <a:t>http://900igr.net/datai/literatura/Bianki-1/0012-017-ZHuchok-bloshachok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Жучок - Блошачок</a:t>
            </a:r>
            <a:br>
              <a:rPr sz="1200"/>
            </a:br>
            <a:br>
              <a:rPr sz="1200"/>
            </a:br>
            <a:r>
              <a:rPr b="0" lang="ru-RU" sz="1200" spc="-1" strike="noStrike" u="sng">
                <a:solidFill>
                  <a:srgbClr val="008000"/>
                </a:solidFill>
                <a:uFillTx/>
                <a:latin typeface="Arial"/>
                <a:hlinkClick r:id="rId6"/>
              </a:rPr>
              <a:t>http://img-fotki.yandex.ru/get/3708/pastoralex.13/0_47575_fa3cff08_X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узнеч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kned.35photo.ru/photos/20080721/49690.jpg Майский Хрущ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http://www.graycell.ru/picture/big/senokosec.jpg  Паук -Сенокосец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musafirova.ucoz.ru/Rebjata/Chitalnyj_zal/Foto/Bianki.jpg  портрет В.В. Биа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Bianki"/>
          <p:cNvPicPr/>
          <p:nvPr/>
        </p:nvPicPr>
        <p:blipFill>
          <a:blip r:embed="rId1"/>
          <a:stretch/>
        </p:blipFill>
        <p:spPr>
          <a:xfrm>
            <a:off x="3116160" y="692280"/>
            <a:ext cx="2911680" cy="3889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1511280" y="494172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Виталий Валентинович </a:t>
            </a:r>
            <a:br>
              <a:rPr sz="3200"/>
            </a:b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Биа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37151853"/>
          <p:cNvPicPr/>
          <p:nvPr/>
        </p:nvPicPr>
        <p:blipFill>
          <a:blip r:embed="rId1"/>
          <a:stretch/>
        </p:blipFill>
        <p:spPr>
          <a:xfrm>
            <a:off x="250920" y="393372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Рисунок1"/>
          <p:cNvPicPr/>
          <p:nvPr/>
        </p:nvPicPr>
        <p:blipFill>
          <a:blip r:embed="rId2"/>
          <a:stretch/>
        </p:blipFill>
        <p:spPr>
          <a:xfrm>
            <a:off x="0" y="5221440"/>
            <a:ext cx="4675320" cy="1636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Рисунок1"/>
          <p:cNvPicPr/>
          <p:nvPr/>
        </p:nvPicPr>
        <p:blipFill>
          <a:blip r:embed="rId3"/>
          <a:stretch/>
        </p:blipFill>
        <p:spPr>
          <a:xfrm>
            <a:off x="4324320" y="5189400"/>
            <a:ext cx="4819680" cy="1668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j0432587"/>
          <p:cNvPicPr/>
          <p:nvPr/>
        </p:nvPicPr>
        <p:blipFill>
          <a:blip r:embed="rId4"/>
          <a:stretch/>
        </p:blipFill>
        <p:spPr>
          <a:xfrm>
            <a:off x="7308720" y="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2071800" y="928800"/>
            <a:ext cx="47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Речевая разми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357280" y="1567800"/>
            <a:ext cx="4315320" cy="44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-равь-иш-ка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у-се-ни-ца – Зем-ле-мер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-ук – Се-но-ко-сец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-же-ли-ца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-чок – Бло-ша-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з-не-чик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-до-мер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й-ский Хрущ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у-се-ни-ца – Лис-то-вёрт-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357120" y="1377720"/>
            <a:ext cx="8429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Скрючился – сильно согнул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Ходули – высокие шесты для ходьб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Ботва – стебли и листья огородных раст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Загривок – расстояние от затылка до ше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Шибче – быстре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вей – подвижнее, быстрее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2"/>
          <p:cNvPicPr/>
          <p:nvPr/>
        </p:nvPicPr>
        <p:blipFill>
          <a:blip r:embed="rId1"/>
          <a:stretch/>
        </p:blipFill>
        <p:spPr>
          <a:xfrm>
            <a:off x="1565280" y="1557360"/>
            <a:ext cx="6012000" cy="45622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928520" y="1142640"/>
            <a:ext cx="52592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Гусеница - Землем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"/>
          <p:cNvPicPr/>
          <p:nvPr/>
        </p:nvPicPr>
        <p:blipFill>
          <a:blip r:embed="rId1"/>
          <a:stretch/>
        </p:blipFill>
        <p:spPr>
          <a:xfrm>
            <a:off x="2265480" y="1557360"/>
            <a:ext cx="4613040" cy="46134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928520" y="999720"/>
            <a:ext cx="52592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Паук - Сенокос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928520" y="999720"/>
            <a:ext cx="52592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Жужел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DSC_2849"/>
          <p:cNvPicPr/>
          <p:nvPr/>
        </p:nvPicPr>
        <p:blipFill>
          <a:blip r:embed="rId1"/>
          <a:stretch/>
        </p:blipFill>
        <p:spPr>
          <a:xfrm>
            <a:off x="2378160" y="1557360"/>
            <a:ext cx="4386240" cy="4386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000160" y="1280880"/>
            <a:ext cx="525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Жучок - Блошач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3"/>
          <p:cNvPicPr/>
          <p:nvPr/>
        </p:nvPicPr>
        <p:blipFill>
          <a:blip r:embed="rId1"/>
          <a:stretch/>
        </p:blipFill>
        <p:spPr>
          <a:xfrm>
            <a:off x="1857240" y="2000160"/>
            <a:ext cx="5319720" cy="3830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928520" y="1142640"/>
            <a:ext cx="52592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Кузне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4"/>
          <p:cNvPicPr/>
          <p:nvPr/>
        </p:nvPicPr>
        <p:blipFill>
          <a:blip r:embed="rId1"/>
          <a:stretch/>
        </p:blipFill>
        <p:spPr>
          <a:xfrm>
            <a:off x="1428840" y="1785960"/>
            <a:ext cx="6332400" cy="4159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15:51:37Z</dcterms:created>
  <dc:creator>Наталья Терпугова</dc:creator>
  <dc:description/>
  <dc:language>en-US</dc:language>
  <cp:lastModifiedBy>каб24</cp:lastModifiedBy>
  <dcterms:modified xsi:type="dcterms:W3CDTF">2018-07-23T23:47:42Z</dcterms:modified>
  <cp:revision>41</cp:revision>
  <dc:subject/>
  <dc:title>Терпугова Н.В._Приключения Муравьишки</dc:title>
</cp:coreProperties>
</file>