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C839-0378-40EE-A8A8-356234D0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97F9-B38E-4D2E-85F9-AA53C869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2AC2-ADB3-4FCF-B77E-B3A5C41F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7487-8068-41CE-9FBB-DCC8B4C8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21B6-52D0-464F-8E5D-01CAE87B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9D0C-5F72-4707-AF5D-546B4EA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1C4C-6C45-43BB-9F92-6828F96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ECD3-2B22-4992-82F0-A014BD6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53A7-7952-47F5-A0A7-BC6C5B2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2159-64CF-4469-8BDA-0FE9D2C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990C-6D08-48FB-B1B8-1AD3C82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2C11-FF18-4401-8CFD-F99DF480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074-7D53-435D-A02F-54816EF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2A3A-5D91-4D51-8676-D4FDF4B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910F-F3EC-4C48-A0F5-1E2CE8BB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061-FE73-41EB-97C9-CFC5577B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F58E-E8ED-42A9-BFEF-8F14BF25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EE9F-6941-48EE-9907-302948A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8A47-317B-42DC-8E4A-125BEE0B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3032-8F82-4BF2-8BD2-87BB83C7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CF99-61F1-4AD6-8EC0-C71EA2EB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5CBB-34B7-4FFD-A4B5-50C5264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8763-B284-417A-BD98-C99148A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741F-5721-44ED-A0F6-898DAD3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77B9-DEA5-437D-98CB-CAF1ADDDE0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9903-1334-4364-A9F0-8E80721BA1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30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40.xml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m_043"/>
          <p:cNvPicPr/>
          <p:nvPr/>
        </p:nvPicPr>
        <p:blipFill>
          <a:blip r:embed="rId1"/>
          <a:stretch/>
        </p:blipFill>
        <p:spPr>
          <a:xfrm>
            <a:off x="6012000" y="476280"/>
            <a:ext cx="2857320" cy="3181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857680"/>
            <a:ext cx="6516720" cy="100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3aa91"/>
                </a:solidFill>
                <a:latin typeface="Arial"/>
              </a:rPr>
              <a:t>3 раунд игры «Самый умный химик»,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252360" y="4266720"/>
            <a:ext cx="964872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священной 150 – лет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ериодической таблицы химических элементо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Д.И. Менделее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Ответ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они проводили параллель только между сходными элементами, даже не сравнивая явно несходные, такие, например, как натрий и хл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84360" y="5084640"/>
            <a:ext cx="158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cccc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Na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cccc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6804000" y="1197000"/>
            <a:ext cx="15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AutoShape 10">
            <a:hlinkClick r:id="rId1" action="ppaction://hlinksldjump"/>
          </p:cNvPr>
          <p:cNvSpPr/>
          <p:nvPr/>
        </p:nvSpPr>
        <p:spPr>
          <a:xfrm rot="10800000">
            <a:off x="7956360" y="6453360"/>
            <a:ext cx="865080" cy="28872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1800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89647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химических элем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979640" y="436572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4427640" y="155736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3aa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</a:t>
            </a:r>
            <a:endParaRPr b="1" lang="en-US" sz="1800" spc="1" strike="noStrike">
              <a:ln w="0">
                <a:noFill/>
              </a:ln>
              <a:solidFill>
                <a:srgbClr val="e3aa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3203640" y="486900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</a:t>
            </a:r>
            <a:endParaRPr b="1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580000" y="5445000"/>
            <a:ext cx="100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6e3d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</a:t>
            </a:r>
            <a:endParaRPr b="1" lang="en-US" sz="1800" spc="1" strike="noStrike">
              <a:ln w="0">
                <a:noFill/>
              </a:ln>
              <a:solidFill>
                <a:srgbClr val="f6e3d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8028000" y="404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395280" y="5445000"/>
            <a:ext cx="86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5f5f5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5f5f5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5580000" y="400536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50920" y="2205000"/>
            <a:ext cx="115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g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6299280" y="1557360"/>
            <a:ext cx="9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e</a:t>
            </a:r>
            <a:endParaRPr b="1" lang="en-US" sz="1800" spc="1" strike="noStrike">
              <a:ln w="0">
                <a:noFill/>
              </a:ln>
              <a:solidFill>
                <a:srgbClr val="ff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7812000" y="378936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u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AutoShape 1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4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4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 вытекает из названия первого варианта системы Д.И. Менделеева «Опыт системы элементов, основанной на атомном весе и химическом сходств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чь идет о скандии, галлии, герман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39640" y="3141720"/>
            <a:ext cx="165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3132000" y="4365720"/>
            <a:ext cx="194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6659640" y="3068640"/>
            <a:ext cx="17794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AutoShape 11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4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20360"/>
            <a:ext cx="9144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3424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ых, которые своими работами подтверждали справедливость периодического закона. Это прежде всего П. Лекок де Буабодран, Л. Нильсон,             К. Винклер. Они открыли предсказанные Д.И. Менделеевым галлий, скандий, герм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468360" y="404640"/>
            <a:ext cx="13669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3419640" y="5516640"/>
            <a:ext cx="107928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3995640" y="69228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4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17431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олбцы таблицы попали элементы, далекие по свойствам от тех, которые расположены над ними: хром, титан, марганец и железо. В таблице Ньюлендса не было мест для размещения еще не открытых элементов, отсутствовало деление элементов на группы и периоды, поэтому непонятен физический смысл рядов и столб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91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вания каких химических элементов происходят от названий частей све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6288120" y="404640"/>
            <a:ext cx="2855880" cy="28450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43588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из химических элементов сначала был найден астрономами, а уже позже его открытие подтвердили хими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rcRect l="25505" t="28635" r="18429" b="17022"/>
          <a:stretch/>
        </p:blipFill>
        <p:spPr>
          <a:xfrm>
            <a:off x="6588000" y="476280"/>
            <a:ext cx="2232000" cy="192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3616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-шут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сли к названию элемента прибавить одну букву, то получится синоним слова «метель». О каком элементе идет реч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997360"/>
            <a:ext cx="8425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мент, название которого в переводе с латинского – «утренняя зар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сканирование0001"/>
          <p:cNvPicPr/>
          <p:nvPr/>
        </p:nvPicPr>
        <p:blipFill>
          <a:blip r:embed="rId1"/>
          <a:stretch/>
        </p:blipFill>
        <p:spPr>
          <a:xfrm rot="826200">
            <a:off x="6659640" y="259920"/>
            <a:ext cx="3216240" cy="223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857160"/>
            <a:ext cx="8496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«Другого ничего в природе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Ни здесь, ни там, в космических глубин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се – от песчинок малых до плане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Из элементов состоит еди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Как формула, как график труд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Строй менделеевской системы стр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округ тебя творится мир жи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ходи в него, вдыхай, руками трогай</a:t>
            </a: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С.Щипа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 металла имеют магнитные свойства. Назовите порядковые номера химических элементов, из атомов которых эти металлы состо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21034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«Алхимическом словаре» Руланда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(1612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т элемент отнесен к металлам и назван «легчайшим, бледнейшим и дешевейшим свинцом». В России его называли то «нимфой», то «глаурой», то «демогоргоном». Происхождение современного названия элемента тоже покрыто тайной. Одни считают, что оно происходит от арабских слов «би исмид» — похожий на сурьму. Другие предполагают, что название элемента древнегерманского происхождения и означает «белый металл». Атомы элемента имеют электронную конфигурацию [Хе]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Что это за элемент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7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мент №63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европ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ван в честь Европы, элемент №95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мериц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в честь Аме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324000" y="4508640"/>
            <a:ext cx="129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Eu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659640" y="83664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m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AutoShape 7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элемент №2 – гелий (от греческого «гелиос» - солнце), открытый астрономами Ж. Жансеном и Н. Локьером, а также химиками У. Рамзаем и П. Кле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6732720" y="907920"/>
            <a:ext cx="1871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 элементе № 92 – уране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e3aa91"/>
                </a:solidFill>
                <a:latin typeface="Arial"/>
              </a:rPr>
              <a:t>(уран – буран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195640" y="4149720"/>
            <a:ext cx="158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ecff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U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ecff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63280" y="2707920"/>
            <a:ext cx="692316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лемент № 79 – золот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916360" y="3500280"/>
            <a:ext cx="29509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3fca2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Au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3fca2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669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6, 27, 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Железо, кобальт, никель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900000" y="4221000"/>
            <a:ext cx="223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F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4859280" y="4797360"/>
            <a:ext cx="18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Co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7451640" y="2997360"/>
            <a:ext cx="1513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620640"/>
            <a:ext cx="181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-путаник – это висмут, легкоплавкий диамагнитный металл красновато-белого цвета, последний по номеру элемент Периодической системы, не обладающий естественной радиоактивностью. Висмут в свободном виде впервые выделил в 1739 году немецкий химик Иоганн Генрих Пот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5651640" y="981000"/>
            <a:ext cx="172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aa91"/>
                  </a:solidFill>
                  <a:miter/>
                </a:ln>
                <a:solidFill>
                  <a:srgbClr val="ffcccc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Bi</a:t>
            </a:r>
            <a:endParaRPr b="0" lang="en-US" sz="1800" spc="1" strike="noStrike">
              <a:ln w="9360">
                <a:solidFill>
                  <a:srgbClr val="e3aa91"/>
                </a:solidFill>
                <a:miter/>
              </a:ln>
              <a:solidFill>
                <a:srgbClr val="ffcccc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3644640"/>
            <a:ext cx="88200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, в чём заключался научный подвиг  Д. И. Менделее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Pm00040"/>
          <p:cNvPicPr/>
          <p:nvPr/>
        </p:nvPicPr>
        <p:blipFill>
          <a:blip r:embed="rId1"/>
          <a:stretch/>
        </p:blipFill>
        <p:spPr>
          <a:xfrm>
            <a:off x="5867280" y="404640"/>
            <a:ext cx="3030480" cy="3095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2052720"/>
            <a:ext cx="84250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пару химических элементов, расположенных в периодической таблице не в порядке возрастания, а в порядке уменьшения атомных мас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3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2565360"/>
          <a:ext cx="8785440" cy="3613320"/>
        </p:xfrm>
        <a:graphic>
          <a:graphicData uri="http://schemas.openxmlformats.org/drawingml/2006/table">
            <a:tbl>
              <a:tblPr/>
              <a:tblGrid>
                <a:gridCol w="4006800"/>
                <a:gridCol w="795600"/>
                <a:gridCol w="798480"/>
                <a:gridCol w="795240"/>
                <a:gridCol w="795240"/>
                <a:gridCol w="798480"/>
                <a:gridCol w="795600"/>
              </a:tblGrid>
              <a:tr h="8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Открытие периодического зако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Путешествие по периодической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Вклад Д.И.Менделеева в открытие периодического закона и периодическ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57"/>
          <p:cNvSpPr/>
          <p:nvPr/>
        </p:nvSpPr>
        <p:spPr>
          <a:xfrm>
            <a:off x="1619280" y="476280"/>
            <a:ext cx="75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ериодическому закону будущее не грозит разрушением, а только надстройку и развитие обещает.</a:t>
            </a:r>
            <a:r>
              <a:rPr b="0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.И.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3">
            <a:hlinkClick r:id="rId19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143160"/>
            <a:ext cx="845172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лементов предсказал и подробно описал  Д. И. Менделеев? Назовите эти химические элементы в современном и историческом сти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4500720" y="50004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SP_A0452"/>
          <p:cNvPicPr/>
          <p:nvPr/>
        </p:nvPicPr>
        <p:blipFill>
          <a:blip r:embed="rId1"/>
          <a:stretch/>
        </p:blipFill>
        <p:spPr>
          <a:xfrm>
            <a:off x="6200640" y="333360"/>
            <a:ext cx="2943360" cy="338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6760" y="2786040"/>
            <a:ext cx="67150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дного из ученых, кого Д. И. Менделеев называл «укрепителями периодического зако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1500120"/>
            <a:ext cx="8535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какую группу поместил Д. И. Менделеев инертные газы? До какого года она просуществовал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C:\Users\Инна Юрьевна\Desktop\blagorodnye-gazy_1.jpg"/>
          <p:cNvPicPr/>
          <p:nvPr/>
        </p:nvPicPr>
        <p:blipFill>
          <a:blip r:embed="rId1"/>
          <a:stretch/>
        </p:blipFill>
        <p:spPr>
          <a:xfrm>
            <a:off x="928800" y="3500280"/>
            <a:ext cx="4024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210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му учёному Д.И.Менделеев предложил проверить удельный вес, открытого им химического элемента спектральным анализом и предсказанным великим учёным. Назовите химический элемент и учёного – спектроскопис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35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крытии периодического зак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https://prezentacii.org/uploads/files/19/01/119639/data/pres/screen4.jpg"/>
          <p:cNvPicPr/>
          <p:nvPr/>
        </p:nvPicPr>
        <p:blipFill>
          <a:blip r:embed="rId1"/>
          <a:srcRect l="46876" t="27372" r="12841" b="12894"/>
          <a:stretch/>
        </p:blipFill>
        <p:spPr>
          <a:xfrm>
            <a:off x="4214880" y="714240"/>
            <a:ext cx="4560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43040"/>
            <a:ext cx="6742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 - 19 (аргон-калий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7-28 (кобальт-никель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2-53 (теллур - йод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90 - 91(торий - протакти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казал 12, подробно  описал 3 – экаалюминий (галлий), экабор (скандий), экасилиций (герма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2928960" y="330372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6286680" y="3000240"/>
            <a:ext cx="1731960" cy="175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2214720"/>
            <a:ext cx="8820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Лекокк де Буабодра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 Винкле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.Ф. Нильсо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 Рамз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http://vashurok.ru/ckeditor_assets/pictures/1084/original_194088_or.jpg"/>
          <p:cNvPicPr/>
          <p:nvPr/>
        </p:nvPicPr>
        <p:blipFill>
          <a:blip r:embed="rId2"/>
          <a:stretch/>
        </p:blipFill>
        <p:spPr>
          <a:xfrm>
            <a:off x="4572000" y="142920"/>
            <a:ext cx="3610080" cy="266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Users\Инна Юрьевна\Desktop\000030.jpg"/>
          <p:cNvPicPr/>
          <p:nvPr/>
        </p:nvPicPr>
        <p:blipFill>
          <a:blip r:embed="rId3"/>
          <a:stretch/>
        </p:blipFill>
        <p:spPr>
          <a:xfrm>
            <a:off x="2714760" y="2928960"/>
            <a:ext cx="2314440" cy="304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:\Users\Инна Юрьевна\Desktop\lars_fredrik_nilson.png"/>
          <p:cNvPicPr/>
          <p:nvPr/>
        </p:nvPicPr>
        <p:blipFill>
          <a:blip r:embed="rId4"/>
          <a:stretch/>
        </p:blipFill>
        <p:spPr>
          <a:xfrm>
            <a:off x="5072040" y="2214720"/>
            <a:ext cx="3270240" cy="1714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C:\Users\Инна Юрьевна\Desktop\Mark-Richard-Milbanke-Sir-William-Ramsay-1852-1916-.jpg"/>
          <p:cNvPicPr/>
          <p:nvPr/>
        </p:nvPicPr>
        <p:blipFill>
          <a:blip r:embed="rId5"/>
          <a:stretch/>
        </p:blipFill>
        <p:spPr>
          <a:xfrm>
            <a:off x="5715000" y="3929040"/>
            <a:ext cx="205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3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левая группа. Она просуществовала до 196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C:\Users\Инна Юрьевна\Desktop\cea580a55dce70d8c90cabe208b9b4a1.jpg"/>
          <p:cNvPicPr/>
          <p:nvPr/>
        </p:nvPicPr>
        <p:blipFill>
          <a:blip r:embed="rId1"/>
          <a:stretch/>
        </p:blipFill>
        <p:spPr>
          <a:xfrm>
            <a:off x="1428840" y="2857680"/>
            <a:ext cx="48225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1600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417492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 галлий (экаалюминий). Учёный – Лекок де Буабод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https://feanoturiblog.files.wordpress.com/2017/04/lecoq.jpg?w=700"/>
          <p:cNvPicPr/>
          <p:nvPr/>
        </p:nvPicPr>
        <p:blipFill>
          <a:blip r:embed="rId1"/>
          <a:srcRect l="13235" t="0" r="13976" b="0"/>
          <a:stretch/>
        </p:blipFill>
        <p:spPr>
          <a:xfrm>
            <a:off x="4429080" y="1214280"/>
            <a:ext cx="3548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попыток классификации химических элементов до Д.И. Менделеева, считая варианты таблиц, достигало 50.  Некоторые из ученых (Л. Мейер, Д. Ньюлендс) очень близко подошли к открытию закона. И все же им не удалось довести свои попытки до завершения. Укажите основной недостаток в работах всех предшественников Д.И. Менделе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Image270"/>
          <p:cNvPicPr/>
          <p:nvPr/>
        </p:nvPicPr>
        <p:blipFill>
          <a:blip r:embed="rId1"/>
          <a:stretch/>
        </p:blipFill>
        <p:spPr>
          <a:xfrm>
            <a:off x="6443640" y="476280"/>
            <a:ext cx="2448000" cy="1386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7"/>
          <p:cNvSpPr txBox="1"/>
          <p:nvPr/>
        </p:nvSpPr>
        <p:spPr>
          <a:xfrm>
            <a:off x="2340000" y="1628640"/>
            <a:ext cx="619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6659640" y="4095720"/>
            <a:ext cx="2286000" cy="2286000"/>
            <a:chOff x="6659640" y="4095720"/>
            <a:chExt cx="2286000" cy="2286000"/>
          </a:xfrm>
        </p:grpSpPr>
        <p:sp>
          <p:nvSpPr>
            <p:cNvPr id="279" name="Oval 9"/>
            <p:cNvSpPr/>
            <p:nvPr/>
          </p:nvSpPr>
          <p:spPr>
            <a:xfrm>
              <a:off x="6659640" y="4095720"/>
              <a:ext cx="2286000" cy="228600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10" descr="сканирование0019"/>
            <p:cNvPicPr/>
            <p:nvPr/>
          </p:nvPicPr>
          <p:blipFill>
            <a:blip r:embed="rId1"/>
            <a:stretch/>
          </p:blipFill>
          <p:spPr>
            <a:xfrm>
              <a:off x="7230960" y="5238720"/>
              <a:ext cx="114300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WordArt 11"/>
            <p:cNvSpPr txBox="1"/>
            <p:nvPr/>
          </p:nvSpPr>
          <p:spPr>
            <a:xfrm>
              <a:off x="6786360" y="4667040"/>
              <a:ext cx="2072160" cy="97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Monotype Corsiva"/>
                </a:rPr>
                <a:t>САМЫЙ УМНЫЙ ХИМИК</a:t>
              </a:r>
              <a:endParaRPr b="1" lang="en-US" sz="2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345440" y="4324320"/>
              <a:ext cx="97164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latin typeface="Monotype Corsiva"/>
                </a:rPr>
                <a:t>Знаток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Monotype Corsiva"/>
                <a:ea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химических элементов было известно ко времени открытия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640" y="549360"/>
            <a:ext cx="2031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ложил в основу классификации химических элементов Д.И.Менделе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сканирование0001"/>
          <p:cNvPicPr/>
          <p:nvPr/>
        </p:nvPicPr>
        <p:blipFill>
          <a:blip r:embed="rId1"/>
          <a:srcRect l="0" t="0" r="0" b="16451"/>
          <a:stretch/>
        </p:blipFill>
        <p:spPr>
          <a:xfrm rot="1036200">
            <a:off x="6659640" y="836640"/>
            <a:ext cx="1827000" cy="2746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ердо убежденный в справедливости периодического закона Д.И.Менделеев предпринимает невиданный в истории химической науки шаг. Он описывает свойства трех из предсказанных им элементов, их соединений и даже методы, которыми эти химические элементы могут быть получены. О каких элементах идет 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сканирование0002"/>
          <p:cNvPicPr/>
          <p:nvPr/>
        </p:nvPicPr>
        <p:blipFill>
          <a:blip r:embed="rId1">
            <a:lum bright="-24000"/>
          </a:blip>
          <a:srcRect l="25399" t="3625" r="13562" b="1519"/>
          <a:stretch/>
        </p:blipFill>
        <p:spPr>
          <a:xfrm rot="591000">
            <a:off x="6256440" y="601200"/>
            <a:ext cx="2255760" cy="1573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4358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о Д.И.Менделеев называл «укрепителями»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224784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химик Д. Ньюлэндс (1863 г.), располагая элементы последовательно в порядке возрастания их атомных масс, заметил, что восьмой по счету элемент повторяет свойство первого, подобно повторению звуков в музыкальной октаве, и назвал свою таблицу «законом октав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>
            <a:hlinkClick r:id="rId1" action="ppaction://hlinksldjump"/>
          </p:cNvPr>
          <p:cNvSpPr/>
          <p:nvPr/>
        </p:nvSpPr>
        <p:spPr>
          <a:xfrm>
            <a:off x="82789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4854600"/>
          <a:ext cx="5904000" cy="1096920"/>
        </p:xfrm>
        <a:graphic>
          <a:graphicData uri="http://schemas.openxmlformats.org/drawingml/2006/table">
            <a:tbl>
              <a:tblPr/>
              <a:tblGrid>
                <a:gridCol w="843120"/>
                <a:gridCol w="842760"/>
                <a:gridCol w="843120"/>
                <a:gridCol w="846000"/>
                <a:gridCol w="843120"/>
                <a:gridCol w="842760"/>
                <a:gridCol w="8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2"/>
          <p:cNvSpPr/>
          <p:nvPr/>
        </p:nvSpPr>
        <p:spPr>
          <a:xfrm>
            <a:off x="0" y="6357960"/>
            <a:ext cx="831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едостатки были присущи закону окта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1:35Z</dcterms:created>
  <dc:creator>User</dc:creator>
  <dc:description/>
  <dc:language>en-US</dc:language>
  <cp:lastModifiedBy>Инна Юрьевна</cp:lastModifiedBy>
  <dcterms:modified xsi:type="dcterms:W3CDTF">2019-11-17T17:14:49Z</dcterms:modified>
  <cp:revision>48</cp:revision>
  <dc:subject/>
  <dc:title>Урок - игра</dc:title>
</cp:coreProperties>
</file>