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4BA-A926-4F9F-B919-FAEEC7BD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1C4-328B-45AD-BBCA-E48202B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676-CE1F-43A0-A6A2-3B14005C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C80-8F44-4777-B02C-81083D36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0D3-DA95-48E5-A878-4E218412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46A-02FC-4669-A385-29FF256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794-EC92-46FA-AD91-E3E9CEC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984-BF88-49B0-8043-D949D8DD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E34-9BA8-46AF-B6E1-61A640CF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3E6-DA73-4340-82B6-87FA707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8E7-DAF1-4F50-BF71-2B08C6C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5A5-3C7E-48A6-8EF1-B0C261D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709-D518-448B-9BA8-C09E358CA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областное автономно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ковский агропромышленный техникум»</a:t>
            </a: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исследовательская работа на тему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«Как укрепить здоровье?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(из личного опыта студента ГОАПО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«Данковского  агропромышленного техникума»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ыполни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удент группы Т-21-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Дронкин Роман Евгеньевич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уководитель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Дудкина Наталья Викторовна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ков, 2022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03280" y="90792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Музы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ирует выработку гормонов, ответственных за эмоциональное состояние человека, в том числе и тех, которые связаны с ощущением вдохновения и душевного поко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лучайно, великий ученый и мыслитель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Пифаг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итал, что музыка – это та же математика, и сочинял научно обоснованные мелодии,  которые лечили, «очищали» человеческие действия и восстанавливали первоначальную гармо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116000" y="1052640"/>
            <a:ext cx="757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 - обоюдоострое оружие, как меч без рукоятки: другого поразишь, но и сам руки обреж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Гнилые слова – от гнилого серд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вернословие отрицательно влияет на здоровье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нижению интеллекта, провоцирует преступления, создавая иллюзию вседозволенности, обворовывает нас духовно, унижает и оскорбля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питывая в себя словесную грязь, калечит людские судьбы, приводит к раннему старению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6920" y="1444680"/>
            <a:ext cx="7058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Негативные эмоции сказываются на  структуре организма и подобные изменения в организме человека неизменно приводят к возникновению различ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сару Эм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ть вопрос «Как укрепить здоровье», приобретение опыта решения данной проблем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нализ научной и методической литературы по данной тем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сказ о влиянии моего образа жизни на моё здоровь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исследования в области укрепления здоровь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результаты положительного личного опы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ть рекомендации другим людям по ведению здорового образа 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формировать ценностное отношение к своему здоровью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 исследован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проблемы укрепления собственного здоровья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ая, публицистическая и методическая литература, интернет – источники по данной тем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ы и приём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аучной и методической литературы по данной теме; метод собственного лингвистического осмысления материала (описательный, заключающийся в классификации материала и его системном описании, исходя из задач работы), 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методики сравнения, сопоставления и интерпрет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до того перевешивает все блага жизн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оистине здоровый нищий счастливее больного короля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ртур Шопенгауэр)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– это вершина, которую каждый должен покори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4560"/>
            <a:ext cx="8362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db6b"/>
                </a:solidFill>
                <a:latin typeface="Calibri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первая и важнейшая потребность человека, определяющая способность его к труду и обеспечивающая гармоничное развитие личности. Оно является важнейшей предпосылкой к познанию окружающего мира, к самоутверждению и счастью человек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26920" y="1268280"/>
            <a:ext cx="777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  <a:ea typeface="Calibri"/>
              </a:rPr>
              <a:t>Здоровь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ляет собой гармоничную совокупность структурно-функциональных данных организма, адекватных окружающей среде и обеспечивающих организму оптимальную жизнедеятельность, а также полноценную трудовую жизне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Здоровь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бесценное достояние не только каждого человека, но и все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нам выполнять наши планы, успешно решать основные жизненные задачи, преодолевать трудности, а если придется, то и значительные перегрузки. Доброе здоровье, разумно сохраняемое и укрепляемое самим человеком, обеспечивает ему долгую и актив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826920" y="260280"/>
            <a:ext cx="777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из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это естественное состояние организма, обусловленное нормальным функционированием всех его органов и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сих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висит от состояния головного мозга, оно характеризуется уровнем и качеством мышления, развитием внимания и памяти, степенью эмоциональной устойчивости, развитием волевых кач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равственн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ределяется теми моральными принципами, которые являются основой социальной жизни человека, т.е. жизни в определенном человеческом обществе. Отличительными признаками нравственного здоровья человека являются, прежде всего, сознательное отношение к труду, овладение сокровищами культуры, активное неприятие нравов и привычек, противоречащих нормальн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https://gp16.medkhv.ru/images/zoj1.jpg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http://school18.admsurgut.ru/images/5735.jpg"/>
          <p:cNvPicPr/>
          <p:nvPr/>
        </p:nvPicPr>
        <p:blipFill>
          <a:blip r:embed="rId1"/>
          <a:stretch/>
        </p:blipFill>
        <p:spPr>
          <a:xfrm>
            <a:off x="1187280" y="119700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308</cp:lastModifiedBy>
  <dcterms:modified xsi:type="dcterms:W3CDTF">2022-06-17T08:41:41Z</dcterms:modified>
  <cp:revision>175</cp:revision>
  <dc:subject/>
  <dc:title>Слайд 1</dc:title>
</cp:coreProperties>
</file>