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4EE41-4FDD-456D-83D0-BEE82C4B8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CA320-71E8-405B-B043-F8371CC40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637C-6563-4492-804F-26A92E2C74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AD9D-D602-49E8-A0AD-122157F59A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9C80A-36D0-4FBE-A885-16FC9E67F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CCC23-BF30-48E8-B27C-25A51953D9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23B0-955B-435C-A982-40AA6F7D44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BBC6D-4AA3-43F3-B8CF-F0B28A752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E3799-4F5D-42CC-8859-90B7579B6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6959-4D13-4CA7-98AF-4EB6ACFC0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DC43B-61AA-4AD9-9D23-4B13DFF1D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ADB3-8F19-4795-8442-97907719E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ab5e4"/>
            </a:gs>
            <a:gs pos="100000">
              <a:srgbClr val="e1e8f5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0D23B6-13DC-4B93-BCD6-50773F48983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6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енное областное автономное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фессиональное учреждени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Данковский агропромышленный техникум»</a:t>
            </a:r>
            <a:br>
              <a:rPr sz="1600"/>
            </a:br>
            <a:br>
              <a:rPr sz="16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исследовательская работа на тему: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«Как укрепить здоровье?»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(из личного опыта студента ГОАПОУ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                           «Данковского  агропромышленного техникума»)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 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                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Выполнил:</a:t>
            </a: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студент группы Т-21-1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Дронкин Роман Евгеньевич 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  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                   </a:t>
            </a:r>
            <a:r>
              <a:rPr b="0" i="1" lang="ru-RU" sz="1400" spc="-1" strike="noStrike">
                <a:solidFill>
                  <a:srgbClr val="000000"/>
                </a:solidFill>
                <a:latin typeface="Calibri"/>
              </a:rPr>
              <a:t>Руководитель: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                                                                                                         Дудкина Наталья Викторовна</a:t>
            </a:r>
            <a:br>
              <a:rPr sz="1400"/>
            </a:br>
            <a:br>
              <a:rPr sz="1400"/>
            </a:b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Calibri"/>
              </a:rPr>
              <a:t>Данков, 2022</a:t>
            </a:r>
            <a:br>
              <a:rPr sz="1400"/>
            </a:br>
            <a:br>
              <a:rPr sz="14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Прямоугольник 1"/>
          <p:cNvSpPr/>
          <p:nvPr/>
        </p:nvSpPr>
        <p:spPr>
          <a:xfrm>
            <a:off x="1403280" y="907920"/>
            <a:ext cx="7056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Calibri"/>
              </a:rPr>
              <a:t>Музыка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 стимулирует выработку гормонов, ответственных за эмоциональное состояние человека, в том числе и тех, которые связаны с ощущением вдохновения и душевного покоя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Неслучайно, великий ученый и мыслитель </a:t>
            </a:r>
            <a:r>
              <a:rPr b="0" lang="ru-RU" sz="2400" spc="-1" strike="noStrike">
                <a:solidFill>
                  <a:srgbClr val="00b0f0"/>
                </a:solidFill>
                <a:latin typeface="Times New Roman"/>
                <a:ea typeface="Calibri"/>
              </a:rPr>
              <a:t>Пифагор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считал, что музыка – это та же математика, и сочинял научно обоснованные мелодии,  которые лечили, «очищали» человеческие действия и восстанавливали первоначальную гармонию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b050"/>
                </a:solidFill>
                <a:latin typeface="Calibri"/>
              </a:rPr>
              <a:t>Сквернословие и здоровье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Прямоугольник 2"/>
          <p:cNvSpPr/>
          <p:nvPr/>
        </p:nvSpPr>
        <p:spPr>
          <a:xfrm>
            <a:off x="1116000" y="1052640"/>
            <a:ext cx="757080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т - обоюдоострое оружие, как меч без рукоятки: другого поразишь, но и сам руки обрежешь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«Гнилые слова – от гнилого сердца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квернословие отрицательно влияет на здоровье человек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способствует снижению интеллекта, провоцирует преступления, создавая иллюзию вседозволенности, обворовывает нас духовно, унижает и оскорбляет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впитывая в себя словесную грязь, калечит людские судьбы, приводит к раннему старению. 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r>
              <a:rPr b="1" lang="ru-RU" sz="2800" spc="-1" strike="noStrike">
                <a:solidFill>
                  <a:srgbClr val="00b050"/>
                </a:solidFill>
                <a:latin typeface="Calibri"/>
              </a:rPr>
              <a:t>Сквернословие и здоровье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826920" y="1444680"/>
            <a:ext cx="7058160" cy="338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181818"/>
                </a:solidFill>
                <a:latin typeface="Calibri"/>
                <a:ea typeface="Calibri"/>
              </a:rPr>
              <a:t>Негативные эмоции сказываются на  структуре организма и подобные изменения в организме человека неизменно приводят к возникновению различных заболеван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  <a:ea typeface="Calibri"/>
              </a:rPr>
              <a:t>                                         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Масару Эмото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78920" y="549360"/>
            <a:ext cx="8675640" cy="551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500"/>
            </a:br>
            <a:br>
              <a:rPr sz="2500"/>
            </a:br>
            <a:br>
              <a:rPr sz="25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Цель исслед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ассмотреть вопрос «Как укрепить здоровье», приобретение опыта решения данной проблемы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Задачи: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анализ научной и методической литературы по данной тем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рассказ о влиянии моего образа жизни на моё здоровье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писать исследования в области укрепления здоровья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описать результаты положительного личного опыта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дать рекомендации другим людям по ведению здорового образа жизни;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- сформировать ценностное отношение к своему здоровью.</a:t>
            </a:r>
            <a:br>
              <a:rPr sz="2000"/>
            </a:br>
            <a:br>
              <a:rPr sz="2000"/>
            </a:br>
            <a:br>
              <a:rPr sz="2000"/>
            </a:br>
            <a:br>
              <a:rPr sz="2000"/>
            </a:br>
            <a:br>
              <a:rPr sz="1600"/>
            </a:br>
            <a:br>
              <a:rPr sz="16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404280"/>
            <a:ext cx="8229600" cy="5877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Объект исследования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решение проблемы укрепления собственного здоровья.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Предмет исследования</a:t>
            </a:r>
            <a:r>
              <a:rPr b="0" i="1" lang="ru-RU" sz="2000" spc="-1" strike="noStrike">
                <a:solidFill>
                  <a:srgbClr val="000000"/>
                </a:solidFill>
                <a:latin typeface="Calibri"/>
              </a:rPr>
              <a:t> –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научная, публицистическая и методическая литература, интернет – источники по данной теме.</a:t>
            </a:r>
            <a:br>
              <a:rPr sz="2000"/>
            </a:b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Calibri"/>
              </a:rPr>
              <a:t>Методы и приёмы: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изучение научной и методической литературы по данной теме; метод собственного лингвистического осмысления материала (описательный, заключающийся в классификации материала и его системном описании, исходя из задач работы), а </a:t>
            </a:r>
            <a:br>
              <a:rPr sz="2000"/>
            </a:b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также методики сравнения, сопоставления и интерпретации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5315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ье до того перевешивает все блага жизни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что поистине здоровый нищий счастливее больного короля»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(Артур Шопенгауэр).</a:t>
            </a:r>
            <a:br>
              <a:rPr sz="2400"/>
            </a:b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Здоровье – это вершина, которую каждый должен покорить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4560"/>
            <a:ext cx="8362800" cy="603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db6b"/>
                </a:solidFill>
                <a:latin typeface="Calibri"/>
              </a:rPr>
              <a:t>Здоровье</a:t>
            </a: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 - это первая и важнейшая потребность человека, определяющая способность его к труду и обеспечивающая гармоничное развитие личности. Оно является важнейшей предпосылкой к познанию окружающего мира, к самоутверждению и счастью человека.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AutoShape 11"/>
          <p:cNvSpPr/>
          <p:nvPr/>
        </p:nvSpPr>
        <p:spPr>
          <a:xfrm>
            <a:off x="155520" y="-14436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13"/>
          <p:cNvSpPr/>
          <p:nvPr/>
        </p:nvSpPr>
        <p:spPr>
          <a:xfrm>
            <a:off x="63360" y="-136440"/>
            <a:ext cx="3049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Прямоугольник 2"/>
          <p:cNvSpPr/>
          <p:nvPr/>
        </p:nvSpPr>
        <p:spPr>
          <a:xfrm>
            <a:off x="826920" y="1268280"/>
            <a:ext cx="77774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alibri"/>
                <a:ea typeface="Calibri"/>
              </a:rPr>
              <a:t>Здоровье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  <a:ea typeface="Calibri"/>
              </a:rPr>
              <a:t>представляет собой гармоничную совокупность структурно-функциональных данных организма, адекватных окружающей среде и обеспечивающих организму оптимальную жизнедеятельность, а также полноценную трудовую жизнедеятельность.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Calibri"/>
              </a:rPr>
              <a:t>Здоровье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- бесценное достояние не только каждого человека, но и всего общ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2000" spc="-1" strike="noStrike">
                <a:solidFill>
                  <a:srgbClr val="000000"/>
                </a:solidFill>
                <a:latin typeface="Calibri"/>
              </a:rPr>
              <a:t>помогает нам выполнять наши планы, успешно решать основные жизненные задачи, преодолевать трудности, а если придется, то и значительные перегрузки. Доброе здоровье, разумно сохраняемое и укрепляемое самим человеком, обеспечивает ему долгую и активную жизнь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Прямоугольник 1"/>
          <p:cNvSpPr/>
          <p:nvPr/>
        </p:nvSpPr>
        <p:spPr>
          <a:xfrm>
            <a:off x="826920" y="260280"/>
            <a:ext cx="7777440" cy="588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Физическое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- это естественное состояние организма, обусловленное нормальным функционированием всех его органов и систем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Психическое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зависит от состояния головного мозга, оно характеризуется уровнем и качеством мышления, развитием внимания и памяти, степенью эмоциональной устойчивости, развитием волевых качеств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0000"/>
                </a:solidFill>
                <a:uFillTx/>
                <a:latin typeface="Times New Roman"/>
                <a:ea typeface="Calibri"/>
              </a:rPr>
              <a:t>Нравственное здоровь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 определяется теми моральными принципами, которые являются основой социальной жизни человека, т.е. жизни в определенном человеческом обществе. Отличительными признаками нравственного здоровья человека являются, прежде всего, сознательное отношение к труду, овладение сокровищами культуры, активное неприятие нравов и привычек, противоречащих нормальному образу жизни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Рисунок 2" descr="https://gp16.medkhv.ru/images/zoj1.jpg"/>
          <p:cNvPicPr/>
          <p:nvPr/>
        </p:nvPicPr>
        <p:blipFill>
          <a:blip r:embed="rId1"/>
          <a:stretch/>
        </p:blipFill>
        <p:spPr>
          <a:xfrm>
            <a:off x="1116000" y="476280"/>
            <a:ext cx="6912000" cy="5977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Рисунок 1" descr="http://school18.admsurgut.ru/images/5735.jpg"/>
          <p:cNvPicPr/>
          <p:nvPr/>
        </p:nvPicPr>
        <p:blipFill>
          <a:blip r:embed="rId1"/>
          <a:stretch/>
        </p:blipFill>
        <p:spPr>
          <a:xfrm>
            <a:off x="1187280" y="1197000"/>
            <a:ext cx="6913800" cy="47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0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k308</cp:lastModifiedBy>
  <dcterms:modified xsi:type="dcterms:W3CDTF">2022-06-17T08:41:41Z</dcterms:modified>
  <cp:revision>175</cp:revision>
  <dc:subject/>
  <dc:title>Слайд 1</dc:title>
</cp:coreProperties>
</file>