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234-B75D-4E64-AD14-E066AE57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E04-9DC7-4A90-9037-A051E9C7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6AC4-EFFE-41D5-A88D-20354F69E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65E2-2ED9-493E-9540-ADB825818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A7A-4396-4A0A-8384-C130B88B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9C2-18AD-4BC9-8D1B-D691CE25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6C4-82DC-47B9-A10A-D75FF178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05B-CCAF-4E22-8890-000C7700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CD8-0FAE-4357-9987-62C39373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56D-3C0E-4752-BD62-972417E4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088-D037-47ED-AEC7-BF5F6E24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846-453C-4122-B149-16931920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60FA-90D7-411C-90C3-03D86D2E31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силий Макарович Шукш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шукшин7"/>
          <p:cNvPicPr/>
          <p:nvPr/>
        </p:nvPicPr>
        <p:blipFill>
          <a:blip r:embed="rId1"/>
          <a:stretch/>
        </p:blipFill>
        <p:spPr>
          <a:xfrm>
            <a:off x="1908000" y="1474920"/>
            <a:ext cx="518328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195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аллельно с работой в кино довольно успешно складывалась и литературная судьба Шукшина. В 1958 году в журнале "Смена" был опубликован его рассказ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"Двое на телеге"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уже в начале 60-х одно за другим стали выходить в свет литературные произведения Шукшина. В 1963 году в издательстве "Молодая гвардия" вышел первый сборник В. Шукшина под название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"Сельские жител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шукш2"/>
          <p:cNvPicPr/>
          <p:nvPr/>
        </p:nvPicPr>
        <p:blipFill>
          <a:blip r:embed="rId1"/>
          <a:stretch/>
        </p:blipFill>
        <p:spPr>
          <a:xfrm>
            <a:off x="4932360" y="1573200"/>
            <a:ext cx="40622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77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770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0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2" dur="77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6040" y="216000"/>
            <a:ext cx="436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60 году Василий Шукшин окончил ВГИК. После фильма "Два Федора" приглашения сниматься посыпались на него со всех сторон. Буквально за короткий период Шукшин снялся в целом ряде картин: "Золотой эшелон" (1959), "Простая история" (1960), "Когда деревья были большими". Шукшин вскоре написал сценарий своего первого полнометражного фильм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"Живет такой парень"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ина "Живет такой парень" вышла на экраны страны в 1964 году и получила восторженные отклики публ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шукш17"/>
          <p:cNvPicPr/>
          <p:nvPr/>
        </p:nvPicPr>
        <p:blipFill>
          <a:blip r:embed="rId1"/>
          <a:stretch/>
        </p:blipFill>
        <p:spPr>
          <a:xfrm>
            <a:off x="4826160" y="1555920"/>
            <a:ext cx="41050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ый филь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417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ит новая книга его рассказов под названием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"Там вдали..."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66 году на экранах появляется его новый фильм -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аш сын и брат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через год удостаивается Государственной премии РСФСР имени братьев Василье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шукшин3-фото"/>
          <p:cNvPicPr/>
          <p:nvPr/>
        </p:nvPicPr>
        <p:blipFill>
          <a:blip r:embed="rId1"/>
          <a:stretch/>
        </p:blipFill>
        <p:spPr>
          <a:xfrm>
            <a:off x="4643280" y="1125360"/>
            <a:ext cx="35514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ино на рубеже 60-70г.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0840" y="1434960"/>
            <a:ext cx="4186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год после рождения Маши в семье Шукшиных на свет родилась еще одна девочка - Оля. Это радостное известие застало Шукшина в окрестностях Владимира на съемках очередной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ртины - "Странные люд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у ее легли три шукшинских рассказа: "Чудик", "Миль пардон, мадам!" и "Думы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шукшин8-Калина красная"/>
          <p:cNvPicPr/>
          <p:nvPr/>
        </p:nvPicPr>
        <p:blipFill>
          <a:blip r:embed="rId1"/>
          <a:stretch/>
        </p:blipFill>
        <p:spPr>
          <a:xfrm>
            <a:off x="4643280" y="1700280"/>
            <a:ext cx="4146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14360" y="549000"/>
            <a:ext cx="388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м фильмом Шукшина стал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"Печки-лавоч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. В своей заявке Шукшин так излагает содержание сценария этого фильма: "Это опять тема деревни, с "вызовом", так сказать, в горо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шукш18"/>
          <p:cNvPicPr/>
          <p:nvPr/>
        </p:nvPicPr>
        <p:blipFill>
          <a:blip r:embed="rId1"/>
          <a:stretch/>
        </p:blipFill>
        <p:spPr>
          <a:xfrm>
            <a:off x="4457880" y="333360"/>
            <a:ext cx="4227480" cy="6524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шукш1"/>
          <p:cNvPicPr/>
          <p:nvPr/>
        </p:nvPicPr>
        <p:blipFill>
          <a:blip r:embed="rId2"/>
          <a:stretch/>
        </p:blipFill>
        <p:spPr>
          <a:xfrm>
            <a:off x="250920" y="3860640"/>
            <a:ext cx="4211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541440" y="28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лина крас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3384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кшин приступил к съемкам очередной своей картины - "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алина красная"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бота над ней началась весной 1973 года в Вологодской области, под Белозерс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шукшин5-фото"/>
          <p:cNvPicPr/>
          <p:nvPr/>
        </p:nvPicPr>
        <p:blipFill>
          <a:blip r:embed="rId1"/>
          <a:stretch/>
        </p:blipFill>
        <p:spPr>
          <a:xfrm>
            <a:off x="5076720" y="981000"/>
            <a:ext cx="35719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ледний год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ний год жизни Шукшина складывался для него на редкость удачно как в плане творческом, так и личном. В свет выходит новы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борник его рассказов "Характеры"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тут же становится главным событием в прозе и предметом острейших дискусс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шукш3"/>
          <p:cNvPicPr/>
          <p:nvPr/>
        </p:nvPicPr>
        <p:blipFill>
          <a:blip r:embed="rId1"/>
          <a:stretch/>
        </p:blipFill>
        <p:spPr>
          <a:xfrm>
            <a:off x="3992400" y="1600200"/>
            <a:ext cx="49993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03000" y="228240"/>
            <a:ext cx="60548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воих произведениях Шукшин-художник всматривался в человека с надеждой открыть в нём не только движение души к истине, но такие силы и волю к борьбе за себя. Об этом киноповесть "Калина Красная"написана в 1974 г. Сюжет повести прост. Освобождается от тюрьмы вор-рецидивист Егор Прокудин по кличке Горе. Это человек с незаурядным характером. Он едет к Любе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йкаловой, с которой познакомился по письмам. Люба живёт в тех местах, откуда родом сам Егор. 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жая к Любе, Егор встречает доверие, сочувствие, нравственную поддержку, которые попали на благодатную почву и самое главное - вовремя. Но в свою очередь доверие и понимание пробуждает в Егоре глубокое чувство личной вины за то, что когда-то его жизнь потекла по законам ложным, неестественным. И вот Егор вступает в новую жизнь, работает в колхозе, но старые дружки находят его и здесь. А когда они понимают, что Егор не вернётся к прошлой жизни, убивают его. По сценарию повести был снят фильм " Калина Красная" - последний и лучший фильм Шукшина, вышедший за год до его смерти. В главной роли снялся сам Василий Макарович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Documents and Settings\OEM\Desktop\2010-11 (ноя)\сканирование0002.jpg"/>
          <p:cNvPicPr/>
          <p:nvPr/>
        </p:nvPicPr>
        <p:blipFill>
          <a:blip r:embed="rId1"/>
          <a:stretch/>
        </p:blipFill>
        <p:spPr>
          <a:xfrm>
            <a:off x="152280" y="228600"/>
            <a:ext cx="2251080" cy="3344760"/>
          </a:xfrm>
          <a:prstGeom prst="rect">
            <a:avLst/>
          </a:prstGeom>
          <a:ln w="38160">
            <a:solidFill>
              <a:srgbClr val="1919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28560" y="549360"/>
            <a:ext cx="3996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хоронили Шукшина на Новодевичьем кладбище.   Попрощаться с выдающимся писателем, режиссером и актером собралось огромное количество людей. К концу панихиды гроб был весь в ветках калины. Почти каждый, пришедший проститься с Шукшиным, оставлял веточку с красными ягодами, а многие клали в гроб крестики и ико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шукш9"/>
          <p:cNvPicPr/>
          <p:nvPr/>
        </p:nvPicPr>
        <p:blipFill>
          <a:blip r:embed="rId1"/>
          <a:stretch/>
        </p:blipFill>
        <p:spPr>
          <a:xfrm>
            <a:off x="650880" y="3846600"/>
            <a:ext cx="223200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шукш12"/>
          <p:cNvPicPr/>
          <p:nvPr/>
        </p:nvPicPr>
        <p:blipFill>
          <a:blip r:embed="rId2"/>
          <a:stretch/>
        </p:blipFill>
        <p:spPr>
          <a:xfrm>
            <a:off x="5308560" y="260280"/>
            <a:ext cx="383544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9280" y="4309560"/>
            <a:ext cx="8280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63-м он женился на Виктории Софроновой, дочери известного писателя Анатолия Софронова, но их брак не был продолжите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"/>
          <p:cNvPicPr/>
          <p:nvPr/>
        </p:nvPicPr>
        <p:blipFill>
          <a:blip r:embed="rId1"/>
          <a:stretch/>
        </p:blipFill>
        <p:spPr>
          <a:xfrm>
            <a:off x="1727280" y="274680"/>
            <a:ext cx="590544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бы про душу не забыть... Нам бы немножко подобрее быть... Мы один раз, так уж случилось, живём на земле... Но так и будь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нимательнее друг к друг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обре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М. Шукш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40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64-м его супругой стала актриса Лидия Александрова. Они прожили три года, но из-за непостоянства Василия и его пагубной привычки брак распался. У супругов в 1965-м родилась дочь Екате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64 году на съемках фильма «Какое оно, море?» Василий Шукшин познакомился с 26-летней актрисой Лидией Федосее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468360" y="2573280"/>
            <a:ext cx="2590920" cy="385776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"/>
          <p:cNvPicPr/>
          <p:nvPr/>
        </p:nvPicPr>
        <p:blipFill>
          <a:blip r:embed="rId2"/>
          <a:stretch/>
        </p:blipFill>
        <p:spPr>
          <a:xfrm>
            <a:off x="3780000" y="2852640"/>
            <a:ext cx="44575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23840" y="476280"/>
            <a:ext cx="889632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42920" y="5363640"/>
            <a:ext cx="78501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илий Шукшин в картине «Калина красн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женой Лидией Федосеевой-Шукшино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741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ия Васильевна Шукшина – российская актриса и телеведущая, известная зрителям по фильмам «Американская дочь», «Я тебя люблю», «Похороните меня за плинтусом», «Утомленные солнцем-2», «Своя чужая» и др. Вела телепередачу «Жди меня» на Первом канале с 1998 по 2014 год. Заслуженная артистка России (звание присуждено в 2008 году)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Объект 3" descr=""/>
          <p:cNvPicPr/>
          <p:nvPr/>
        </p:nvPicPr>
        <p:blipFill>
          <a:blip r:embed="rId1"/>
          <a:stretch/>
        </p:blipFill>
        <p:spPr>
          <a:xfrm>
            <a:off x="993600" y="333360"/>
            <a:ext cx="732024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апож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3252960" y="1982880"/>
            <a:ext cx="26380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d1aae"/>
                </a:solidFill>
                <a:latin typeface="Arial"/>
                <a:ea typeface="Times New Roman"/>
              </a:rPr>
              <a:t>Заповеди В.М. Шукши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4280" y="5335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е наблюдательные люди- дети. Потом- худож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тическое отношение к себе- вот что делает человека по-настоящему умным. Так же и в искусстве , и в литературе: сознаешь свою долю честно- будет тол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гда нам плохо, мы думаем: «А где-то кому-то хорошо». Когда нам хорошо, мы редко думаем: «Где-то кому-то- плох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ю жизнь свою рассматриваю, как бой в три раунда: молодость, зрелость, старость. Два из этих раунда надо выиграть. Один я уже проигр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бовать писать должны тысячи, чтобы один стал писате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знаю, когда я пишу хорошо: когда пишу и как будто пером вытаскиваю из бумаги живые голоса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тарость сама по себе уважается, а прожитая жизнь. Если она бы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ный человек… Это тот, кто в состоянии сострадать. Это горький, мучительный талан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.07.1929, село Сростки, Алтайский край - 02.10.1974, станица Клетская, Волгоградская обл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й писатель, актер, режисс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служенный деятель искусств РСФСР (1969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Государственной премии СССР (1971, за роль Василия Черныха в фильме "У озера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Государственной премии РСФСР имени братьев Васильевых (1967, за сценарий и режиссуру фильма "Ваш сын и брат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чший актер 1974 года по опросу журнала "Советский экран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уреат Ленинской премии (1976, посмертн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5003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силий Шукшин родился в селе Сростки Бийского района Алтайского края в крестьянской семье. Его родители были уроженцами той же местности и по социальному положению считались крестьянами-единоличниками, или середняк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 в пятнадцать к Василию пришла первая любовь. Это была четырнадцатилетняя девочка из их села Маша Шумская. Как и все деревенские пары, они сидели на лавочке до рассвета, гуляли по берегу, мечтали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шукш11"/>
          <p:cNvPicPr/>
          <p:nvPr/>
        </p:nvPicPr>
        <p:blipFill>
          <a:blip r:embed="rId1"/>
          <a:stretch/>
        </p:blipFill>
        <p:spPr>
          <a:xfrm>
            <a:off x="5008680" y="1341360"/>
            <a:ext cx="38592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лю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5292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шестнадцать лет, окончив семь классов, Шукшин уехал из Сросток: хотел "выйти в люд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 1945 по 1947 годы он учился в Бийском автомобильном техникуме.   Первым местом работы Шукшина стал трест «Союзпроммеханизаци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апреле 1949 года последовала новая смена рабочего места - на этот раз его отправили на строительство электростанции на станцию Щербинка Московско-Курской железной дороги. Там он проработал несколько месяцев, после чего попал на строительство железнодорожного моста на станции Голицын. Именно в Голицыне (в октябре) его и застала повестка из военкомата о призыве на действительную военную служб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шукш19"/>
          <p:cNvPicPr/>
          <p:nvPr/>
        </p:nvPicPr>
        <p:blipFill>
          <a:blip r:embed="rId1"/>
          <a:stretch/>
        </p:blipFill>
        <p:spPr>
          <a:xfrm>
            <a:off x="5168880" y="1197000"/>
            <a:ext cx="3710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звращение в родные пен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19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возвращения в 1953 году в родные Сростки, Василий и Мария сыграли свадьбу. В 1955 году Василий отправился покорять Москву, а Мария поехала в Новосибирск, поступать в пединститу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шукш15"/>
          <p:cNvPicPr/>
          <p:nvPr/>
        </p:nvPicPr>
        <p:blipFill>
          <a:blip r:embed="rId1"/>
          <a:stretch/>
        </p:blipFill>
        <p:spPr>
          <a:xfrm>
            <a:off x="5076720" y="1390680"/>
            <a:ext cx="33339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упление во ВГ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28280"/>
            <a:ext cx="392436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я на сценарный факультет ВГИКа, Шукшин представил на суд экзаменаторов свои рассказы. Ему посоветовали идти на актерский.  Тут от студентов Шукшин узнал, что есть еще и режиссерский факульт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гда он подал на режиссер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шукшин4-фото"/>
          <p:cNvPicPr/>
          <p:nvPr/>
        </p:nvPicPr>
        <p:blipFill>
          <a:blip r:embed="rId1"/>
          <a:stretch/>
        </p:blipFill>
        <p:spPr>
          <a:xfrm>
            <a:off x="4859280" y="1484280"/>
            <a:ext cx="33624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5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тавание с первой же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1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упив во ВГИК, Шукшин поселился в общежитии института на Трифоновской ули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1957 году вскоре в Сростки пришло письмо. Василий писал матери, мол, так и так, полюбил другую женщину, с Марией буду разводиться. Сельский почтальон по ошибке передал письмо Шумским. Тесть, Иван Степанович, поехал в Москву. Поговорил с зятем по душам. Пригрозил, что убьет, если тот не вернется к его дочери. Но у Шукшина уже была другая подруга жизни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рия Ивановна так и осталась жить в селе и работать учительницей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шукшин6-фильмДваФедора"/>
          <p:cNvPicPr/>
          <p:nvPr/>
        </p:nvPicPr>
        <p:blipFill>
          <a:blip r:embed="rId1"/>
          <a:stretch/>
        </p:blipFill>
        <p:spPr>
          <a:xfrm>
            <a:off x="5079960" y="1916280"/>
            <a:ext cx="37782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ервые роли в ки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03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56 году состоялся дебют Шукшина в кино: в фильме С. Герасимова "Тихий Дон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следующего года Шукшин оказался на практике в Одессе и совершенно внезапно получил приглашение от режиссера Марлена Хуциева сыграть главную роль в его фильме "Два Федор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ьм "Два Федора" вышел на экраны страны в 1959 году, и его премьера состоялась в столичном Доме кино на улице Воровского. Премьера оказалась очень успешной, и Шукшина-актера замет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шукшин2-фото"/>
          <p:cNvPicPr/>
          <p:nvPr/>
        </p:nvPicPr>
        <p:blipFill>
          <a:blip r:embed="rId1"/>
          <a:stretch/>
        </p:blipFill>
        <p:spPr>
          <a:xfrm>
            <a:off x="4572000" y="1052640"/>
            <a:ext cx="3859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4:43:41Z</dcterms:created>
  <dc:creator>Клиент</dc:creator>
  <dc:description/>
  <dc:language>en-US</dc:language>
  <cp:lastModifiedBy>Марсель</cp:lastModifiedBy>
  <dcterms:modified xsi:type="dcterms:W3CDTF">2022-04-04T15:12:08Z</dcterms:modified>
  <cp:revision>20</cp:revision>
  <dc:subject/>
  <dc:title>Василий Макарович Шукшин</dc:title>
</cp:coreProperties>
</file>